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12520" y="4559040"/>
            <a:ext cx="5770440" cy="4322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E4CD0458-0663-48BA-9CEB-9347FCD64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6036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12520" y="4559040"/>
            <a:ext cx="5770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wet weather bacterial water quality in Boston Harbor (some samples higher, some lo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data collected by MWRA’s Central Lab and Environmental Quality monitoring program in Boston Harbor and tributary rivers, and from MDC’s beach monitor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ewage indicator bacteria recommended by EPA for monitoring marine wa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ours show the geometric mean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collected when more than 0.2 inches of rain had fallen in the previous 24 hour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areas meet the EPA standard and red-purple areas exceeded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-19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ws data from before the Boston Harbor project and CSO plans began up through the last year that sludge was discharged (199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et weather most of the Inner Harbor, the tributary rivers, failed the standard, some with extremely high 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s affected by discharges of sewage and sludge from the DITP and NITP failed the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6036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12520" y="4559400"/>
            <a:ext cx="5770440" cy="2860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-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ontinued improvement due to closure of 22 CSO outfall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grades of CSO faciliti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 of harbor treatment plant effluent discharges as the new 9.5 mile outfall began operating in September 2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cal efforts to abate stormwater pollu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matic improvements to Harbor have brought back boaters, swimmers, fishermen and proved a boon for tourism and waterfront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EB27-517A-4E87-87F4-0836F914A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58AC-D275-411C-8C87-FC0933690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3750-6A1E-4C86-A0FF-BBF87B8D9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D2A2-0A8A-4103-BA17-161C8F355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6F3D-3438-4A56-B1AB-917ED8797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45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920" y="14475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45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920" y="395496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E8D7-FCF2-4F77-985F-577F6E005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D5CF-097E-473F-9EDB-B0610932F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C978-EFED-422A-A8DE-58C181C09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239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357C-0D69-44F5-930C-5AE0094C0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3AB0-30F0-484A-9414-32D5D9B28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9549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32AF-A9C0-4F10-ACEC-9F75E3EBA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44756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95496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791C-A7BB-42B3-BD72-689DC8370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381520" y="655272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0751-822A-4B3F-9011-4B9A11363487}" type="slidenum">
              <a:rPr b="0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4600" y="29196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47920" y="45720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5516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79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sachusetts Water Resource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alph.wallace@mwra.state.ma.u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8320" y="1571760"/>
            <a:ext cx="7888320" cy="26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electing and Living with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SO Performance Measure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e Wet Weather Partnership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and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National Association of Clean Water Agencies</a:t>
            </a:r>
            <a:br>
              <a:rPr sz="2000"/>
            </a:b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June 2, 2006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15304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lph M. Wall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ssachusetts Water Resources Auth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Quality and Technology Evaluations Led to Outfall Specific Levels of Control – Alewife Broo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4317" t="6768" r="19375" b="74766"/>
          <a:stretch/>
        </p:blipFill>
        <p:spPr>
          <a:xfrm>
            <a:off x="385920" y="2043000"/>
            <a:ext cx="8375400" cy="32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158F-46CB-4E66-8FC3-E3253D52378F}" type="slidenum">
              <a:t>10</a:t>
            </a:fld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nual Performance Monit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8192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pdate model configuration (new system information, completed project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el set-u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id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eadworks flow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SO faciliti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077840" indent="-452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nowmel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alyze rainfall data and compare to typical ye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eck model calibration using permanent and temporary met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pare annual estimates (model predictions or CSO facility data) to LTCP goa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-512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duct follow-up where results differ from expect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1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8493-9D63-41A4-A62F-379166793658}" type="slidenum">
              <a:t>11</a:t>
            </a:fld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draulic Model Accuracy – NPDES Report for 2005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1927080"/>
            <a:ext cx="0" cy="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46280" y="1460520"/>
          <a:ext cx="7747920" cy="4878000"/>
        </p:xfrm>
        <a:graphic>
          <a:graphicData uri="http://schemas.openxmlformats.org/drawingml/2006/table">
            <a:tbl>
              <a:tblPr/>
              <a:tblGrid>
                <a:gridCol w="1044360"/>
                <a:gridCol w="1098000"/>
                <a:gridCol w="944280"/>
                <a:gridCol w="1097280"/>
                <a:gridCol w="944640"/>
                <a:gridCol w="1229400"/>
                <a:gridCol w="1389960"/>
              </a:tblGrid>
              <a:tr h="341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f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flow Me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/o Sedi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/ 18" Sediment in SBI between BOS082 and BOS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ation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 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ation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 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ation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 (M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2F5E-4236-4AFE-ADFE-9BD7375C0F63}" type="slidenum">
              <a:t>12</a:t>
            </a:fld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’s CSO Performance Measures - Dis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80010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tfall specific performance standards limit flexibility and increase monitoring and reporting requirements – consider receiving water based standard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tfall specific performance standards can increase the number of site-specific violation claim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dels are costly to develop and require ongoing maintenance and calibratio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liance with numerical discharge (as opposed to receiving WQ) limits can lead to higher plan cos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9EF8-A2F5-421D-BA38-198D40962C5B}" type="slidenum">
              <a:t>13</a:t>
            </a:fld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’s CSO Performance Measures - 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80010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ng-term federal and state regulatory agreement on levels of control and recommended plan provide assurance of financial impact contro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Quantitative and specific performance measures can limit regulatory and third party interpretation and provide a clear basis for defense from violation claim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ypical year performance limits provide relief from violations for extreme wet weather events when flood control is the priority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ng-term federal and state regulatory agreement on levels of control and recommended plan moves plan implementation and water quality benefits forward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-5072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Job security for wastewater modele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50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5692-68DF-4BF5-9ED2-35429D408F7B}" type="slidenum">
              <a:t>14</a:t>
            </a:fld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O Construction Prog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60400" y="1133640"/>
            <a:ext cx="7535880" cy="54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4C5F-A223-464C-9B1F-AB9FFAF3FC90}" type="slidenum">
              <a:t>15</a:t>
            </a:fld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5960" y="277920"/>
            <a:ext cx="8471160" cy="62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31FA-54E3-40F2-BC53-7FD91617C76D}" type="slidenum">
              <a:t>16</a:t>
            </a:fld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8840" y="430200"/>
            <a:ext cx="6883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age Farm  Annual Discharges Re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3280" y="2725560"/>
            <a:ext cx="388620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13280" y="491976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13280" y="464652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13280" y="437184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13280" y="409716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13280" y="382284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13280" y="354816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13280" y="3273480"/>
            <a:ext cx="38862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3280" y="300024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13280" y="2725560"/>
            <a:ext cx="38862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13280" y="2725560"/>
            <a:ext cx="3886200" cy="2468880"/>
          </a:xfrm>
          <a:prstGeom prst="rect">
            <a:avLst/>
          </a:prstGeom>
          <a:noFill/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05240" y="3073320"/>
            <a:ext cx="389160" cy="2121120"/>
          </a:xfrm>
          <a:prstGeom prst="rect">
            <a:avLst/>
          </a:prstGeom>
          <a:solidFill>
            <a:srgbClr val="993366"/>
          </a:solidFill>
          <a:ln w="6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5440" y="5033880"/>
            <a:ext cx="390600" cy="160560"/>
          </a:xfrm>
          <a:prstGeom prst="rect">
            <a:avLst/>
          </a:prstGeom>
          <a:solidFill>
            <a:srgbClr val="993366"/>
          </a:solidFill>
          <a:ln w="6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48520" y="5160960"/>
            <a:ext cx="388800" cy="33480"/>
          </a:xfrm>
          <a:prstGeom prst="rect">
            <a:avLst/>
          </a:prstGeom>
          <a:solidFill>
            <a:srgbClr val="993366"/>
          </a:solidFill>
          <a:ln w="64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20160" y="5184720"/>
            <a:ext cx="388800" cy="9720"/>
          </a:xfrm>
          <a:prstGeom prst="rect">
            <a:avLst/>
          </a:prstGeom>
          <a:solidFill>
            <a:srgbClr val="6666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13280" y="2725560"/>
            <a:ext cx="1800" cy="246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86280" y="51944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6280" y="49197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464652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86280" y="437184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6280" y="409716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86280" y="38228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6280" y="35481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86280" y="32734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86280" y="300024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6280" y="272556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13280" y="5194440"/>
            <a:ext cx="388620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13280" y="51944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884920" y="51944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56560" y="519444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827840" y="51944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799480" y="519444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93800" y="29178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5080" y="487836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7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65880" y="500688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4975200"/>
            <a:ext cx="19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15720" y="5143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18160" y="486900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8160" y="459432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18160" y="431964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8160" y="4046400"/>
            <a:ext cx="146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4360" y="377208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4360" y="349740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2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4360" y="322272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4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4360" y="294948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6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4360" y="267480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,8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39360" y="5261040"/>
            <a:ext cx="55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88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63120" y="5261040"/>
            <a:ext cx="64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isting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3520" y="5261040"/>
            <a:ext cx="694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mmended P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720" y="5354640"/>
            <a:ext cx="51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January 2004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1440" y="5261040"/>
            <a:ext cx="817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vised Recommend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9880" y="5354640"/>
            <a:ext cx="584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n (June 2005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2712960"/>
            <a:ext cx="40100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640" y="493380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640" y="468792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640" y="444168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640" y="419400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5640" y="394668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640" y="370044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5640" y="345456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5640" y="3206880"/>
            <a:ext cx="4010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640" y="296064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640" y="2712960"/>
            <a:ext cx="4010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360" y="2722680"/>
            <a:ext cx="4010040" cy="246852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880" y="2960640"/>
            <a:ext cx="401400" cy="222084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9200" y="3206880"/>
            <a:ext cx="399960" cy="197460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90720" y="4441680"/>
            <a:ext cx="401760" cy="73980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94040" y="4933800"/>
            <a:ext cx="399960" cy="247680"/>
          </a:xfrm>
          <a:prstGeom prst="rect">
            <a:avLst/>
          </a:prstGeom>
          <a:solidFill>
            <a:srgbClr val="3333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5640" y="2712960"/>
            <a:ext cx="1800" cy="246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" y="518148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640" y="493380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" y="468792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444168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640" y="419400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8640" y="39466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8640" y="37004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8640" y="345456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8640" y="32068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640" y="296064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" y="2712960"/>
            <a:ext cx="2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5640" y="5181480"/>
            <a:ext cx="4010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5640" y="5181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87520" y="51814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90840" y="518148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92360" y="5181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95680" y="5181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52200" y="2805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53720" y="3051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5840" y="4286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7720" y="4780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080" y="51307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080" y="48830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080" y="46371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080" y="43894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080" y="4143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8760" y="38955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8760" y="36496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8760" y="34020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8760" y="3156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8760" y="29098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8760" y="2662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7920" y="5248440"/>
            <a:ext cx="55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988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1560" y="5248440"/>
            <a:ext cx="64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isting Condi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2200" y="5248440"/>
            <a:ext cx="694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mmended P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1840" y="5342040"/>
            <a:ext cx="51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January 2004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5248440"/>
            <a:ext cx="817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vised Recommend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20240" y="5342040"/>
            <a:ext cx="584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lan (June 2005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66840" y="1762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cti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5480" y="15685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Volum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illion gall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5B68-80A0-4CAF-9D09-9EE1EAE616AA}" type="slidenum">
              <a:t>17</a:t>
            </a:fld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 Harbor Aver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ococc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nts in Wet Weather 1987-199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523880"/>
            <a:ext cx="381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1371600"/>
            <a:ext cx="54864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019920" cy="51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8B81-9DA2-4EA4-BEEA-8042800309C8}" type="slidenum">
              <a:t>18</a:t>
            </a:fld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 Harbor Aver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ococc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nts in Wet Weather 1999-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523880"/>
            <a:ext cx="381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82880" y="1322280"/>
            <a:ext cx="5484600" cy="5078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989680" y="1398600"/>
            <a:ext cx="117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-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1D68-3913-401B-B5F8-C04A69AC1A54}" type="slidenum">
              <a:t>19</a:t>
            </a:fld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 Sewer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03440" y="1407960"/>
            <a:ext cx="5297760" cy="4543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5400" y="1296720"/>
            <a:ext cx="309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holesale provider of water and sewer servi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.5 million serv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er Island Treatment Plant - 1,270 mgd capaci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43 sewer system comm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4 communities have CSOs -  Boston, Cambridge, Chelsea and Somervil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F9FC-D4AB-4910-8E28-D89F2DB5901B}" type="slidenum">
              <a:t>2</a:t>
            </a:fld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rther Inform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act Ralph Wall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elephone - (617) 788-4917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-mail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alph.wallace@mwra.state.ma.u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www.MWRA.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s – “MWRA Reaches Landmark Agreement Over Long-Term CSO Control Plan”  3/16/06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ports – Annual CSO Control Plan Progress Re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924F-0982-4DEF-94B9-F4F960AD2A84}" type="slidenum">
              <a:t>20</a:t>
            </a:fld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WRA CSO Program – Key 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987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WRA assumed responsibility for developing and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lementing a regional long-term CSO control pla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994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ceptual Plan formed basis for Federal Court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997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acilities Plan/EIR established long-term level of control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most receiving waters with variances issued for th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30104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harles River, Alewife Brook and Upper Mystic Rive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006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urt Order revisions established long-term plan and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vel of control for all receiving waters through 2020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ire three-year performance assess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252F-D462-4E18-B7F0-AB69AFE25446}" type="slidenum">
              <a:t>3</a:t>
            </a:fld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93840"/>
            <a:ext cx="66391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of MWRA’s Long-Term Contro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719360"/>
            <a:ext cx="82166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95% capture to secondary treat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iminate CSO discharges to sensitive use areas (maintain Class B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ose 36 of 84 outfall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e CSO discharges to meet Bcso standard (&gt;95% compliance with Class B) in less sensitive area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eat CSO discharges where significant contrib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e annual overflow volume from 3.3 BG in 1988 to 0.5 BG with 94% of remaining overflow receiving fine screening, disinfection and dechlor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buClr>
                <a:srgbClr val="000099"/>
              </a:buClr>
              <a:buSzPct val="12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ol floatables in all remaining discharg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EF42-C915-427F-A381-CCCF68D3E52F}" type="slidenum">
              <a:t>4</a:t>
            </a:fld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O Performance Measures - Developed from B</a:t>
            </a:r>
            <a:r>
              <a:rPr b="1" lang="en-US" sz="2000" spc="-1" strike="noStrike" baseline="-10000">
                <a:solidFill>
                  <a:srgbClr val="ffffff"/>
                </a:solidFill>
                <a:latin typeface="Arial"/>
              </a:rPr>
              <a:t>cs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ater Quality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ly with national use standards at least 95% of tim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proved facilities plan justifies level of control &gt;95% compliance as most environmentally protective and cost-effectiv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AA based on facilities plan finds that higher level of CSO control is not feasible or appropriat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lnSpc>
                <a:spcPct val="95000"/>
              </a:lnSpc>
              <a:spcBef>
                <a:spcPts val="2001"/>
              </a:spcBef>
              <a:buClr>
                <a:srgbClr val="000099"/>
              </a:buClr>
              <a:buSzPct val="1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isting uses and the water quality to protect these uses are maint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0640" y="4514760"/>
            <a:ext cx="14040" cy="757440"/>
          </a:xfrm>
          <a:prstGeom prst="line">
            <a:avLst/>
          </a:prstGeom>
          <a:ln w="104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7400" y="5429160"/>
            <a:ext cx="65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rformance Standards Driven by Water Quality and Use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F948-74C0-4CE8-AA1F-88D20D2376E7}" type="slidenum">
              <a:t>5</a:t>
            </a:fld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CSO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4880"/>
            <a:ext cx="80010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llection system hydraulic modeling to predict CSO discharge performa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nual simulations using a typical rainfall year (based on 40 years of rainfall records, and approved by EPA and Mass. DE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eiving water quality modeling to predict cumulative annual duration of exceedan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6CA8-7733-412B-AE88-69C8D74DACA9}" type="slidenum">
              <a:t>6</a:t>
            </a:fld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CSO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523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del predicted performance of recommended plan at each outfall drove numerical goa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ation frequen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tal annual discharge volu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% compliance with National Use Standards in receiving water seg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erformance goals drove NPDES permit limi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tivation frequency at every outfal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tal annual discharge volume at every outfal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SO treatment facility discharges must additionally meet water quality limits at all tim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2E24-77EE-4C83-A5A9-96C9C3147B79}" type="slidenum">
              <a:t>7</a:t>
            </a:fld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ing and Tracking CSO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4880"/>
            <a:ext cx="80010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PDES annual CSO discharge estimating and repor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ll outfalls and all storms in previous yea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deling supported/verified with limited monitor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# of activations, discharge volume and du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arison to expected current condi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89000" indent="-4572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arison to CSO control goals, accounting for actual rainfall and status of LTCP implemen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17680" indent="-517680">
              <a:spcBef>
                <a:spcPts val="499"/>
              </a:spcBef>
              <a:buClr>
                <a:srgbClr val="000099"/>
              </a:buClr>
              <a:buFont typeface="Arial"/>
              <a:buChar char="●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urt-ordered three-year performance assessment at end of LTCP implemen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8B98-B70D-4FCB-AE3C-E59A8AB68C9B}" type="slidenum">
              <a:t>8</a:t>
            </a:fld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ed InfoWorks Hydraulic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31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 100 Miles of Community Sewe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30 Miles of MWRA Intercep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Pump Sta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Headwork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81 Regulato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38 Tidegat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800 Connect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00 Drainage Subarea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00 Condui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000 Nod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63880" y="1542960"/>
            <a:ext cx="4843440" cy="462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794B-A8BC-46BA-8A7B-A9507DE7557B}" type="slidenum">
              <a:t>9</a:t>
            </a:fld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55:34Z</dcterms:created>
  <dc:creator>MWRA</dc:creator>
  <dc:description/>
  <dc:language>en-US</dc:language>
  <cp:lastModifiedBy>mmorel</cp:lastModifiedBy>
  <cp:lastPrinted>2004-06-11T14:07:26Z</cp:lastPrinted>
  <dcterms:modified xsi:type="dcterms:W3CDTF">2006-05-26T17:40:37Z</dcterms:modified>
  <cp:revision>463</cp:revision>
  <dc:subject/>
  <dc:title>MWRA CSO PROGRAM: Progress and Challenges</dc:title>
</cp:coreProperties>
</file>