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12520" y="4559040"/>
            <a:ext cx="5770440" cy="432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58B4C17F-6FF5-46DD-B231-8A381974D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6036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12520" y="4559040"/>
            <a:ext cx="5770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wet weather bacterial water quality in Boston Harbor (some samples higher, some lo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data collected by MWRA’s Central Lab and Environmental Quality monitoring program in Boston Harbor and tributary rivers, and from MDC’s beach monitor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wage indicator bacteria recommended by EPA for monitoring marine wa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s show the geometric mean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collected when more than 0.2 inches of rain had fallen in the previous 24 hour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areas meet the EPA standard and red-purple areas exceeded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-1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ws data from before the Boston Harbor project and CSO plans began up through the last year that sludge was discharged (199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et weather most of the Inner Harbor, the tributary rivers, failed the standard, some with extremely high 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s affected by discharges of sewage and sludge from the DITP and NITP failed the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6036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12520" y="4559400"/>
            <a:ext cx="5770440" cy="2860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-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ontinued improvement due to closure of 22 CSO outfal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grades of CSO faciliti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 of harbor treatment plant effluent discharges as the new 9.5 mile outfall began operating in Septemb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cal efforts to abate stormwater pollu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matic improvements to Harbor have brought back boaters, swimmers, fishermen and proved a boon for tourism and waterfront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E710-A39E-4592-9D24-2E411D78A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9C6F-1C8E-4301-86E1-EF3D5E183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D5FB-AC83-4023-BA28-E73BBEB83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46D7-6DCF-489B-9AEF-EF1E4786A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DB1-DD93-497B-912E-9276AF06F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A2F4-8E7C-4DA2-8C1D-3048147A1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2FCA-0277-42FE-ADDF-7E7B311EB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CF8B-5335-4EEE-8F84-5EBAEDA3D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A348-7309-46DF-9E2A-5B63D67B9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998E-7DCB-4A8A-BF49-D387837E5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7854-1882-49DC-90A4-147ED5AC0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53AA-27CF-4D2C-8601-8EB86B2D9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381520" y="655272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095-3D3E-4392-9E14-96A8D523F9EE}" type="slidenum">
              <a:rPr b="0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45720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achusetts Water Resource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alph.wallace@mwra.state.ma.u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8320" y="1571760"/>
            <a:ext cx="7888320" cy="26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lecting and Living with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SO Performance Measure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Wet Weather Partnership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and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National Association of Clean Water Agencies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June 2, 2006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15304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lph M. Wall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ssachusetts Water Resources Auth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lity and Technology Evaluations Led to Outfall Specific Levels of Control – Alewife Broo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4317" t="6768" r="19375" b="74766"/>
          <a:stretch/>
        </p:blipFill>
        <p:spPr>
          <a:xfrm>
            <a:off x="385920" y="2043000"/>
            <a:ext cx="8375400" cy="32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B570-DA2A-4974-A8C2-8098AEE230EB}" type="slidenum">
              <a:t>10</a:t>
            </a:fld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ual Performance Monit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8192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pdate model configuration (new system information, completed project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el set-u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id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eadworks flow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SO facilit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nowmel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alyze rainfall data and compare to typical ye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eck model calibration using permanent and temporary met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are annual estimates (model predictions or CSO facility data) to LTCP goa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duct follow-up where results differ from expect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8A94-AE66-48ED-BC92-45A12AA9EFBE}" type="slidenum">
              <a:t>11</a:t>
            </a:fld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draulic Model Accuracy – NPDES Report for 2005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1927080"/>
            <a:ext cx="0" cy="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6280" y="1460520"/>
          <a:ext cx="7747920" cy="4878000"/>
        </p:xfrm>
        <a:graphic>
          <a:graphicData uri="http://schemas.openxmlformats.org/drawingml/2006/table">
            <a:tbl>
              <a:tblPr/>
              <a:tblGrid>
                <a:gridCol w="1044360"/>
                <a:gridCol w="1098000"/>
                <a:gridCol w="944280"/>
                <a:gridCol w="1097280"/>
                <a:gridCol w="944640"/>
                <a:gridCol w="1229400"/>
                <a:gridCol w="1389960"/>
              </a:tblGrid>
              <a:tr h="341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f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flow Me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/o Sedi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/ 18" Sediment in SBI between BOS082 and BOS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221B-6BC5-4007-B313-7F7E10005638}" type="slidenum">
              <a:t>12</a:t>
            </a:fld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’s CSO Performance Measures - 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80010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tfall specific performance standards limit flexibility and increase monitoring and reporting requirements – consider receiving water based standard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tfall specific performance standards can increase the number of site-specific violation claim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s are costly to develop and require ongoing maintenance and calibratio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liance with numerical discharge (as opposed to receiving WQ) limits can lead to higher plan cos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AC0-0354-4B1B-B03F-8CE6DE5A9AE6}" type="slidenum">
              <a:t>13</a:t>
            </a:fld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’s CSO Performance Measures - 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80010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ng-term federal and state regulatory agreement on levels of control and recommended plan provide assurance of financial impact contro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Quantitative and specific performance measures can limit regulatory and third party interpretation and provide a clear basis for defense from violation claim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ypical year performance limits provide relief from violations for extreme wet weather events when flood control is the priority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ng-term federal and state regulatory agreement on levels of control and recommended plan moves plan implementation and water quality benefits forward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ob security for wastewater modele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76E5-81BE-4FDC-911E-09F5EF7054A6}" type="slidenum">
              <a:t>14</a:t>
            </a:fld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 Construction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60400" y="1133640"/>
            <a:ext cx="7535880" cy="54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858C-98A7-4FF0-8698-3381298681D0}" type="slidenum">
              <a:t>15</a:t>
            </a:fld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5960" y="277920"/>
            <a:ext cx="8471160" cy="62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820C-D6A8-453F-80A2-E60630AF2C8F}" type="slidenum">
              <a:t>16</a:t>
            </a:fld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8840" y="430200"/>
            <a:ext cx="6883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age Farm  Annual Discharges Re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3280" y="2725560"/>
            <a:ext cx="388620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13280" y="491976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13280" y="464652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13280" y="437184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13280" y="409716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13280" y="382284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13280" y="354816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13280" y="327348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3280" y="300024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13280" y="272556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13280" y="2725560"/>
            <a:ext cx="3886200" cy="2468880"/>
          </a:xfrm>
          <a:prstGeom prst="rect">
            <a:avLst/>
          </a:prstGeom>
          <a:noFill/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05240" y="3073320"/>
            <a:ext cx="389160" cy="212112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5440" y="5033880"/>
            <a:ext cx="390600" cy="16056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48520" y="5160960"/>
            <a:ext cx="388800" cy="3348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0160" y="5184720"/>
            <a:ext cx="388800" cy="9720"/>
          </a:xfrm>
          <a:prstGeom prst="rect">
            <a:avLst/>
          </a:prstGeom>
          <a:solidFill>
            <a:srgbClr val="6666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13280" y="2725560"/>
            <a:ext cx="1800" cy="246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86280" y="51944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6280" y="49197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464652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86280" y="43718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6280" y="40971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86280" y="38228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6280" y="35481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86280" y="32734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6280" y="30002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6280" y="27255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13280" y="5194440"/>
            <a:ext cx="388620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1328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84920" y="51944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6560" y="51944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82784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79948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93800" y="291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5080" y="487836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7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65880" y="500688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4975200"/>
            <a:ext cx="19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5720" y="5143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8160" y="486900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8160" y="45943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18160" y="431964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8160" y="404640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4360" y="37720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4360" y="34974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4360" y="322272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4360" y="29494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6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4360" y="26748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8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39360" y="5261040"/>
            <a:ext cx="55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88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63120" y="5261040"/>
            <a:ext cx="64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3520" y="5261040"/>
            <a:ext cx="694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mmended P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720" y="5354640"/>
            <a:ext cx="51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January 200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1440" y="5261040"/>
            <a:ext cx="817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vised Recommend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9880" y="5354640"/>
            <a:ext cx="584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n (June 2005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2712960"/>
            <a:ext cx="40100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640" y="493380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640" y="468792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640" y="444168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640" y="419400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5640" y="394668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640" y="370044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640" y="345456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5640" y="320688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640" y="296064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640" y="271296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360" y="2722680"/>
            <a:ext cx="4010040" cy="246852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880" y="2960640"/>
            <a:ext cx="401400" cy="222084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9200" y="3206880"/>
            <a:ext cx="399960" cy="197460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0720" y="4441680"/>
            <a:ext cx="401760" cy="73980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94040" y="4933800"/>
            <a:ext cx="399960" cy="24768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5640" y="2712960"/>
            <a:ext cx="1800" cy="246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" y="518148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640" y="49338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" y="468792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44168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640" y="41940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8640" y="39466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8640" y="37004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640" y="34545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8640" y="32068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640" y="29606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" y="27129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5640" y="5181480"/>
            <a:ext cx="4010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564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87520" y="51814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90840" y="51814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9236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9568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52200" y="2805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53720" y="3051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5840" y="428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7720" y="4780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080" y="51307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080" y="4883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080" y="4637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080" y="4389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080" y="4143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8760" y="3895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8760" y="36496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8760" y="34020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760" y="3156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8760" y="29098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8760" y="2662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7920" y="5248440"/>
            <a:ext cx="55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88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1560" y="5248440"/>
            <a:ext cx="64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2200" y="5248440"/>
            <a:ext cx="694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mmended P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1840" y="5342040"/>
            <a:ext cx="51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January 200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5248440"/>
            <a:ext cx="817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vised Recommend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20240" y="5342040"/>
            <a:ext cx="584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n (June 2005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66840" y="1762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cti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5480" y="15685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Volu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llion gall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4F60-E1DC-4F3C-9A5C-128174B63866}" type="slidenum">
              <a:t>17</a:t>
            </a:fld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 Harbor Aver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ococc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nts in Wet Weather 1987-199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523880"/>
            <a:ext cx="381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1371600"/>
            <a:ext cx="54864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019920" cy="51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095D-D435-4AF8-AC83-4CCA8807E5B4}" type="slidenum">
              <a:t>18</a:t>
            </a:fld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 Harbor Aver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ococc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nts in Wet Weather 1999-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523880"/>
            <a:ext cx="381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82880" y="1322280"/>
            <a:ext cx="5484600" cy="5078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989680" y="1398600"/>
            <a:ext cx="117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0BF0-D181-4D5A-8700-FEDDD5AEBAD8}" type="slidenum">
              <a:t>19</a:t>
            </a:fld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 Sewer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03440" y="1407960"/>
            <a:ext cx="5297760" cy="454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400" y="1296720"/>
            <a:ext cx="309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olesale provider of water and sewer servi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.5 million serv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er Island Treatment Plant - 1,270 mgd capaci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3 sewer system comm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 communities have CSOs -  Boston, Cambridge, Chelsea and Somervil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D19D-9C74-4614-BBAC-AA66BACCB211}" type="slidenum">
              <a:t>2</a:t>
            </a:fld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act Ralph Wal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elephone - (617) 788-4917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-mai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alph.wallace@mwra.state.ma.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www.MWRA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s – “MWRA Reaches Landmark Agreement Over Long-Term CSO Control Plan”  3/16/0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ports – Annual CSO Control Plan Progress Re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A99-E74C-4B70-96CA-99A728D5F969}" type="slidenum">
              <a:t>20</a:t>
            </a:fld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 CSO Program – Key 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87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WRA assumed responsibility for developing and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lementing a regional long-term CSO control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94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ceptual Plan formed basis for Federal Court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97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cilities Plan/EIR established long-term level of control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most receiving waters with variances issued for th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30104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rles River, Alewife Brook and Upper Mystic Rive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urt Order revisions established long-term plan and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vel of control for all receiving waters through 2020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ire three-year performance assess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2A35-4697-4A43-B731-AB76F4E16E36}" type="slidenum">
              <a:t>3</a:t>
            </a:fld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93840"/>
            <a:ext cx="66391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of MWRA’s Long-Term Contro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719360"/>
            <a:ext cx="82166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95% capture to secondary treat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iminate CSO discharges to sensitive use areas (maintain Class B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ose 36 of 84 outfall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e CSO discharges to meet Bcso standard (&gt;95% compliance with Class B) in less sensitive area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eat CSO discharges where significant contrib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e annual overflow volume from 3.3 BG in 1988 to 0.5 BG with 94% of remaining overflow receiving fine screening, disinfection and dechlor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ol floatables in all remaining discharg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A867-1CA0-4528-9991-BA866C24CAFF}" type="slidenum">
              <a:t>4</a:t>
            </a:fld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 Performance Measures - Developed from B</a:t>
            </a:r>
            <a:r>
              <a:rPr b="1" lang="en-US" sz="2000" spc="-1" strike="noStrike" baseline="-10000">
                <a:solidFill>
                  <a:srgbClr val="ffffff"/>
                </a:solidFill>
                <a:latin typeface="Arial"/>
              </a:rPr>
              <a:t>c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ater Quality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ly with national use standards at least 95% of tim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proved facilities plan justifies level of control &gt;95% compliance as most environmentally protective and cost-effectiv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AA based on facilities plan finds that higher level of CSO control is not feasible or appropriat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sting uses and the water quality to protect these uses are maint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0640" y="4514760"/>
            <a:ext cx="14040" cy="757440"/>
          </a:xfrm>
          <a:prstGeom prst="line">
            <a:avLst/>
          </a:prstGeom>
          <a:ln w="104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7400" y="5429160"/>
            <a:ext cx="65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rformance Standards Driven by Water Quality and Use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7426-BC65-4EFF-9C97-99CF5894EEDD}" type="slidenum">
              <a:t>5</a:t>
            </a:fld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4880"/>
            <a:ext cx="80010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llection system hydraulic modeling to predict CSO discharge performa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nual simulations using a typical rainfall year (based on 40 years of rainfall records, and approved by EPA and Mass. DE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eiving water quality modeling to predict cumulative annual duration of exceeda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EA1B-F121-4FF1-9CFD-87CE88D57D44}" type="slidenum">
              <a:t>6</a:t>
            </a:fld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523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 predicted performance of recommended plan at each outfall drove numerical goa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ation frequen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tal annual discharge volu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% compliance with National Use Standards in receiving water seg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formance goals drove NPDES permit limi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ation frequency at every outfa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tal annual discharge volume at every outfa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SO treatment facility discharges must additionally meet water quality limits at all tim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7781-E6F5-45AD-B0C2-3456C82D3485}" type="slidenum">
              <a:t>7</a:t>
            </a:fld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and Track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4880"/>
            <a:ext cx="80010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PDES annual CSO discharge estimating and repor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outfalls and all storms in previous yea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ing supported/verified with limited monitor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# of activations, discharge volume and du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arison to expected current condi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arison to CSO control goals, accounting for actual rainfall and status of LTCP implemen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urt-ordered three-year performance assessment at end of LTCP implemen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6D72-F8C2-4D0F-994C-0A73EC6FAE2F}" type="slidenum">
              <a:t>8</a:t>
            </a:fld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InfoWorks Hydraulic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31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 100 Miles of Community Sew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30 Miles of MWRA Intercep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Pump St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Headwork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81 Regula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38 Tidega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800 Conne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00 Drainage Subar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00 Condui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00 Nod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63880" y="1542960"/>
            <a:ext cx="4843440" cy="46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928D-C792-42AE-99DB-9498A3909F43}" type="slidenum">
              <a:t>9</a:t>
            </a:fld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55:34Z</dcterms:created>
  <dc:creator>MWRA</dc:creator>
  <dc:description/>
  <dc:language>en-US</dc:language>
  <cp:lastModifiedBy>mmorel</cp:lastModifiedBy>
  <cp:lastPrinted>2004-06-11T14:07:26Z</cp:lastPrinted>
  <dcterms:modified xsi:type="dcterms:W3CDTF">2006-05-26T17:40:37Z</dcterms:modified>
  <cp:revision>463</cp:revision>
  <dc:subject/>
  <dc:title>MWRA CSO PROGRAM: Progress and Challenges</dc:title>
</cp:coreProperties>
</file>