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19534-32EE-4A3B-AB1A-6219D66CA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50AC3-96B2-4B4B-B271-2E6D76169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CA23F-4DB2-4338-8883-69566D56D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73A4B-4E7F-4A61-97F5-BCB099EF3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D51B5-8B96-4694-9D35-27A60B6A3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A0C05-D330-4663-BC9C-326E2EEEC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307A5-21A1-4496-AC17-ADFDD36D1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0B3F-12AF-4B3A-8CF5-62946C7C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A443-40BD-4FA2-824E-E0B8E78C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3583-9477-42A9-92A3-C49521A1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1D04-98A6-4C2D-8327-20E53C51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F420-F4AB-43F8-80BD-A20DD1F4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28E-C5A6-4A26-B9D4-6D9CDD7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14C1-C1D3-4193-ADA8-9BC089E4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D78D-B644-40F5-84D5-07483F9B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29F4-F529-4DF8-8CB5-D911D53D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6F76-D996-4F39-967A-C944F48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774-7F9F-4982-90D5-EC64473A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74AC-6ADF-464B-9193-3ECE02E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E54-D954-490E-B028-229F227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F338-BB78-457B-B00B-801F735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ABA-3B12-4103-AFAE-AC3DC7F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A52C-A84F-4D6E-87E0-F7D8D808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9A90-A98C-46D5-844F-DD3A7C9C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0373-EC47-44F9-BEC3-C012A874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BFAE-3755-41A5-96FA-733B406E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3F6C-3F0A-4006-887D-4FA884B0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2112-B5ED-4BA3-9BEB-67993B93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B2FF-9856-4E68-A28C-79DFF6C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C5F2-7B3D-451B-9C0B-61E049C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057E-1FFC-42DE-8523-6AC7DC6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9CCC-723E-4B0D-9015-B572784FD7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83DD-1EFB-4B98-8028-20E7700FD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Negotiating an  “Implementation”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Consent Decree</a:t>
            </a:r>
            <a:endParaRPr b="1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semary G. Spa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&amp; Wet Weather Partnership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32600" y="5022720"/>
            <a:ext cx="194328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4367" t="7709" r="13059" b="6669"/>
          <a:stretch/>
        </p:blipFill>
        <p:spPr>
          <a:xfrm>
            <a:off x="165240" y="4095720"/>
            <a:ext cx="13874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did not feel a federal decree was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was ahead of all permi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wanted decree because schedule would be greater than five year term of City’s per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: implementation dec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Underlying Principles of an Implementation Consent Decree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adversa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pun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owly focused in scope to achieve EPA stated goal of providing enforceable mechanism for approved LTCP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t with permitting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Underlying Principl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LTCP approval separate from CD 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 should simply require implementation of the approved and attached LTC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CP Negotiation In Ern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ter Quality Standards Revis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ty’s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sure compliance with water quality standards after implementation of the LTCP and 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 Indiana’s Statutory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l of 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determine the appropriate level of contr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describe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determine whether you have achieved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hedu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rong way:  How fast can you spend the program cost on pap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the sole basis for EPA’s scheduling gu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chedule Considerations – The Right Way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located within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coordinate with other major community development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s/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town re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/cultural initi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The Right Schedul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ility of materials, suppliers, trucks, contractors &amp; trained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ility of quality consultants &amp; engineers to manage &amp; inspect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inflationary impacts on project costs due to low supply &amp; high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al ability to bring capital “on-li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communicate &amp; listen to the public before and during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The Right Schedul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pposition to specific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way permitting (corps and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impacts to neighborhoods and busi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ment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 (concrete &amp; steel)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ying Principles of Implementati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Negotiation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TCP Modification 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y:  broad modific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vigation is not a one tim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ecides what the LTCP says about the opportunity to reevalu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depend directly on whether your community faces a consent decree or not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nt decree =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modification without EPA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dispute over whether a modification is warranted is NOT allowed to be heard by the ju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relief through Federal Rule 60(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tially, the problem has to be so unexpected or extreme that you seek and are granted relief from the contract you sig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aordinarily rare, especially for issues that were expressly contemplated/negotiated by the parties (such as schedule, level of control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SO commun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greement over modification subject to Dispute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Burden of 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ling that separate procedures for unexpected occurrences regarding key issues (level of control; schedule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TCP Approv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you expec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wh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hould you ge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Lessons Learned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so far)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track record should be relentlessly asserted but often is not given appropriate w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ust educate EPA (including EPA’s technical experts) about key aspects of your system, your circumstances and your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hould define parameters and reach agreement on key components of a consent decree before beginning (or at least getting too far into) negoti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ing approved major LTCP and decree will take substantial time an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Lesson Learne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otiate who will lea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TCP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nt dec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State plaintiff in Louisville and EPA citizen-interv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PA, which program (OW or OE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 don’t let LTCP approval get tied up in decree negot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Lessons Learne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ing LTCP approvals as part of consent decree negotiations c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 your regulatory options (State and fed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lude future reevaulation of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’s view and EPA’s view are very different regarding what an “implementation” consent decree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decision-making regarding LTCP approvals should come from States and EPA-OW/States and not as negotiated consent decree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Introduct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City of Indianapolis’ Experien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ing to obtain approval of CSO Long-Term Contro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ing an “implementation” consent dec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Introduct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Recent “Implementation” Consent Dec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C. Water and Sewer Auth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SC/Baltimore County, Mary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rn Kentucky Sanitary District No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polis’ Water Quality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dvanced Wastewater Treatment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pa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nitary Sew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mpasses ≈ 222 square m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≈  185 miles of interceptor s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one time included 16 constructed SSO relief points -- all but 3 eliminated and those are scheduled to be eliminated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bi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w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mpasses ≈ 56 square m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≈  66 miles of interceptor s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133 outfalls discharging into the White River and 4 of its tribut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with CSO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199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an conducting studies and CSS mo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-1990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NMC program to IDEM in 1995 (approved by IDEM in 1997) and began implementing NMCs, including several pilot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both hydraulic and water quality models that were cited by EPA in its guidance document on mo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R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with CSO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shed “Improving Our Streams in the City of Indianapolis: A Report on Options for Controlling Combined Sewer Overflow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ed public education and input meetings and formed an advisory committee to ensure public participation in the development of a L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proposed LTCP to IDEM and EPA for appro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ly leading NMC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ally public outreach a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CSO/SSO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s of millions in “early action pro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fact sheets for 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cy invitation to negotiate a federal consent decree to address “CSO issu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mmorel</cp:lastModifiedBy>
  <dcterms:modified xsi:type="dcterms:W3CDTF">2006-05-31T11:32:28Z</dcterms:modified>
  <cp:revision>32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