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6987-E0B9-4ED9-B45C-29498006BE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ACC2C-1C9D-452C-B534-5C47774B0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FCD64-BA5F-420B-8D4D-B6B7EC369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B0DAD-25DC-4836-97FF-FB76E4FF9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1627B-5C7D-447B-94FF-9F205676C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FC5B4-BC51-4E9E-BCE0-7EFD2C4DA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28181-E9F4-4DDA-94F7-0CBAF70F1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E9E7-0317-4B81-B120-51514F56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EB68-A864-466D-BEF4-E0990A40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C0E0-F423-4F07-84FF-7FD96AC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62D6-A37E-48E9-BF77-BD93A05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D64-89A4-48F1-9CBF-3F7B36FC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811-9C45-49B2-A80C-8BBCD2B3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AB0-047B-4AEA-92FB-92CD8B4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E3D-0557-49F9-97C3-32C4D62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6DB7-C4C7-4609-849B-CF4C14E1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16EB-EAD0-49B8-B3A9-BE13520A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CB6-77B4-4A97-A60E-6DB2DD6F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A834-969E-4152-807F-5629D6DE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79E2-3B22-4F64-A678-28784AB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B95-4D76-4991-9EAB-16741AAF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8AB-9036-4D7F-AACA-BE4223CB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713-9BF7-45B6-A01D-706FC2BA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B19A-59D8-4095-B6C9-40AB7C1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1BD4-E735-4F27-ABBF-4E97EE0C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DE8C-6C6D-4E73-94BE-24B71B4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F110-D2E3-45F6-9967-95578AA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F15A-4AE7-49A5-9CAD-29298493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10C4-79F7-4CBD-B5BC-D3E50B8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FB9C-197A-4626-84C9-60C03272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5F6C-28D8-4630-AA22-CB0E6E1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B9E-4FB2-4AD9-87C6-4B9C0509C5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58F-2B8E-4B9D-B913-C69CD283F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Negotiating an  “Implementation”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Consent Decree</a:t>
            </a:r>
            <a:endParaRPr b="1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emary G. Spa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L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did not feel a federal decree wa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was ahead of all permi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wanted decree because schedule would be greater than five year term of City’s per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: implementation dec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Underlying Principles of an Implementation Consent Decre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adversa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un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ly focused in scope to achieve EPA stated goal of providing enforceable mechanism for approved LTCP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t with permitting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Underlying Principl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LTCP approval separate from CD negot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D should simply require implementation of the approved and attached LTC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P Negotiation In Er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ter Quality Standards Revis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ty’s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 compliance with water quality standards after implementation of the LTCP and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 Indiana’s Statutory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Contr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termine the appropriate level of contr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scribe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determine whether you have achieved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hedu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ong way:  How fast can you spend the program cost on pap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the sole basis for EPA’s scheduling gu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chedule Considerations – The Right Way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located within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ordinate with other major community development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s/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town re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/cultural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The Right Schedul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materials, suppliers, trucks, contractors &amp; trained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quality consultants &amp; engineers to manage &amp; inspec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inflationary impacts on project costs due to low supply &amp; high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al ability to bring capital “on-li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mmunicate &amp; listen to the public before and during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The Right Schedul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pposition to specif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way permitting (corps 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impacts to neighborhoods and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s (concrete &amp; steel)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lying Principles of Implementati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Negotiation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TCP Modification 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:  broad modific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vigation is not a one tim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decides what the LTCP says about the opportunity to reevalu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depend directly on whether your community faces a consent decree or not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nt decree =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modification without EPA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other words, dispute over whether a modification is warranted is NOT allowed to be heard by the ju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relief through Federal Rule 60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ly, the problem has to be so unexpected or extreme that you seek and are granted relief from the contract you sig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aordinarily rare, especially for issues that were expressly contemplated/negotiated by the parties (such as schedule, level of control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SO commun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greement over modification subject to Dispute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Burden of p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ing that separate procedures for unexpected occurrences regarding key issues (level of control; schedule,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Key Negotiation Issue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TCP Approv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you expec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wh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uld you ge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Lessons Learned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so far)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track record should be relentlessly asserted but often is not given appropriate w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educate EPA (including EPA’s technical experts) about key aspects of your system, your circumstances and your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define parameters and reach agreement on key components of a consent decree before beginning (or at least getting too far into) negoti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ing approved major LTCP and decree will take substantial time an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esson Learn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otiate who will lea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TCP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nt dec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State plaintiff in Louisville and EPA citizen-interve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PA, which program (OW or OE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 don’t let LTCP approval get tied up in decree nego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essons Learn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ing LTCP approvals as part of consent decree negotiations c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 your regulatory options (State and fed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lude future reevaulation of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’s view and EPA’s view are very different regarding what an “implementation” consent decree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decision-making regarding LTCP approvals should come from States and EPA-OW/States and not as negotiated consent decree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troduct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City of Indianapolis’ Experie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ing to obtain approval of CSO Long-Term Contro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ing an “implementation” consent dec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troduction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0773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cent “Implementation” Consent Dec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C. Water and Sewer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SC/Baltimore County, Mary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Kentucky Sanitary District No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’ Water Quality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dvanced Wastewater Treatment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pa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nitary Sew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mpasses ≈ 222 square m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≈  185 miles of interceptor s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one time included 16 constructed SSO relief points -- all but 3 eliminated and those are scheduled to be eliminat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bi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w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mpasses ≈ 56 square m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≈  66 miles of interceptor s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133 outfalls discharging into the White River and 4 of its tribut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with CS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199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an conducting studies and CSS 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-1990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751"/>
              </a:spcAft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NMC program to IDEM in 1995 (approved by IDEM in 1997) and began implementing NMCs, including several pilot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both hydraulic and water quality models that were cited by EPA in its guidance document on mo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R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07696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with CSO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er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“Improving Our Streams in the City of Indianapolis: A Report on Options for Controlling Combined Sewer Overflow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ed public education and input meetings and formed an advisory committee to ensure public participation in the development of a L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ted proposed LTCP to IDEM and EPA for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ly leading NM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cially public outreach and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CSO/SSO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s of millions in “early action pro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fact sheets for 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y invitation to negotiate a federal consent decree to address “CSO issu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31T11:32:28Z</dcterms:modified>
  <cp:revision>32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