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11D8-872B-4048-916B-8E544F0E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95CB-5066-41E1-BA84-C5108ED7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EECE-7949-4C36-AB6F-2B98157B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DCF28-37F2-41BB-B694-803F9C69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1D3B-1420-4F00-B0AA-47A6CD4C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F85C-D492-49E9-B023-098E69AE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B97B-5E0D-4856-A71C-3D9F2E03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AB60-D44C-4171-86F0-BAB06531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CD46-5DB1-43FA-8D4C-3F91A2C6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BC53-07A2-40A4-956D-DFE11328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251B-041A-4CD5-A4C8-D5015383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6811-FDF8-4D2E-BE91-9F00F13B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6E0D-D690-44E9-AF68-BB37578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3994-EED3-44EF-83AF-276CE2AA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9400-56FC-412E-BFD8-6EC2EA9F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6CF0-7937-4E07-A289-BF5DA8A2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A052-6A56-4A39-B0B3-BD08C364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E8E5-3F1B-4A65-BD47-EAC15EA9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F564-55AB-45BA-A7C0-CDEC3DC9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DB3F-DE4C-424F-8A2B-343A44BA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202C-3113-46D7-BD5A-3F49B481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56F0-B8B3-4B32-84F4-48F8D109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2C69-BC41-4426-9EDD-7F96B586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57D7-405A-4962-8542-81C99386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46FC-0EB2-48F1-A089-BCA288340E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7474-A002-48F1-B4FB-27CC8D08A4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Wet Weather Operating Plans and Their Strategic Us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ul Calami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qua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ation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WA &amp; Wet Weather Partnership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cago, 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1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pproaches to WWOPs Development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ize fits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lants will achieve specific primary, secondary and any additional (i.e., disinfection, screening, etc) flow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-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Approach to Developing WWOP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 storm preparations (draw dow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s during storm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rott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al manipulations of wet weather f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storm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c Use of WW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ategic Use of WWOP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OPS facilitate disclosure of management of wet weather f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ermit renewal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part of approved facility O&amp;M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d in documentation of the NMC flow maximization requi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sets up NPDES permit shield for operation reg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ategic Use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e and incorporate by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part of facility O&amp;M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ly identify plan/regime  in the per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subsequent LTCP development, including POTW capacity alternatives analysis and secondary bypass sh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72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Strategic Use – Avoid Allegations of Non-compliance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OPs are important protect you and your organization regarding how you manage wet weather f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s regarding appropriate wet weather capacity should be resolved through WW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in plants with manual manipulations during wet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ategic Use of WWOP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permit requirements for wet weather f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/monitor only percent rem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t weather mass/concentration li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one-time comprehensive diversion/bypass no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flow maximization requirement with other permit requirements (effluent lim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WWOPS Used TO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alize analysis behind maximization of flow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alize wet weather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lose and obtain permit shield for WW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WWOPS Used TO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baseline for inclusion of CSO-related diversions into CSO LT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permit authorization for diver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alternate permi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Overview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t weather operations plans (WWO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CSO communities develop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t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CSO Communities Develop WW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Why CSO Communities Develop WWOP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pressly required by State permitting ag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SDEC requires formal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:  1.5 times dry weather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:  2 times dry weather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tates require informal plans/de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Why CSO Communities Develop WWOP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prepared to fulfi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MC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 flow to the treatment 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 flow treated at the 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 O&amp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ing/Bypass Permi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treatment demonstration for CSO LT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nventional CSO Wisdom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&amp; convey; overflow at the POTW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OPs plans are important to document/verify how you are maximizing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WWOPs – Why Develope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for evaluating facility bypass issu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to manage facility operation during wet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 to Developing WW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WWOP Development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explain wet weather diversion flow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each step in treatment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in wet weather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 flow/diversion level/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 for di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7:23:40Z</dcterms:created>
  <dc:creator>Jodi Perras</dc:creator>
  <dc:description/>
  <dc:language>en-US</dc:language>
  <cp:lastModifiedBy>mmorel</cp:lastModifiedBy>
  <dcterms:modified xsi:type="dcterms:W3CDTF">2006-05-31T11:31:24Z</dcterms:modified>
  <cp:revision>34</cp:revision>
  <dc:subject/>
  <dc:title>Indianapolis Approach to Use Attainability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