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41C0-7B76-4A8E-ADAB-02E761DC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78A0-8B2E-4106-A8F6-FA2D06A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ACCD-EA08-4517-9C99-35EA2273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7DAD-9A7D-4693-A3E0-067179B6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462-D013-46E5-9F2A-B4A89A5D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D685-9E05-4D12-90D7-13B7956E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135E-87E9-4D98-9C7C-C03FCA7B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A86-E402-4348-B6BD-7219B80E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6A43-40E6-45C5-8062-516A3F5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5BF7-0681-4F58-8F91-29829DF3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06D6-3156-461A-A244-F0ED267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25C5-2552-4E77-BF25-49862A0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434B-C315-4C3F-A945-F99F865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3E01-BAE8-4690-A05A-A7540B5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04B-1E4A-46BE-B4F7-9E546C5F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2921-9C46-444E-A324-A94B846B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754-B15C-4A95-81F2-45DC50CB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FE01-A7FC-481C-9335-F31F4722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45F8-642C-4A11-88D0-67FB9E84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580A-D458-4E7F-9F19-623B6032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5345-BC47-4F88-9D3D-EBEB2CA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827F-F773-434B-A16E-0E6470A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FF4C-14F2-4342-8797-3501FAF5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D128-E749-44DA-AE06-819389F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0C62-9822-4991-A04D-E0130265E4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881-50FF-4FE4-A3C5-F12154738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et Weather Operating Plans and Their Strategic Us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ul Calam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qua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&amp; Wet Weather Partnership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proaches to WWOPs Development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ize fit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lants will achieve specific primary, secondary and any additional (i.e., disinfection, screening, etc) flow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-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proach to Developing WWOP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storm preparations (draw dow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s during storm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r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manipulations of wet weather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storm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 Use of WW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ategic Use of WWOP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OPS facilitate disclosure of management of wet weather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ermit renewal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part of approved facility O&amp;M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d in documentation of the NMC flow maximization requ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sets up NPDES permit shield for operation reg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ategic Us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e and incorporate by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part of facility O&amp;M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ly identify plan/regime  in the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subsequent LTCP development, including POTW capacity alternatives analysis and secondary bypass sh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72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trategic Use – Avoid Allegations of Non-compliance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OPs are important protect you and your organization regarding how you manage wet weather f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 regarding appropriate wet weather capacity should be resolved through WW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in plants with manual manipulations during wet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ategic Use of WWOP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permit requirements for wet weather f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/monitor only percent rem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t weather mass/concentration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one-time comprehensive diversion/bypass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flow maximization requirement with other permit requirements (effluent lim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S Used TO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ize analysis behind maximization of flow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ize wet weather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lose and obtain permit shield for WW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S Used TO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baseline for inclusion of CSO-related diversions into CSO LT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permit authorization for diver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lternate permi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t weather operations plans (WWO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CSO communities develop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CSO Communities Develop WW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Why CSO Communities Develop WWOP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pressly required by State permitting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SDEC requires formal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:  1.5 times dry weather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:  2 times dry weather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tates require informal plans/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Why CSO Communities Develop WWOP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prepared to fulfi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C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flow to the treatment 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flow treated at the 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O&amp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ing/Bypass Permi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treatment demonstration for CSO LT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nventional CSO Wisdom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&amp; convey; overflow at the POTW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OPs plans are important to document/verify how you are maximizing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s – Why Develope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or evaluating facility bypass issu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 manage facility operation during wet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to Developing WW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 Developmen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explain wet weather diversion flow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each step in treat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in wet weather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 flow/diversion level/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 for di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mmorel</cp:lastModifiedBy>
  <dcterms:modified xsi:type="dcterms:W3CDTF">2006-05-31T11:31:24Z</dcterms:modified>
  <cp:revision>34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