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3BC-D3CD-4B2D-807B-3FF4697B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78E-4C74-43EE-B68E-E01496FF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413-25AA-4E29-A317-5B7967D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894-D4AA-4E36-88C3-0BF06D66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3CFE-FFAD-4366-BC34-4B139DE0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041E-6CC5-4204-8271-EDBD20BB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DBA5-8DA4-4C30-BF0F-FD5C17A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F9BD-A295-45AC-A25D-E978B38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23EA-63E6-4971-85FC-6911F2B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15C-349A-45F8-B303-E5FA71DF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3C8-42EA-4E65-92A1-6E6B745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B3A-3937-4BB3-8274-4DB31DD1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21AB-C802-48A5-B719-6E213A3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A3CA-6AEB-41B6-AEEE-E1FEF6E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D5FF-5CE7-4701-8F4A-5AB01D1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456D-EC1F-4FD9-A35A-07B62119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EF95-C09F-48EC-B40A-E1C63234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8CD-F0A0-48B4-8B47-A5C922B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A37-8EB7-460C-9CED-BD24011C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665-B046-4C21-AB6E-8E752760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1BF-084D-42C5-ADEA-BCAAAD0E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0E4-E558-4550-BE2F-6A49A498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ED3-64C3-4C1F-AF90-8B68C46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BD9-B219-4340-B59A-11E6A2A4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00BE-2FBB-4B0C-9B0C-22B44C9EC8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59A9-A4B2-4BA8-AF6C-5DB24AF560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NAGING PEAK WET WEATHER FLO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cy Wheat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Resources Strateg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gie R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2M H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oals of the Peak Wet Weather Flow Management Guid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the regulatory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wet weather management and planning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 collection and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wet weather practices and proce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ide Pre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 and Rele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Contrib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rigin and Relev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A’s Nov. 2003 Draft Policy-Principle #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ak flow management is consistent with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generally accepted practices &amp; long term design cri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F’s comments recommended that EPA develop a protocol to outline steps and alternatives to achieve an environmentally sound wet weather manage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1301760"/>
            <a:ext cx="7086600" cy="755640"/>
          </a:xfrm>
          <a:prstGeom prst="rect">
            <a:avLst/>
          </a:prstGeom>
          <a:solidFill>
            <a:srgbClr val="ffff99">
              <a:alpha val="7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75312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fine planning area and perio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5152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xisting Flows (DWF and WWF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5278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xisting collection system (pipes and sewershed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303920"/>
            <a:ext cx="19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efine existing conditions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G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Flow monitor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Sewer system model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286000"/>
            <a:ext cx="7086600" cy="685800"/>
          </a:xfrm>
          <a:prstGeom prst="rect">
            <a:avLst/>
          </a:prstGeom>
          <a:solidFill>
            <a:srgbClr val="ccffcc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240408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uture Flows   (DWF and WWF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44224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uture collection system (pipes and sewershed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31804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efine future conditions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Land use pla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Population projec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712320"/>
            <a:ext cx="243828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collection system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169520"/>
            <a:ext cx="190512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WWTP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026520"/>
            <a:ext cx="190512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stablish performance objectives for collection and WWTP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4428000"/>
            <a:ext cx="1519200" cy="1100880"/>
          </a:xfrm>
          <a:prstGeom prst="diamond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eet all objectives 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485136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483876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779000"/>
            <a:ext cx="190476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List of technically viable alterna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893480"/>
            <a:ext cx="190512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dentify / revise alterna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64800"/>
            <a:ext cx="83844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cost fac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464800"/>
            <a:ext cx="114300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valuate non-cost fac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6150600"/>
            <a:ext cx="1904760" cy="2462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ank alternatives and sel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490360"/>
            <a:ext cx="190476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velop implementation schedule for selected altern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591880"/>
            <a:ext cx="190512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etermine funding sources and customer imp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6104520"/>
            <a:ext cx="1671480" cy="796320"/>
          </a:xfrm>
          <a:prstGeom prst="diamond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ceptable 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375240"/>
            <a:ext cx="30492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6362640"/>
            <a:ext cx="30456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277680"/>
            <a:ext cx="1143000" cy="3985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mplement prog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19160" y="10666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10666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91772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91772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350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2743200"/>
            <a:ext cx="9907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486400" y="28447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76360" y="49658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4978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4978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791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0" y="60069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76920" y="650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6502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6489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038480" y="6553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38480" y="5943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50036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58000" y="382248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86400" y="382284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940920"/>
            <a:ext cx="1904760" cy="550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Establish alternatives evaluation criteria (cost and non-cost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666880" y="594360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astewater System Improvement Plann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572000"/>
            <a:ext cx="5410440" cy="1905120"/>
          </a:xfrm>
          <a:prstGeom prst="wedgeRectCallout">
            <a:avLst>
              <a:gd name="adj1" fmla="val -44689"/>
              <a:gd name="adj2" fmla="val -103750"/>
            </a:avLst>
          </a:prstGeom>
          <a:solidFill>
            <a:srgbClr val="66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stablish Performance Objectives for Collection and WWTP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ject Develop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PA Water Quality Cooperative Agre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eering and Technical Review Committe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o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 collection and treat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fy wet weather regulatory frame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 wet weather management and planning 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 wet weather practices/process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view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ering Committee kick-off meeting May 5, 2005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in October 2005 to review first dra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Draft issued February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completed and available June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 Practice Request Templ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94096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ide 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, Purpose, Glossary, Acrony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les for Wet Weather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, Principles,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ning, Managing, O&amp;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ro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owners, planners, designers, and operators of WW collection and treatment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method for POTWs to be more proactive in planning for wet weather f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management alternatives based on risk assessment and performance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s a process that can be used to build support for real-world sol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t Weather Management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ory framework for CWA compliance and limitations of traditional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stem deficiencies vs. system fail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st of Princip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s for the Guid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mphasize holistic planning approac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cognize experience-based cri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enda for Tod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ing peak wet weather flows at WWTP serving combined and separate sewer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nents of Proposed EPA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F Project to Provide Protocols for Wet Weather Flow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noon Will Provide Process Det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Objectives Based on Risk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thods for applying proven risk management concepts to the definition of wet weather performance objec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uctured process that combines stakeholder input, community values, and technical approaches to compare alterna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acti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2327400"/>
            <a:ext cx="75438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planning, managing, and O&amp;M for conveyance and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ance for selecting wet weather managemen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s steps and provides refer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Contribu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compendium of good engineering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wet weather definitions for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a defendable decision framework for planning and permit negotiations, particu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stem capacity siz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bined and sanita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lementing policy requir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ary Bypass regul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TC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s supporting docu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based performance obj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attainabil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F Contribution to Peak WW Flow Manag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any policy requires clear, rational process to achieve environmentally sound wet weather flow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F proposed that EPA fund a project to prepare a protocol for developing and evaluating wet weather management alternatives for all POTW treatment and collection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would be a useful resource for POTWs and Regulatory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994 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d maximizing flow to WWT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he bypass regulation for wet weather flow management at WW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demonstration of “no feasible alternativ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not cause exceedences of WQ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posed EPA Wet Weather Discharge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tory treatment of POTW’s wet weather flow management has not been consis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 to blending began to build after failure of SSO rule-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pretation of the bypass regulation became the key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Go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consistent treatment for managing wet weather fl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minimizing peak wet weather flows to WWTP from S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hibit wet weather diversions unless infea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better public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’s goal is to eliminate over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Scop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wet weather diversions around secondary treatment facilities where source is separate sanitary (not combined) sewer system, where flow is recomb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apply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system events: wet or d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y weather diver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ersions around other than secondary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erted flow that is not recomb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onents of Proposed Policy:  Standa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POTW Bypass Reg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Feasible Alternativ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d based on comprehensive utility analysis using good engineering prac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reassessed every permit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ot be supported if collection system O&amp;M is po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TW Challe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W control of highly variable wet weather flows is limited by technical, resource and time con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ict liability CWA appears to make some logical practices “illeg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QS adopted long ago complicate planning and prioritization of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eria for secondary treatment do not incorporate real world, wet weather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26T17:55:08Z</dcterms:modified>
  <cp:revision>40</cp:revision>
  <dc:subject/>
  <dc:title>LITIGATION UPDATE MAMWA JANUARY 26, 2005</dc:title>
</cp:coreProperties>
</file>