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B09-C760-4F39-AF7E-244C26AB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DDF-8B77-4DDF-9D5B-5B01B629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977-EA23-4DB1-B6F0-E6AB091E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D9D-46AE-47BA-AC77-8F0DFD57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4FA1-5168-4944-B6F6-C484A655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66F5-1D2F-4E7B-ADE4-62A81029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5E38-B51D-4A51-854A-EBFA402B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9E73-FCBC-42FF-A194-2742152B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7A7E-9681-43A9-983F-DB6D2EE2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C10A-22F9-4E6A-9360-4B66653A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E807-ED16-410C-9EFE-173435B0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69B-D5AE-4729-9A17-A3080F1B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FFE7-D796-4F08-9B12-D9519B59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1CA4-C128-48FB-AED5-184A737C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9746-4259-434D-8524-86AD0200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CDF8-C5C5-4D6E-A0C5-EE898597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008B-A348-4B57-9CFF-8D6FDCBE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A90-8A95-4A98-ADB0-981A4646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40A-0171-4B6E-A83E-F337C43B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487-D967-4FA7-9913-66893E70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A23-9118-4EC8-ACA2-DC543267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812-36C7-43A8-88C3-9BDF5267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52D-026F-4E7E-BA32-DA5C6394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6A6-79ED-4888-9CED-CE697189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8FE4-3EC2-42A3-99C5-AADDB1896DC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7A8D-5000-4627-8556-389737DA80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NAGING PEAK WET WEATHER FLOW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ncy Wheat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Resources Strateg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gie Row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2M H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oals of the Peak Wet Weather Flow Management Guid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rify the regulatory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 wet weather management and planning appro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e collection and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wet weather practices and proce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uide Pre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gin and Relev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umen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Contrib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rigin and Relev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A’s Nov. 2003 Draft Policy-Principle #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ak flow management is consistent with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generally accepted practices &amp; long term design criteri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F’s comments recommended that EPA develop a protocol to outline steps and alternatives to achieve an environmentally sound wet weather management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1301760"/>
            <a:ext cx="7086600" cy="755640"/>
          </a:xfrm>
          <a:prstGeom prst="rect">
            <a:avLst/>
          </a:prstGeom>
          <a:solidFill>
            <a:srgbClr val="ffff99">
              <a:alpha val="7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753120"/>
            <a:ext cx="190512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efine planning area and perio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515240"/>
            <a:ext cx="190512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Existing Flows (DWF and WWF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1527840"/>
            <a:ext cx="190512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Existing collection system (pipes and sewershed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303920"/>
            <a:ext cx="1905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efine existing conditions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G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Flow monitor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Sewer system model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2286000"/>
            <a:ext cx="7086600" cy="685800"/>
          </a:xfrm>
          <a:prstGeom prst="rect">
            <a:avLst/>
          </a:prstGeom>
          <a:solidFill>
            <a:srgbClr val="ccffcc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2404080"/>
            <a:ext cx="190512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uture Flows   (DWF and WWF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442240"/>
            <a:ext cx="190512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uture collection system (pipes and sewershed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231804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efine future conditions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Land use plan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Population projection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3712320"/>
            <a:ext cx="2438280" cy="2462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Evaluate collection system perform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169520"/>
            <a:ext cx="1905120" cy="2462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Evaluate WWTP perform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3026520"/>
            <a:ext cx="1905120" cy="550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Establish performance objectives for collection and WWTP syst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4428000"/>
            <a:ext cx="1519200" cy="1100880"/>
          </a:xfrm>
          <a:prstGeom prst="diamond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Meet all objectives 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485136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4838760"/>
            <a:ext cx="30456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4779000"/>
            <a:ext cx="190476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List of technically viable alternativ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4893480"/>
            <a:ext cx="1905120" cy="2462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Identify / revise alternativ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464800"/>
            <a:ext cx="83844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Evaluate cost fac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5464800"/>
            <a:ext cx="114300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Evaluate non-cost fac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6150600"/>
            <a:ext cx="1904760" cy="2462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ank alternatives and sel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5490360"/>
            <a:ext cx="1904760" cy="550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evelop implementation schedule for selected alternati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5591880"/>
            <a:ext cx="190512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etermine funding sources and customer imp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6104520"/>
            <a:ext cx="1671480" cy="796320"/>
          </a:xfrm>
          <a:prstGeom prst="diamond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cceptable 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637524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6362640"/>
            <a:ext cx="30456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6277680"/>
            <a:ext cx="114300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Implement progr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819160" y="106668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1066680"/>
            <a:ext cx="9907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191772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191772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3505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2743200"/>
            <a:ext cx="9907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486400" y="284472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3962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276360" y="496584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49784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666520" y="49784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5867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5867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5791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59600" y="600696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876920" y="6502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6502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6489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038480" y="65530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038480" y="59432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50036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858000" y="382248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486400" y="382284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3940920"/>
            <a:ext cx="1904760" cy="550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Establish alternatives evaluation criteria (cost and non-cost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4419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666880" y="5943600"/>
            <a:ext cx="3812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181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5181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Wastewater System Improvement Planning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4572000"/>
            <a:ext cx="5410440" cy="1905120"/>
          </a:xfrm>
          <a:prstGeom prst="wedgeRectCallout">
            <a:avLst>
              <a:gd name="adj1" fmla="val -44689"/>
              <a:gd name="adj2" fmla="val -103750"/>
            </a:avLst>
          </a:prstGeom>
          <a:solidFill>
            <a:srgbClr val="66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stablish Performance Objectives for Collection and WWTP Sy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ject Develop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SEPA Water Quality Cooperative Agree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eering and Technical Review Committe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cop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te collection and treat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rify wet weather regulatory frame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t wet weather management and planning appro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be wet weather practices/process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view Proc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ering Committee kick-off meeting May 5, 2005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op in October 2005 to review first dra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Draft issued February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 completed and available June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ample Practice Request Templa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94096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uide Outli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ground, Purpose, Glossary, Acrony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iples for Wet Weather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mework, Principles, 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ning, Managing, O&amp;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rodu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owners, planners, designers, and operators of WW collection and treatment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method for POTWs to be more proactive in planning for wet weather fl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ion of management alternatives based on risk assessment and performance 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s a process that can be used to build support for real-world sol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et Weather Management Frame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ulatory framework for CWA compliance and limitations of traditional 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tem deficiencies vs. system fail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ist of Principl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asis for the Guid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mphasize holistic planning approach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cognize experience-based criteri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genda for Tod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ing peak wet weather flows at WWTP serving combined and separate sewer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nents of Proposed EPA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F Project to Provide Protocols for Wet Weather Flow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noon Will Provide Process Det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ance Objectives Based on Risk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ethods for applying proven risk management concepts to the definition of wet weather performance objectiv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ructured process that combines stakeholder input, community values, and technical approaches to compare alternativ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acti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2327400"/>
            <a:ext cx="75438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vers planning, managing, and O&amp;M for conveyance and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ance for selecting wet weather management 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ails steps and provides refer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Contribu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s compendium of good engineering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s wet weather definitions for indu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s a defendable decision framework for planning and permit negotiations, particula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stem capacity siz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bined and sanita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lementing policy requir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ondary Bypass regul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TC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s supporting docu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sk based performance objecti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 attainability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EF Contribution to Peak WW Flow Manage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ementation of any policy requires clear, rational process to achieve environmentally sound wet weather flow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F proposed that EPA fund a project to prepare a protocol for developing and evaluating wet weather management alternatives for all POTW treatment and collection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 would be a useful resource for POTWs and Regulatory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1994 CSO Polic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ouraged maximizing flow to WWTP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he bypass regulation for wet weather flow management at WW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d demonstration of “no feasible alternativ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not cause exceedences of WQ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posed EPA Wet Weather Discharge Polic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ulatory treatment of POTW’s wet weather flow management has not been consis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osition to blending began to build after failure of SSO rule-ma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pretation of the bypass regulation became the key 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ponents of Proposed Policy:  Goa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consistent treatment for managing wet weather flo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minimizing peak wet weather flows to WWTP from S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hibit wet weather diversions unless infea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better public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’s goal is to eliminate over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ponents of Proposed Policy:  Scop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s to wet weather diversions around secondary treatment facilities where source is separate sanitary (not combined) sewer system, where flow is recomb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not apply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ction system events: wet or d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y weather diver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versions around other than secondary fac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verted flow that is not recomb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ponents of Proposed Policy:  Standar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d on POTW Bypass Reg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Feasible Alternativ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d based on comprehensive utility analysis using good engineering pract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be reassessed every permit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not be supported if collection system O&amp;M is po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TW Challeng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W control of highly variable wet weather flows is limited by technical, resource and time constra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ict liability CWA appears to make some logical practices “illeg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QS adopted long ago complicate planning and prioritization of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teria for secondary treatment do not incorporate real world, wet weather cond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6:06:55Z</dcterms:created>
  <dc:creator>Aqualaw4</dc:creator>
  <dc:description/>
  <dc:language>en-US</dc:language>
  <cp:lastModifiedBy>mmorel</cp:lastModifiedBy>
  <dcterms:modified xsi:type="dcterms:W3CDTF">2006-05-26T17:55:08Z</dcterms:modified>
  <cp:revision>40</cp:revision>
  <dc:subject/>
  <dc:title>LITIGATION UPDATE MAMWA JANUARY 26, 2005</dc:title>
</cp:coreProperties>
</file>