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8.gif" ContentType="image/gif"/>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9.png" ContentType="image/png"/>
  <Override PartName="/ppt/media/image13.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360"/>
            <a:ext cx="2971800" cy="45252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360"/>
            <a:ext cx="2971800" cy="45252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1440" y="677880"/>
            <a:ext cx="4516560" cy="338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580600"/>
            <a:ext cx="2971800" cy="45216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580600"/>
            <a:ext cx="2971800" cy="452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8414E44-F1E7-4F20-B411-3C1876F30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1440" y="677880"/>
            <a:ext cx="4516560" cy="3387600"/>
          </a:xfrm>
          <a:prstGeom prst="rect">
            <a:avLst/>
          </a:prstGeom>
          <a:ln w="0">
            <a:noFill/>
          </a:ln>
        </p:spPr>
      </p:sp>
      <p:sp>
        <p:nvSpPr>
          <p:cNvPr id="17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ive up when things seem difficult – leader maintains positive approach to inspire a higher level of achievement and des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 of this is having the vision to begin with – and letting this vision be known to all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am negotiating the CSO Permit – it also entailed a permit appeal from the Sierra Club about the lack of year round mass limits – this was not desirable because mass limits would be meaningless if you want to capture and treat as much CSO as possible in a given wet season.  You have to set them so high… keep a level of enthusiasm through this long process paid off for SF – all the complications related to the per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1440" y="677880"/>
            <a:ext cx="4516560" cy="3387600"/>
          </a:xfrm>
          <a:prstGeom prst="rect">
            <a:avLst/>
          </a:prstGeom>
          <a:ln w="0">
            <a:noFill/>
          </a:ln>
        </p:spPr>
      </p:sp>
      <p:sp>
        <p:nvSpPr>
          <p:cNvPr id="17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mit negotiation will thrown down challenges and certainly the negotiations for a Phase II permit will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prepared, but now you have to want to do this – to reach your vision and to literally astound yourself with success.  Not shu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this is hard – Around the country we only have ___ Phase II permits adopted, now in 2006 there are only about 824 CSO Communities – 731 Lets required and only about 319 approved.  This tells me that getting a LTCP approved and getting a Phase II permit negotiated is not easy.  Need an analogy he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1440" y="677880"/>
            <a:ext cx="4516560" cy="3387600"/>
          </a:xfrm>
          <a:prstGeom prst="rect">
            <a:avLst/>
          </a:prstGeom>
          <a:ln w="0">
            <a:noFill/>
          </a:ln>
        </p:spPr>
      </p:sp>
      <p:sp>
        <p:nvSpPr>
          <p:cNvPr id="18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nd Implementing Phase II Permits will require the application of all five drivers.  First lets look at what a Phase II permit is and the challenges it re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ou thought you were done worrying about NMCs – guess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lead the negotiations for the SF Oceanside Permit which to my knowledge was the first Phase II permit in the country – really focused on ensuring that there was complete agreement that the NMCs were implemented.  Remember NMC are site specific and are supposed to represent the technology requirement of the Act.  So we develop based on BPJ a BPT/BCT/BAT analysis which found that SF implementation met the technology requirements of the Act.  The fact sheet for the Phase II permit states this and also states that they are implemented per the Policy.  But the permit writers want to be sure that everything is being done as it should – so new requirements – so SF is being asked to undertake a specifically study to effectively characterize CSO impacts and efficacy of overflow contr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1440" y="677880"/>
            <a:ext cx="4516560" cy="3387600"/>
          </a:xfrm>
          <a:prstGeom prst="rect">
            <a:avLst/>
          </a:prstGeom>
          <a:ln w="0">
            <a:noFill/>
          </a:ln>
        </p:spPr>
      </p:sp>
      <p:sp>
        <p:nvSpPr>
          <p:cNvPr id="18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across the board in most of the documents that this is what they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fabric of the Policy intends this to be done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1440" y="677880"/>
            <a:ext cx="4516560" cy="3387600"/>
          </a:xfrm>
          <a:prstGeom prst="rect">
            <a:avLst/>
          </a:prstGeom>
          <a:ln w="0">
            <a:noFill/>
          </a:ln>
        </p:spPr>
      </p:sp>
      <p:sp>
        <p:nvSpPr>
          <p:cNvPr id="18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r own vision is important – if you do not have your own ideas about what you want – they will run over you</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1440" y="677880"/>
            <a:ext cx="4516560" cy="3387600"/>
          </a:xfrm>
          <a:prstGeom prst="rect">
            <a:avLst/>
          </a:prstGeom>
          <a:ln w="0">
            <a:noFill/>
          </a:ln>
        </p:spPr>
      </p:sp>
      <p:sp>
        <p:nvSpPr>
          <p:cNvPr id="18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negotiating the SF Phase II permit – it was 1994-1997 – We wanted to be sure there was no questions that SF had implemented the NMCs – and that other technology controls would not be require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Specific and consistent with Policy and A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1440" y="677880"/>
            <a:ext cx="4516560" cy="3387600"/>
          </a:xfrm>
          <a:prstGeom prst="rect">
            <a:avLst/>
          </a:prstGeom>
          <a:ln w="0">
            <a:noFill/>
          </a:ln>
        </p:spPr>
      </p:sp>
      <p:sp>
        <p:nvSpPr>
          <p:cNvPr id="18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 of overflow events per yea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 captur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removal equivalent to 85% cap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larification or equival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s and floatables remov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infection, if necessary and not harmfu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ccept and no need to accept numerical water quality standards in the perm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guidance specifically states – this.  This is not a typical thing for a permit writer – you will need your people and communication skills your good attitude to make sure that you can convince the permit writer of this approach – not norm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1440" y="677880"/>
            <a:ext cx="4516560" cy="3387600"/>
          </a:xfrm>
          <a:prstGeom prst="rect">
            <a:avLst/>
          </a:prstGeom>
          <a:ln w="0">
            <a:noFill/>
          </a:ln>
        </p:spPr>
      </p:sp>
      <p:sp>
        <p:nvSpPr>
          <p:cNvPr id="19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 one has a post construction monitoring plan that has yet to develop a data base? Ask what they are finding out? May want a special program on this topic – this will be an 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1440" y="677880"/>
            <a:ext cx="4516560" cy="3387600"/>
          </a:xfrm>
          <a:prstGeom prst="rect">
            <a:avLst/>
          </a:prstGeom>
          <a:ln w="0">
            <a:noFill/>
          </a:ln>
        </p:spPr>
      </p:sp>
      <p:sp>
        <p:nvSpPr>
          <p:cNvPr id="16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mastery and application of these drivers you will not get a permit you can live wit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1440" y="677880"/>
            <a:ext cx="4516560" cy="3387600"/>
          </a:xfrm>
          <a:prstGeom prst="rect">
            <a:avLst/>
          </a:prstGeom>
          <a:ln w="0">
            <a:noFill/>
          </a:ln>
        </p:spPr>
      </p:sp>
      <p:sp>
        <p:nvSpPr>
          <p:cNvPr id="19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 this was a major undertaking on our part – we realized that not only was it the first Phase II permit (that we knew of) but it was also the first Oceanside permit under the implementation of the Policy and with the new be CSO control system in place.  The benefit will be that you will be confident, understand your visions of where you want to be, and communicate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we do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ssembled a team – Operators, Lab Manager and Biological specialists; PM for the system; legal support and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d a consultant who knew the system th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ll that was not enough: - this was a federal permit so the state pretty much let EPA develop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ed in 1993 – before the CSO Policy was adopted – but I knew precisely what was in the policy – I had been in on every step of the negotiations – and I had also assembled a team who knew each aspect of how the system was going to ope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began – Well this is not EPA Regional offices forte – or was not at the time – We would sit down and begin to discuss what we thought would be in the perm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ent through 4 different permit writers in the years that we negotiated this per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d to start over from scratch each time – and I made numerous calls to HQ to discuss with staff my interpretation and what I was hearing from Regional staff.  I could do that since I had a relationship with the HQ folks and I have earned the right to discuss the CSO Policy But the important point of all this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Prepared for these negotiations – know your LTCP, know your system and how it works; know the Policy, the law and the requirements  and the benefit will be that you</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1440" y="677880"/>
            <a:ext cx="4516560" cy="3387600"/>
          </a:xfrm>
          <a:prstGeom prst="rect">
            <a:avLst/>
          </a:prstGeom>
          <a:ln w="0">
            <a:noFill/>
          </a:ln>
        </p:spPr>
      </p:sp>
      <p:sp>
        <p:nvSpPr>
          <p:cNvPr id="19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issues are allowed in the policy, and may be discussed in the LTCP – but now we are talking permit language and permit compliance issues.  So these take on a new meaning.  Already mentioned the second bullet so lets touch briefly on the defition of wet weather and why it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quality based effluent requirements that are performance based – in the case of SF in which the presumption approach it is critical to define when the wet weather begins so that the different effluent requirements are now in play rather than the numerical WQS for metal and other toxic pollutants. In the case of SF PUC the wet weather day i</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77880"/>
            <a:ext cx="4516560" cy="3387600"/>
          </a:xfrm>
          <a:prstGeom prst="rect">
            <a:avLst/>
          </a:prstGeom>
          <a:ln w="0">
            <a:noFill/>
          </a:ln>
        </p:spPr>
      </p:sp>
      <p:sp>
        <p:nvSpPr>
          <p:cNvPr id="19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O Program – is different and thank goodness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not like a “regular POTW permit” it will require the vision that you establish – understanding the program and the application of special skill due to the more wide open nature of the program.  You need to be in the drivers seat and the way to do that is to apply these drivers – the benefit will be a permit that you want, you can live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77880"/>
            <a:ext cx="4516560" cy="3387600"/>
          </a:xfrm>
          <a:prstGeom prst="rect">
            <a:avLst/>
          </a:prstGeom>
          <a:ln w="0">
            <a:noFill/>
          </a:ln>
        </p:spPr>
      </p:sp>
      <p:sp>
        <p:nvSpPr>
          <p:cNvPr id="16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to the permit that you want is to start with a vision – what is the vision for your perm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1440" y="677880"/>
            <a:ext cx="4516560" cy="3387600"/>
          </a:xfrm>
          <a:prstGeom prst="rect">
            <a:avLst/>
          </a:prstGeom>
          <a:ln w="0">
            <a:noFill/>
          </a:ln>
        </p:spPr>
      </p:sp>
      <p:sp>
        <p:nvSpPr>
          <p:cNvPr id="16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a Phase II permit is the permit that requires the implementation of the LTC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1440" y="677880"/>
            <a:ext cx="4516560" cy="3387600"/>
          </a:xfrm>
          <a:prstGeom prst="rect">
            <a:avLst/>
          </a:prstGeom>
          <a:ln w="0">
            <a:noFill/>
          </a:ln>
        </p:spPr>
      </p:sp>
      <p:sp>
        <p:nvSpPr>
          <p:cNvPr id="17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developed a LTCP – You have characterized your system – you know the issues and you are prepared – you also know your vision for this permit – so this preparation and knowledge will breed a level of confidence in your that will carry you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negotiating the SF PUC Oceanside Permit – the first permit in the country for Phase II CSO Control – stared in 1993 and it took about four years to complete.  I knew our system, knew why it was designed as it was and I knew the CSO Policy issues inside and out.  I should have – I was from the beginning a participant in the development of the CSO Policy.  I was confident that SF could get a permit that show conformance, compliance and completeness.  There were specific times when EPA and State staff did not agree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1440" y="677880"/>
            <a:ext cx="4516560" cy="3387600"/>
          </a:xfrm>
          <a:prstGeom prst="rect">
            <a:avLst/>
          </a:prstGeom>
          <a:ln w="0">
            <a:noFill/>
          </a:ln>
        </p:spPr>
      </p:sp>
      <p:sp>
        <p:nvSpPr>
          <p:cNvPr id="17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kills are critical to any negotiation – you have to understand what is important to the other person, you have to listen to them so that they feel important and guess what, when you do listen to them you learn about them and find out some things that tell you not only how to work with them, but also how many way you are alike or how you want many of the sam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writer # 4 –now I had very right to be impatient at this point – working on this for years – but this permit writer also felt it was his job to review what had gone on before – nothing was set – it all coul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he was interested in public health; learned he had just come off of the drinking water program – we talked about all these things – invited him to take a look at the system – listened and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de changes – but he learned about our system and began to feel comfor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kills – when we negotiate permits – we are dealing with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1440" y="677880"/>
            <a:ext cx="4516560" cy="3387600"/>
          </a:xfrm>
          <a:prstGeom prst="rect">
            <a:avLst/>
          </a:prstGeom>
          <a:ln w="0">
            <a:noFill/>
          </a:ln>
        </p:spPr>
      </p:sp>
      <p:sp>
        <p:nvSpPr>
          <p:cNvPr id="17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oes hand in hand with our other drivers – confidence and understanding who we are speaking with- but we also have to be effective and clear and convincing – all of our preparation in the development of the LTCP should help with ensuring that we have conviction about what we a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 we express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II permitting:  - SF system 100% of the CSO is captured and treated per the CSO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meant that the discharge from the system is not CSO – rather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ed CS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2FF23-91C7-4755-87E7-609E5A083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0A3E-BB68-46DA-8282-89515829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2D40B-FC3A-45B2-AEDC-7D65BE4F8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DB364-F610-4B3B-8507-852D53FDB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55DB0-E8D6-4D01-90CF-0C0030BFC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6E04D-B411-422F-8FB9-E4C01B3FC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0B528-9E6A-447B-87EE-A9723F1E3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0A4F-F400-412C-B8B4-9FCEAB3FF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66DC-4478-423F-BB15-A5750DDB8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08047-EF22-4CE3-924E-6AB57DEF4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0F4A-C9BF-497E-A1A5-CEA0B2D4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8F2F-5CDE-4362-9D89-4D3619E1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7D0F-CB3E-4A76-806C-7057D664B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F460-670E-4472-88B8-AE6E6B0A5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3E74D-E986-48A8-B904-947D8A542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6D666-7766-48D2-93BC-A8B348967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16EF4-1FCD-4999-9E7A-578A90490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FD5A9-54C4-4B47-A72D-0C7169B1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E07E2-3840-4802-B99B-DCA4FA1D3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CE2D-148D-4273-AE9E-81871DC5F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E89E-B86E-4EBB-A0BC-84799961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0BF6-AE14-465D-A3CF-DA340D735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9F19-6429-42E9-B6BB-99D1F634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B844-263A-42EA-9B5A-B60838CA3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C876-2F7F-4C93-8283-5A4569C972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E94E-8C95-46E2-BFEA-0C43060F4D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ve Drivers of Success</a:t>
            </a:r>
            <a:br>
              <a:rPr sz="4200"/>
            </a:br>
            <a:r>
              <a:rPr b="0" lang="en-US" sz="4200" spc="-1" strike="noStrike">
                <a:solidFill>
                  <a:srgbClr val="ffffff"/>
                </a:solidFill>
                <a:latin typeface="Arial"/>
              </a:rPr>
              <a:t> </a:t>
            </a:r>
            <a:r>
              <a:rPr b="0" lang="en-US" sz="2800" spc="-1" strike="noStrike">
                <a:solidFill>
                  <a:srgbClr val="ffffff"/>
                </a:solidFill>
                <a:latin typeface="Arial"/>
              </a:rPr>
              <a:t>How to Get the Phase II Permit that You Want</a:t>
            </a:r>
            <a:endParaRPr b="0" lang="en-US" sz="2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2209680" y="3998880"/>
            <a:ext cx="4724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36640" y="3352680"/>
            <a:ext cx="5349960" cy="18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               </a:t>
            </a:r>
            <a:r>
              <a:rPr b="0" lang="en-US" sz="2800" spc="-1" strike="noStrike">
                <a:solidFill>
                  <a:srgbClr val="6666cc"/>
                </a:solidFill>
                <a:latin typeface="Arial"/>
              </a:rPr>
              <a:t>Michele  P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r>
              <a:rPr b="0" lang="en-US" sz="2400" spc="-1" strike="noStrike">
                <a:solidFill>
                  <a:srgbClr val="6666cc"/>
                </a:solidFill>
                <a:latin typeface="Arial"/>
              </a:rPr>
              <a:t>NACWA/WWP CSO Confer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cc"/>
                </a:solidFill>
                <a:latin typeface="Arial"/>
              </a:rPr>
              <a:t>                            </a:t>
            </a:r>
            <a:r>
              <a:rPr b="0" lang="en-US" sz="1800" spc="-1" strike="noStrike">
                <a:solidFill>
                  <a:srgbClr val="6666cc"/>
                </a:solidFill>
                <a:latin typeface="Arial"/>
              </a:rPr>
              <a:t>June 1-2,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cc"/>
                </a:solidFill>
                <a:latin typeface="Arial"/>
              </a:rPr>
              <a:t>                                </a:t>
            </a:r>
            <a:r>
              <a:rPr b="0" lang="en-US" sz="1800" spc="-1" strike="noStrike">
                <a:solidFill>
                  <a:srgbClr val="6666cc"/>
                </a:solidFill>
                <a:latin typeface="Arial"/>
              </a:rPr>
              <a:t>Chicago, 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adership Skills</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e and inspire to higher levels of achiev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husiastic and Positive</a:t>
            </a:r>
            <a:endParaRPr b="0" lang="en-US" sz="3200" spc="-1" strike="noStrike">
              <a:solidFill>
                <a:srgbClr val="000000"/>
              </a:solidFill>
              <a:latin typeface="Arial"/>
            </a:endParaRPr>
          </a:p>
        </p:txBody>
      </p:sp>
      <p:sp>
        <p:nvSpPr>
          <p:cNvPr id="123" name=""/>
          <p:cNvSpPr/>
          <p:nvPr/>
        </p:nvSpPr>
        <p:spPr>
          <a:xfrm>
            <a:off x="822240" y="4532400"/>
            <a:ext cx="6721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cc"/>
                </a:solidFill>
                <a:latin typeface="Arial"/>
              </a:rPr>
              <a:t>People cannot be managed. Inventories can be managed, but people must be led.</a:t>
            </a:r>
            <a:br>
              <a:rPr sz="2400"/>
            </a:br>
            <a:r>
              <a:rPr b="0" i="1" lang="en-US" sz="2400" spc="-1" strike="noStrike">
                <a:solidFill>
                  <a:srgbClr val="6666cc"/>
                </a:solidFill>
                <a:latin typeface="Arial"/>
              </a:rPr>
              <a:t>                                         H. Ross Pero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titude</a:t>
            </a: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and Constructive Attitude in the face of Challeng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and Directed on Your Specific Goal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ront and Solve Problem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If we did all the things we are capable of doing we would literally astound ourselv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                              </a:t>
            </a:r>
            <a:r>
              <a:rPr b="0" lang="en-US" sz="2800" spc="-1" strike="noStrike">
                <a:solidFill>
                  <a:srgbClr val="6666cc"/>
                </a:solidFill>
                <a:latin typeface="Arial"/>
              </a:rPr>
              <a:t>Thomas Edison</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hase II Permits Under the CSO Policy and Program</a:t>
            </a:r>
            <a:endParaRPr b="0" lang="en-US" sz="3800" spc="-1" strike="noStrike">
              <a:solidFill>
                <a:srgbClr val="ffffff"/>
              </a:solidFill>
              <a:latin typeface="Arial"/>
            </a:endParaRPr>
          </a:p>
        </p:txBody>
      </p:sp>
      <p:pic>
        <p:nvPicPr>
          <p:cNvPr id="127" name="" descr=""/>
          <p:cNvPicPr/>
          <p:nvPr/>
        </p:nvPicPr>
        <p:blipFill>
          <a:blip r:embed="rId1"/>
          <a:stretch/>
        </p:blipFill>
        <p:spPr>
          <a:xfrm>
            <a:off x="5105520" y="3767040"/>
            <a:ext cx="3124080" cy="2149560"/>
          </a:xfrm>
          <a:prstGeom prst="rect">
            <a:avLst/>
          </a:prstGeom>
          <a:ln w="0">
            <a:noFill/>
          </a:ln>
        </p:spPr>
      </p:pic>
      <p:sp>
        <p:nvSpPr>
          <p:cNvPr id="128" name=""/>
          <p:cNvSpPr/>
          <p:nvPr/>
        </p:nvSpPr>
        <p:spPr>
          <a:xfrm>
            <a:off x="669960" y="1387440"/>
            <a:ext cx="710244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Phase II permits are to implement the LTCP includ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C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ative requirements for LTC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quality based effluent limits – stated as performance standar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e use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flow to T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nstruct Monitor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pe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PA Clear About What They Want</a:t>
            </a:r>
            <a:endParaRPr b="0" lang="en-US" sz="38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O Policy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 Writer Guida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and Policy Mem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ends to splinter the 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nsion Between Enforcement and Program Office </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CSO Policy Allow for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specific natur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d approach and tim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ffordability</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at extent – that’s the r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tinued Implementation of NMCs</a:t>
            </a:r>
            <a:endParaRPr b="0" lang="en-US" sz="3800" spc="-1" strike="noStrike">
              <a:solidFill>
                <a:srgbClr val="ffffff"/>
              </a:solidFill>
              <a:latin typeface="Arial"/>
            </a:endParaRPr>
          </a:p>
        </p:txBody>
      </p:sp>
      <p:pic>
        <p:nvPicPr>
          <p:cNvPr id="134" name="" descr=""/>
          <p:cNvPicPr/>
          <p:nvPr/>
        </p:nvPicPr>
        <p:blipFill>
          <a:blip r:embed="rId1"/>
          <a:srcRect l="8027" t="3676" r="2820" b="2576"/>
          <a:stretch/>
        </p:blipFill>
        <p:spPr>
          <a:xfrm>
            <a:off x="3733920" y="2082960"/>
            <a:ext cx="3504960" cy="2301840"/>
          </a:xfrm>
          <a:prstGeom prst="rect">
            <a:avLst/>
          </a:prstGeom>
          <a:ln w="0">
            <a:noFill/>
          </a:ln>
        </p:spPr>
      </p:pic>
      <p:pic>
        <p:nvPicPr>
          <p:cNvPr id="135" name="" descr=""/>
          <p:cNvPicPr/>
          <p:nvPr/>
        </p:nvPicPr>
        <p:blipFill>
          <a:blip r:embed="rId2"/>
          <a:stretch/>
        </p:blipFill>
        <p:spPr>
          <a:xfrm>
            <a:off x="914400" y="2708280"/>
            <a:ext cx="3276720" cy="2981160"/>
          </a:xfrm>
          <a:prstGeom prst="rect">
            <a:avLst/>
          </a:prstGeom>
          <a:ln w="0">
            <a:noFill/>
          </a:ln>
        </p:spPr>
      </p:pic>
      <p:pic>
        <p:nvPicPr>
          <p:cNvPr id="136" name="" descr=""/>
          <p:cNvPicPr/>
          <p:nvPr/>
        </p:nvPicPr>
        <p:blipFill>
          <a:blip r:embed="rId3"/>
          <a:stretch/>
        </p:blipFill>
        <p:spPr>
          <a:xfrm>
            <a:off x="5029200" y="4114800"/>
            <a:ext cx="2971800" cy="2038320"/>
          </a:xfrm>
          <a:prstGeom prst="rect">
            <a:avLst/>
          </a:prstGeom>
          <a:ln w="0">
            <a:noFill/>
          </a:ln>
        </p:spPr>
      </p:pic>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ater Quality Based Effluent Limits Stated as Performance Standard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umption or Demonstration Approach defines what these will b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nded to be numerical water quality standar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5159520" y="3200400"/>
            <a:ext cx="215568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hedule</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Button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in Permits or </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in Enforceable Order</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rder vs Federal Consent Decree</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ions Report - 2005</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6, 2003 EPA Memo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 Decrees required</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Decre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7162920" y="1905120"/>
            <a:ext cx="1371600" cy="37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 of Memo - LTCP </a:t>
            </a:r>
            <a:endParaRPr b="0" lang="en-US" sz="4200" spc="-1" strike="noStrike">
              <a:solidFill>
                <a:srgbClr val="ffffff"/>
              </a:solidFill>
              <a:latin typeface="Arial"/>
            </a:endParaRPr>
          </a:p>
        </p:txBody>
      </p:sp>
      <p:sp>
        <p:nvSpPr>
          <p:cNvPr id="145" name="PlaceHolder 2"/>
          <p:cNvSpPr>
            <a:spLocks noGrp="1"/>
          </p:cNvSpPr>
          <p:nvPr>
            <p:ph/>
          </p:nvPr>
        </p:nvSpPr>
        <p:spPr>
          <a:xfrm>
            <a:off x="650880" y="1447920"/>
            <a:ext cx="7772400" cy="4333680"/>
          </a:xfrm>
          <a:prstGeom prst="rect">
            <a:avLst/>
          </a:prstGeom>
          <a:noFill/>
          <a:ln w="0">
            <a:noFill/>
          </a:ln>
        </p:spPr>
        <p:txBody>
          <a:bodyPr lIns="90000" rIns="90000" tIns="46800" bIns="46800" anchor="t">
            <a:normAutofit fontScale="99000"/>
          </a:bodyPr>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 </a:t>
            </a:r>
            <a:endParaRPr b="0" lang="en-US" sz="28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plan</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schedule</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circumstances =20 year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criteria and quantified performance of facilitie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operate and maintain all facilities constructed</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nstruction monitoring - RP</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 descr=""/>
          <p:cNvPicPr/>
          <p:nvPr/>
        </p:nvPicPr>
        <p:blipFill>
          <a:blip r:embed="rId1"/>
          <a:srcRect l="4687" t="14843" r="5079" b="19444"/>
          <a:stretch/>
        </p:blipFill>
        <p:spPr>
          <a:xfrm>
            <a:off x="5257800" y="1035000"/>
            <a:ext cx="3124080" cy="2165400"/>
          </a:xfrm>
          <a:prstGeom prst="rect">
            <a:avLst/>
          </a:prstGeom>
          <a:ln w="9360">
            <a:solidFill>
              <a:srgbClr val="996666"/>
            </a:solidFill>
            <a:miter/>
          </a:ln>
          <a:effectLst>
            <a:outerShdw dist="89604" dir="2700000" blurRad="0" rotWithShape="0">
              <a:srgbClr val="6666cc"/>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ost Construction Monitoring</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A Lawyers want this to be sufficient to determine reasonable potentia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consistent with what the LTCP states will be the resul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 with WQs part of</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pproach </a:t>
            </a:r>
            <a:endParaRPr b="0" lang="en-US" sz="3200" spc="-1" strike="noStrike">
              <a:solidFill>
                <a:srgbClr val="000000"/>
              </a:solidFill>
              <a:latin typeface="Arial"/>
            </a:endParaRPr>
          </a:p>
        </p:txBody>
      </p:sp>
      <p:pic>
        <p:nvPicPr>
          <p:cNvPr id="149" name="" descr=""/>
          <p:cNvPicPr/>
          <p:nvPr/>
        </p:nvPicPr>
        <p:blipFill>
          <a:blip r:embed="rId1"/>
          <a:stretch/>
        </p:blipFill>
        <p:spPr>
          <a:xfrm>
            <a:off x="6477120" y="3733920"/>
            <a:ext cx="18288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ve Drivers of Success</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a:t>
            </a:r>
            <a:endParaRPr b="0" lang="en-US" sz="3200" spc="-1" strike="noStrike">
              <a:solidFill>
                <a:srgbClr val="000000"/>
              </a:solidFill>
              <a:latin typeface="Arial"/>
            </a:endParaRPr>
          </a:p>
        </p:txBody>
      </p:sp>
      <p:pic>
        <p:nvPicPr>
          <p:cNvPr id="104" name="" descr=""/>
          <p:cNvPicPr/>
          <p:nvPr/>
        </p:nvPicPr>
        <p:blipFill>
          <a:blip r:embed="rId1"/>
          <a:stretch/>
        </p:blipFill>
        <p:spPr>
          <a:xfrm>
            <a:off x="5195880" y="1600200"/>
            <a:ext cx="333864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velop a Fact Sheet</a:t>
            </a:r>
            <a:endParaRPr b="0" lang="en-US" sz="42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side Permit Fact Sheet 76 Pages Long</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wed Permit – 24 Pages of Findings which were based on the original Fact Shee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technical facts and significant factual legal, methodological and policy ques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ther Things Will Come Up</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Wet Weath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ischarged fr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trol structur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CSO or CSS Effluent??</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remova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ted bypass consistent with Poli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ite-specific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6095880" y="15238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t Weather Day</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aneous influent exceeds 110 mgd</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6666cc"/>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influent flow concentration of TSS and BOD is less than 10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6666cc"/>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ations in the storage facilities exceeds 100 in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flipH="1">
            <a:off x="7086240" y="4038480"/>
            <a:ext cx="167652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Themes Demand Application of  Five Drivers of for Success</a:t>
            </a:r>
            <a:endParaRPr b="0" lang="en-US" sz="3200" spc="-1" strike="noStrike">
              <a:solidFill>
                <a:srgbClr val="ffffff"/>
              </a:solidFill>
              <a:latin typeface="Arial"/>
            </a:endParaRPr>
          </a:p>
        </p:txBody>
      </p:sp>
      <p:graphicFrame>
        <p:nvGraphicFramePr>
          <p:cNvPr id="159" name=""/>
          <p:cNvGraphicFramePr/>
          <p:nvPr/>
        </p:nvGraphicFramePr>
        <p:xfrm>
          <a:off x="609480" y="1371600"/>
          <a:ext cx="7772400" cy="4709880"/>
        </p:xfrm>
        <a:graphic>
          <a:graphicData uri="http://schemas.openxmlformats.org/drawingml/2006/table">
            <a:tbl>
              <a:tblPr/>
              <a:tblGrid>
                <a:gridCol w="1295640"/>
                <a:gridCol w="1447560"/>
                <a:gridCol w="990720"/>
                <a:gridCol w="1371600"/>
                <a:gridCol w="1447920"/>
                <a:gridCol w="1218960"/>
              </a:tblGrid>
              <a:tr h="96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Confid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People 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Communi-cation 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Leadershi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titu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Site Specif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lexibility and Cho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Phased Approa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fford-abil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965240" y="2666880"/>
            <a:ext cx="588348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Michele Pl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Cleanwater Consult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510 547-1174</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Mpla-cleanwater@comcast.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ccess for Phase II Permit</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Vision for this Permit</a:t>
            </a:r>
            <a:endParaRPr b="0" lang="en-US" sz="3200" spc="-1" strike="noStrike">
              <a:solidFill>
                <a:srgbClr val="000000"/>
              </a:solidFill>
              <a:latin typeface="Arial"/>
            </a:endParaRPr>
          </a:p>
        </p:txBody>
      </p:sp>
      <p:pic>
        <p:nvPicPr>
          <p:cNvPr id="107" name="" descr=""/>
          <p:cNvPicPr/>
          <p:nvPr/>
        </p:nvPicPr>
        <p:blipFill>
          <a:blip r:embed="rId1"/>
          <a:stretch/>
        </p:blipFill>
        <p:spPr>
          <a:xfrm>
            <a:off x="3124080" y="2562120"/>
            <a:ext cx="2819520" cy="23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sio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hance the quality of life and sustainable economic growth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mit that demonstrates compliance with the CWA, CSO Policy and other local requirements under an achievable schedu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hase II Permit Starts with the Development of the LTCT </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d the System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specif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e Us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s between Presumption and Demonstratio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quality based effluent limits that are performance based</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Construction Monito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1"/>
          <a:stretch/>
        </p:blipFill>
        <p:spPr>
          <a:xfrm flipH="1">
            <a:off x="5791320" y="1295280"/>
            <a:ext cx="2619360" cy="21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velop A Permit to Reflect</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Drivers of Succes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Confidence</a:t>
            </a:r>
            <a:r>
              <a:rPr b="0" lang="en-US" sz="2800" spc="-1" strike="noStrike">
                <a:solidFill>
                  <a:srgbClr val="000000"/>
                </a:solidFill>
                <a:latin typeface="Arial"/>
              </a:rPr>
              <a:t> – LTCP is correct</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People Skills-</a:t>
            </a:r>
            <a:r>
              <a:rPr b="0" lang="en-US" sz="2800" spc="-1" strike="noStrike">
                <a:solidFill>
                  <a:srgbClr val="000000"/>
                </a:solidFill>
                <a:latin typeface="Arial"/>
              </a:rPr>
              <a:t> your permit writers understand and agree with plan</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Communication</a:t>
            </a:r>
            <a:r>
              <a:rPr b="0" lang="en-US" sz="2800" spc="-1" strike="noStrike">
                <a:solidFill>
                  <a:srgbClr val="000000"/>
                </a:solidFill>
                <a:latin typeface="Arial"/>
              </a:rPr>
              <a:t> – </a:t>
            </a:r>
            <a:r>
              <a:rPr b="1" lang="en-US" sz="2800" spc="-1" strike="noStrike">
                <a:solidFill>
                  <a:srgbClr val="00cc00"/>
                </a:solidFill>
                <a:latin typeface="Arial"/>
              </a:rPr>
              <a:t>yes</a:t>
            </a:r>
            <a:r>
              <a:rPr b="0" lang="en-US" sz="2800" spc="-1" strike="noStrike">
                <a:solidFill>
                  <a:srgbClr val="00cc00"/>
                </a:solidFill>
                <a:latin typeface="Arial"/>
              </a:rPr>
              <a:t> </a:t>
            </a:r>
            <a:r>
              <a:rPr b="0" lang="en-US" sz="2800" spc="-1" strike="noStrike">
                <a:solidFill>
                  <a:srgbClr val="000000"/>
                </a:solidFill>
                <a:latin typeface="Arial"/>
              </a:rPr>
              <a:t>rather than no</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Leadership</a:t>
            </a:r>
            <a:r>
              <a:rPr b="0" lang="en-US" sz="2800" spc="-1" strike="noStrike">
                <a:solidFill>
                  <a:srgbClr val="000000"/>
                </a:solidFill>
                <a:latin typeface="Arial"/>
              </a:rPr>
              <a:t> – how you focused on your vision and be flexible to other issues</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Attitude</a:t>
            </a:r>
            <a:r>
              <a:rPr b="0" lang="en-US" sz="2800" spc="-1" strike="noStrike">
                <a:solidFill>
                  <a:srgbClr val="000000"/>
                </a:solidFill>
                <a:latin typeface="Arial"/>
              </a:rPr>
              <a:t> – positive about benefit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fidence </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in Your Own Abilitie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Knowledge, Preparation and Skill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eds Coura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Self confidence is the first requisite to great undertakings</a:t>
            </a: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                                              </a:t>
            </a:r>
            <a:r>
              <a:rPr b="0" lang="en-US" sz="2800" spc="-1" strike="noStrike">
                <a:solidFill>
                  <a:srgbClr val="6666cc"/>
                </a:solidFill>
                <a:latin typeface="Arial"/>
              </a:rPr>
              <a:t>Samuel Johnso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ople Skill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the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a No into a </a:t>
            </a:r>
            <a:r>
              <a:rPr b="0" lang="en-US" sz="3200" spc="-1" strike="noStrike">
                <a:solidFill>
                  <a:srgbClr val="00cc00"/>
                </a:solidFill>
                <a:latin typeface="Arial"/>
              </a:rPr>
              <a:t>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Talk to a man about himself and he will listen for hou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                                    </a:t>
            </a:r>
            <a:r>
              <a:rPr b="0" lang="en-US" sz="2800" spc="-1" strike="noStrike">
                <a:solidFill>
                  <a:srgbClr val="6666cc"/>
                </a:solidFill>
                <a:latin typeface="Arial"/>
              </a:rPr>
              <a:t>Benjamin Disrael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Your idea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ing</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cc"/>
                </a:solidFill>
                <a:latin typeface="Arial"/>
              </a:rPr>
              <a:t>We must have a deep and abiding desire to communicate our convictions and transfer our feelings to our listener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cc"/>
                </a:solidFill>
                <a:latin typeface="Arial"/>
              </a:rPr>
              <a:t>                                  </a:t>
            </a:r>
            <a:r>
              <a:rPr b="0" lang="en-US" sz="2400" spc="-1" strike="noStrike">
                <a:solidFill>
                  <a:srgbClr val="6666cc"/>
                </a:solidFill>
                <a:latin typeface="Arial"/>
              </a:rPr>
              <a:t>Dale Carnegi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cc"/>
                </a:solidFill>
                <a:latin typeface="Arial"/>
              </a:rPr>
              <a:t>           </a:t>
            </a:r>
            <a:endParaRPr b="0" lang="en-US" sz="24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r>
              <a:rPr b="0" lang="en-US" sz="1800" spc="-1" strike="noStrike">
                <a:solidFill>
                  <a:srgbClr val="6666cc"/>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18:20:38Z</dcterms:created>
  <dc:creator>Michele Pla</dc:creator>
  <dc:description/>
  <dc:language>en-US</dc:language>
  <cp:lastModifiedBy>Michele Pla</cp:lastModifiedBy>
  <dcterms:modified xsi:type="dcterms:W3CDTF">2006-06-01T12:57:48Z</dcterms:modified>
  <cp:revision>35</cp:revision>
  <dc:subject/>
  <dc:title>Five Drivers of Success  How to Get the Phase II Permit that You Want</dc:title>
</cp:coreProperties>
</file>