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6E4-0A70-461B-8EA2-ACC1B3AA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D0B-4473-448B-A276-4CA05DBD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F7E-474F-4180-BDDC-5E5DDB73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64F-113C-4D2B-AA0B-4F98496D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E4D-E0F3-47C4-9089-FBBF8EE8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5D5C-3A64-4616-A70F-FA0B0CB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DFBB-8DA2-4D33-A5EF-B6B0119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D9A-80F8-4BEF-BD0A-0E5EDC5D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4038-6230-4E4C-8A10-C62B6AF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5BF9-335A-4C4F-9CAA-DF92141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20B-A7A5-4FA5-806A-A2F824D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0BB-2B6D-49C9-A4B1-0BECDB5C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F5D4-5F16-442B-B246-18B5AF8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9C9A-ED84-4020-BB48-B44C1E5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2414-B9A0-4C85-B68F-16A5405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5F5-D5E7-4FE0-8B45-CFDECA29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AF97-8BC4-429A-8D8C-4E8E37A0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29E-B690-4599-A054-9DD7009F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C1D-96BB-4B85-8FA9-2838192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012-F6F2-4AFE-9CC9-F7BBAB8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656-97FC-42DB-A239-EAA7923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206-89C9-4E73-A98C-0F9AC26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72F-7D3E-402B-8258-190B6CD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435-B0CC-45E5-8338-1E38174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C7B-47F0-48E8-9F15-A1C1E09B2A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877-E6D4-459B-B94A-5A24A23648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eb2.westlaw.com/find/default.wl?DB=1000546&amp;DocName=33USCAS1314&amp;FindType=L&amp;ReferencePositionType=T&amp;ReferencePosition=SP%3Bd86d0000be040&amp;AP=&amp;mt=Westlaw&amp;fn=_top&amp;sv=Split&amp;vr=2.0&amp;rs=WLW6.04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s and TM</a:t>
            </a: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Friends Of The Earth v. EPA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Does “daily” mean “daily”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257440" y="5028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Shee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eat language for CSO/storm water interests:  even a federal judge understood that people should not expect perfect WQS compliance after “disruptive storm event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inion shows that federal judges may well be more reasonable on level of control issues than special interest groups or certain agency personn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s the first decision to interpret Wet Weather Water Quality Act (402(q)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need hardly be said that when Congress acts to amend a statute, [courts] presume it intends its amendment to have real and substantive effect.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upported the view that the Policy comprehensively addresses CSO requirements to the exclusion of general provisions elsewhere in the Statute (such as section 303(d) for TMDL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C Court of Appeals Steps up to Bat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oral argument – within minutes – “what happens if we vacate?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rst paragraph of opin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“Daily means daily, nothing els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ctors make “daily” roun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ive us this day our “daily bread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6:11 (King Ja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-- no sympathy for EPA because the problem is of their own mak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78 regulation – “All pollutants are suitable for the calculation of TMDL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noted that EPA now argues that TSS, BOD and nutrients are not suit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aightforward regulatory solution” to amend EPA’s reg and take these pollutants out of the TMDL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lysis of 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xt day editorial in Washington Post – “More Lawlessness at EPA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es this fit a pattern for EP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d the Court get it righ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bsequent Congressional action – no weight giv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2’s not addressed – only CSO Poli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es This Mea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hing? (The work-aroun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hange calculations – all statistical work already implicitly 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stringent?  Daily limits will be higher than annual, seasonal, monthl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f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g troub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id Enviros Ge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illed two TMDLs for the Anacostia R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force EPA to remove numerous pollutants from TMDL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result in daily loads being LESS stringent than annual, monthly, season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dermines all non-daily TMDLs out the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at  a “win”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acts of Decis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MDLs affecting CSOs and stormwa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esapeake Bay Nutrient requir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average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ulf of Mex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utrient criteria implem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n-daily TMDLs and State TMDL progra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es EPA think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s continued legal options in this case are not likely to succ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sidering issuing guidance that proposes a “work-around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ver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courts treated this issue prior to the DC Circuit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decision by the DC Circuit Cou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implications and impacts of the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re will this end up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otential Sol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p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udicial Options – Rehearing &amp; Certiorari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gislative Op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gulatory Op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ve with the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Fix – Option 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mendment to the CWA to have TMLs instead of TMDL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ove daily from “TMDL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w have it say 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ption A Continued: 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 New Langua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ch loads shall be determined using an appropriate duration taking into account the (1) nature and sources of the pollutant and (2) the site-specific circumstances of the water of concer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otential durations include but are not limited to daily, weekly, monthly, seasonal, and annually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uch load shall be established at a level necessary to implement the applicable water quality standards with seasonal variations and a margin of safety which takes into account any lack of knowledge concerning the relationship between effluent limitations and water qua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Option 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five words to the Clean Water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“daily” ad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, monthly, seasonal or annua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Fix – Option 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ach State shall establish for the waters identified in paragraph (1)(A) of this subsection, and in accordance with the priority ranking, the total maximum dail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eekly, monthly, seasonal or an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ads, for those pollutants which the Administrator identifies under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ection 1314(a)(2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of this title as suitable for such calculation. Such load shall be established at a level necessary to implement the applicable water quality standards with seasonal variations and a margin of safety which takes into account any lack of knowledge concerning the relationship between effluent limitations and water qua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udicial O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for rehearing to the DC Circu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for certiorari to the Supreme Cou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ory Op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to EPA to amend its regul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quest – declare that these pollutants are not suitable for TMD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EPA declines, go back to Court of Appeals where EPA extensively argued that daily loads are not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ve with 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mbrace EPA’s view that daily loads are  less string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Question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y of the Issu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PA interpreta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85 rulemaking broadly defining TMDL to include non-daily “expression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ndreds of non-daily TMD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grams based on annual averages, like the Chesapeake Ba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istory of the Issu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or to the DC Circuit decision – three other courts considered this issu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Court – Southern District of NY (May,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Court of Appeals – Second Circuit (October, 2001) – argument that “daily” means “daily” is “absurd” given the structure of the C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Court – the District of Columbia (November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ter Friends of the Earth (FO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acostia River in the District of Columbi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shington Nationals new baseball stadium to sit on the r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parties: EPA, DC WA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mici – NACWA and the Wet Weather Partnershi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42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Case - Backgrou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E challenged two TMDL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D and TSS developed by the District and approved by EP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mary regulated sources – DC CSOs and stormwa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E argued -- the TMDLs violate the CWA because they did not set </a:t>
            </a: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dail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loads, but rather set seasonal (TSS) and annual (BOD) loads.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1248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t Weather Partnership along with NACWA and WASA came up with the winning argument: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daily may be clear within Section 303(d),       but not when 303(d) is considered wi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2(p)(stormwater MEP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2(q)(annual average approach for CS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District Court Decision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recognized: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f municipalities cannot calculate non-daily TMDLs for their sewage overflow programs, they cannot implement EPA’s CSO Poli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lectured the plaintiff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ision-making process does not have to yield to the unlikely aquatic enthusiast who will not tolerate anything less than immediate enjoyment of river waters after disruptive storm event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30T19:13:57Z</dcterms:modified>
  <cp:revision>37</cp:revision>
  <dc:subject/>
  <dc:title>LITIGATION UPDATE MAMWA JANUARY 26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7106411</vt:r8>
  </property>
  <property fmtid="{D5CDD505-2E9C-101B-9397-08002B2CF9AE}" pid="3" name="_AuthorEmail">
    <vt:lpwstr>paul@aqualaw.com</vt:lpwstr>
  </property>
  <property fmtid="{D5CDD505-2E9C-101B-9397-08002B2CF9AE}" pid="4" name="_AuthorEmailDisplayName">
    <vt:lpwstr>Calamita, Paul</vt:lpwstr>
  </property>
  <property fmtid="{D5CDD505-2E9C-101B-9397-08002B2CF9AE}" pid="5" name="_EmailSubject">
    <vt:lpwstr/>
  </property>
</Properties>
</file>