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185-4DC4-4A33-9105-593BEF31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2CD-6AA3-4657-9B55-E07E8984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398-1724-415F-941A-0BBB2DAC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9B0-6AEB-4A59-AFD3-51D9F7A9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29C0-9430-42EC-8098-6304BCE5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366B-AE3A-478D-AB92-E06EFB3C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CF5C-0ECA-441D-B432-8DDEB1C9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330A-1502-4B67-A990-0326E765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F570-B4F5-42EF-B09A-3565DC7C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E7E2-5849-4EE0-B8BE-B0B56A0C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1D19-22DD-4CA1-A26B-FF1E0E8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032-0259-428F-85AC-3FD54121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A540-132B-4D06-8892-A7AE627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1265-6F93-4528-A681-C2DDC8C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F4B0-181E-4CC9-B5D5-178D16C1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E7D5-15B5-41D6-8E5C-77C83EE4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FB58-1DD5-4E4C-B3E5-344C1243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4B5-7DA8-45CE-855A-3CFC3ECF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79F-1295-4F93-BB70-E30F09E0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091-7B8D-44BD-8CF0-A2EC6097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344-F824-4341-BF45-8FA7421F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B45-21E5-4EDC-B068-F175467D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1C4-4395-45AA-A302-610A74F1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948-5567-4C97-B8E5-964EDB9F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6EF7-0A6C-42A7-ADD3-EDBD164B78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060B-A074-430F-96DA-F87C4E4FFA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eb2.westlaw.com/find/default.wl?DB=1000546&amp;DocName=33USCAS1314&amp;FindType=L&amp;ReferencePositionType=T&amp;ReferencePosition=SP%3Bd86d0000be040&amp;AP=&amp;mt=Westlaw&amp;fn=_top&amp;sv=Split&amp;vr=2.0&amp;rs=WLW6.04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99692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SOs and TM</a:t>
            </a: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D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s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Friends Of The Earth v. EPA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Does “daily” mean “daily”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257440" y="5028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Shee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qua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eat language for CSO/storm water interests:  even a federal judge understood that people should not expect perfect WQS compliance after “disruptive storm events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pinion shows that federal judges may well be more reasonable on level of control issues than special interest groups or certain agency personn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848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as the first decision to interpret Wet Weather Water Quality Act (402(q)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need hardly be said that when Congress acts to amend a statute, [courts] presume it intends its amendment to have real and substantive effect.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upported the view that the Policy comprehensively addresses CSO requirements to the exclusion of general provisions elsewhere in the Statute (such as section 303(d) for TMDL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C Court of Appeals Steps up to Bat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oral argument – within minutes – “what happens if we vacate?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rst paragraph of opin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“Daily means daily, nothing els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ctors make “daily” roun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ive us this day our “daily bread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hew 6:11 (King Ja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urt -- no sympathy for EPA because the problem is of their own mak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78 regulation – “All pollutants are suitable for the calculation of TMDLs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urt noted that EPA now argues that TSS, BOD and nutrients are not suitab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raightforward regulatory solution” to amend EPA’s reg and take these pollutants out of the TMDL progr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alysis of the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xt day editorial in Washington Post – “More Lawlessness at EPA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es this fit a pattern for EPA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id the Court get it righ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bsequent Congressional action – no weight give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402’s not addressed – only CSO Polic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oes This Mea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hing? (The work-aroun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change calculations – all statistical work already implicitly 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ss stringent?  Daily limits will be higher than annual, seasonal, monthl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f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ig troub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id Enviros Get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illed two TMDLs for the Anacostia Riv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y force EPA to remove numerous pollutants from TMDL progr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y result in daily loads being LESS stringent than annual, monthly, season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dermines all non-daily TMDLs out the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that  a “win”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acts of Decis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MDLs affecting CSOs and stormwat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esapeake Bay Nutrient require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average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ulf of Mexic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utrient criteria implement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n-daily TMDLs and State TMDL progra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oes EPA think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s continued legal options in this case are not likely to succ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sidering issuing guidance that proposes a “work-around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ver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courts treated this issue prior to the DC Circuit deci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decision by the DC Circuit Cour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implications and impacts of the deci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ere will this end up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otential Solu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p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Judicial Options – Rehearing &amp; Certiorari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gislative Op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gulatory Op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ve with the deci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gislative Fix – Option 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mendment to the CWA to have TMLs instead of TMDL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move daily from “TMDL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w have it say 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ption A Continued: 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d New Langua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uch loads shall be determined using an appropriate duration taking into account the (1) nature and sources of the pollutant and (2) the site-specific circumstances of the water of concer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otential durations include but are not limited to daily, weekly, monthly, seasonal, and annually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Such load shall be established at a level necessary to implement the applicable water quality standards with seasonal variations and a margin of safety which takes into account any lack of knowledge concerning the relationship between effluent limitations and water quali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gislative Option 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five words to the Clean Water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“daily” ad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ly, monthly, seasonal or annua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gislative Fix – Option B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ach State shall establish for the waters identified in paragraph (1)(A) of this subsection, and in accordance with the priority ranking, the total maximum daily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eekly, monthly, seasonal or annu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oads, for those pollutants which the Administrator identifies under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section 1314(a)(2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of this title as suitable for such calculation. Such load shall be established at a level necessary to implement the applicable water quality standards with seasonal variations and a margin of safety which takes into account any lack of knowledge concerning the relationship between effluent limitations and water quali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udicial Op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tition for rehearing to the DC Circu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tition for certiorari to the Supreme Cour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ulatory Op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tition to EPA to amend its regula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quest – declare that these pollutants are not suitable for TMD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EPA declines, go back to Court of Appeals where EPA extensively argued that daily loads are not po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ve with the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mbrace EPA’s view that daily loads are  less string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286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Questions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story of the Issu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PA interpretation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85 rulemaking broadly defining TMDL to include non-daily “expressions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undreds of non-daily TMD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grams based on annual averages, like the Chesapeake Ba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History of the Issu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ior to the DC Circuit decision – three other courts considered this issue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District Court – Southern District of NY (May, 2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Court of Appeals – Second Circuit (October, 2001) – argument that “daily” means “daily” is “absurd” given the structure of the CW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District Court – the District of Columbia (November,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ter Friends of the Earth (FO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Anacostia River in the District of Columbi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ashington Nationals new baseball stadium to sit on the riv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parties: EPA, DC WA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mici – NACWA and the Wet Weather Partnershi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421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Case - Backgrou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E challenged two TMDL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OD and TSS developed by the District and approved by EP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imary regulated sources – DC CSOs and stormwat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E argued -- the TMDLs violate the CWA because they did not set </a:t>
            </a:r>
            <a:r>
              <a:rPr b="1" i="1" lang="en-US" sz="3000" spc="-1" strike="noStrike">
                <a:solidFill>
                  <a:srgbClr val="ffffff"/>
                </a:solidFill>
                <a:latin typeface="Tahoma"/>
              </a:rPr>
              <a:t>dail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loads, but rather set seasonal (TSS) and annual (BOD) loads.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1248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t Weather Partnership along with NACWA and WASA came up with the winning argument: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daily may be clear within Section 303(d),       but not when 303(d) is considered wi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2(p)(stormwater MEP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2(q)(annual average approach for CSO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District Court Decision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urt recognized: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f municipalities cannot calculate non-daily TMDLs for their sewage overflow programs, they cannot implement EPA’s CSO Poli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District Court Dec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urt lectured the plaintiff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cision-making process does not have to yield to the unlikely aquatic enthusiast who will not tolerate anything less than immediate enjoyment of river waters after disruptive storm event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mmorel</cp:lastModifiedBy>
  <dcterms:modified xsi:type="dcterms:W3CDTF">2006-05-30T19:13:57Z</dcterms:modified>
  <cp:revision>37</cp:revision>
  <dc:subject/>
  <dc:title>LITIGATION UPDATE MAMWA JANUARY 26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57106411</vt:r8>
  </property>
  <property fmtid="{D5CDD505-2E9C-101B-9397-08002B2CF9AE}" pid="3" name="_AuthorEmail">
    <vt:lpwstr>paul@aqualaw.com</vt:lpwstr>
  </property>
  <property fmtid="{D5CDD505-2E9C-101B-9397-08002B2CF9AE}" pid="4" name="_AuthorEmailDisplayName">
    <vt:lpwstr>Calamita, Paul</vt:lpwstr>
  </property>
  <property fmtid="{D5CDD505-2E9C-101B-9397-08002B2CF9AE}" pid="5" name="_EmailSubject">
    <vt:lpwstr/>
  </property>
</Properties>
</file>