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15.wmf" ContentType="image/x-wmf"/>
  <Override PartName="/ppt/media/image1.wmf" ContentType="image/x-wmf"/>
  <Override PartName="/ppt/media/image5.wmf" ContentType="image/x-wmf"/>
  <Override PartName="/ppt/media/image6.png" ContentType="image/png"/>
  <Override PartName="/ppt/media/image14.wmf" ContentType="image/x-wmf"/>
  <Override PartName="/ppt/media/image9.wmf" ContentType="image/x-wmf"/>
  <Override PartName="/ppt/media/image2.png" ContentType="image/png"/>
  <Override PartName="/ppt/media/image10.wmf" ContentType="image/x-wmf"/>
  <Override PartName="/ppt/media/image4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1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435155-4AA9-4568-945E-609FE8B5FD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A73122-ED46-4335-833E-6161E8005F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558800" y="401760"/>
            <a:ext cx="3843360" cy="28828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568440" y="3692160"/>
            <a:ext cx="6202080" cy="3546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F960FE-6084-45FB-B640-EDEC7D0FA7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249200" y="722160"/>
            <a:ext cx="4815000" cy="36118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74880" y="4573080"/>
            <a:ext cx="5365440" cy="43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3E7BB9-B7C5-4C31-B290-72B9A499AA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49200" y="722160"/>
            <a:ext cx="4815000" cy="36118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74880" y="4573080"/>
            <a:ext cx="5365440" cy="43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74272-6F80-4B2A-8D40-7E280FA7D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F294C-43F9-432B-9E67-2606426CD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EA393-9C77-474E-854C-CE0A63265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B204B-9894-4895-9159-5DEFA08F3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A94D2-A8B3-4364-8B72-84481A445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2214A-A561-41A6-80A4-770DAE7DF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D3F91-8315-4562-8FFA-8C8AAAB47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14331-E420-49F5-938E-0CAB192F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C51D9-8094-4DA3-AEAF-BCCE52535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B9B09-7390-463A-A484-8B807478F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E2E31-28AC-41B1-9761-347C8A8D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69730-0DD5-45CA-A215-BF3CE852A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38152-511D-4EF3-AD44-CFC9FE18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63DCB-F694-4A48-9317-50DA05B7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F56C0-2B65-4AB1-9CB7-6CFAAB2E6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5DEFC-8A9C-4363-B118-45B3ADF66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20540-3D9B-4604-9001-6FEC76FEF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F8FA7-10E9-4380-B950-E6E3352BB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B35B2-38D2-42C8-9BB4-A26E3DAFD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0106B-354D-4985-97EF-593B54C68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DCE25-9631-4A16-A382-1650563AB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BF203-44B8-4DDB-BC22-5CC1F134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B9A00-E64C-4558-9C05-69B78670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8BD4E-F26C-4F84-825F-78AD8204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12184-3345-4899-9311-4CED1D5320E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45BE1-A49E-4882-9DD7-7823664D837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1143000"/>
            <a:ext cx="853416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Black"/>
              </a:rPr>
              <a:t>Indianapolis Approach to a Use Attainability Analysis</a:t>
            </a:r>
            <a:endParaRPr b="1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5238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odi Perras, Perras &amp; Associ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sentation 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CWA &amp; Wet Weather Partnership Worksh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icago, 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1, 200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032600" y="5022720"/>
            <a:ext cx="1943280" cy="1629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rcRect l="14367" t="7709" r="13059" b="6669"/>
          <a:stretch/>
        </p:blipFill>
        <p:spPr>
          <a:xfrm>
            <a:off x="165240" y="4095720"/>
            <a:ext cx="138744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57200" y="5486400"/>
            <a:ext cx="8153280" cy="7621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2895480"/>
            <a:ext cx="8229600" cy="7621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057400"/>
            <a:ext cx="8229600" cy="6094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Three UAA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 Factors Used</a:t>
            </a:r>
            <a:endParaRPr b="1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aturally occurring pollutants prevent attainment of the use; 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 Natural, ephemeral, intermittent, or low flow conditions or water levels  prevent the attainment of the uses, 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 Human-caused conditions or sources of pollution prevent the attainment of the use and cannot be remedied or would cause more damage than to leave in place.; 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Dams, diversions, or other types of hydrologic modifications preclu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use attainment; 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Physical natural features of the water body, unrelated to water quality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reclude attainment of aquatic life uses; 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Controls necessary to attain the use would cause substantial and widespread economic and social impa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Recreational Use is Unattainable During Large Storm Events</a:t>
            </a:r>
            <a:endParaRPr b="1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ring storm events that cause residual CSOs after LTCP implementation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ormwater will create high stream flows, making them unsafe for recre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CSO pollution sources will prevent attainment of recreational standards during &amp; after those events -- even if all CSOs were elimin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ols beyond the selected level of contro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ll not attain more days of recreational 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uld cause substantial and widespread social and economic impa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1219320"/>
            <a:ext cx="9144000" cy="56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73560" y="152280"/>
            <a:ext cx="778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Natural Intermittent Flow Cond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47920" y="380880"/>
            <a:ext cx="7238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ing: Instream peak flows are unsafe for recre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33520" y="938160"/>
            <a:ext cx="8369280" cy="57214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888360" y="649116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Arial"/>
              </a:rPr>
              <a:t>Stream M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-92160" y="4316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16200000">
            <a:off x="-642240" y="361620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Arial"/>
              </a:rPr>
              <a:t>Streamflow (cf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1357200"/>
            <a:ext cx="9144000" cy="5500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3560" y="0"/>
            <a:ext cx="778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Natural Intermittent Flow Cond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96280" y="685800"/>
            <a:ext cx="765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ing: Instream peak flows are unsafe for recre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rcRect l="0" t="6421" r="0" b="0"/>
          <a:stretch/>
        </p:blipFill>
        <p:spPr>
          <a:xfrm>
            <a:off x="152280" y="1308240"/>
            <a:ext cx="8674200" cy="55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6336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Human-caused Conditions or Sources</a:t>
            </a:r>
            <a:endParaRPr b="1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7" name=""/>
          <p:cNvSpPr/>
          <p:nvPr/>
        </p:nvSpPr>
        <p:spPr>
          <a:xfrm>
            <a:off x="843480" y="520560"/>
            <a:ext cx="7052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ing: Non-CSO sources prevent full attainment of 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0" y="1371600"/>
            <a:ext cx="9144000" cy="5689440"/>
            <a:chOff x="0" y="1371600"/>
            <a:chExt cx="9144000" cy="5689440"/>
          </a:xfrm>
        </p:grpSpPr>
        <p:pic>
          <p:nvPicPr>
            <p:cNvPr id="179" name="" descr=""/>
            <p:cNvPicPr/>
            <p:nvPr/>
          </p:nvPicPr>
          <p:blipFill>
            <a:blip r:embed="rId1"/>
            <a:srcRect l="0" t="9050" r="0" b="0"/>
            <a:stretch/>
          </p:blipFill>
          <p:spPr>
            <a:xfrm>
              <a:off x="0" y="1371600"/>
              <a:ext cx="9144000" cy="56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3870360" y="1523880"/>
              <a:ext cx="17683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514"/>
                  </a:solidFill>
                  <a:latin typeface="Arial"/>
                </a:rPr>
                <a:t>95% Captu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733920" y="1549440"/>
              <a:ext cx="2286000" cy="0"/>
            </a:xfrm>
            <a:prstGeom prst="line">
              <a:avLst/>
            </a:prstGeom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2805840" y="2498760"/>
            <a:ext cx="970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514"/>
                </a:solidFill>
                <a:latin typeface="Arial"/>
              </a:rPr>
              <a:t>84 84 8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28600" y="1857240"/>
            <a:ext cx="8686800" cy="3124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Human-Caused Conditions: </a:t>
            </a:r>
            <a:br>
              <a:rPr sz="3600"/>
            </a:b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% of Instream Flow From CSOs</a:t>
            </a:r>
            <a:endParaRPr b="1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28600" y="1889280"/>
            <a:ext cx="8686800" cy="30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80880" y="6248520"/>
            <a:ext cx="5943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5760" y="1757520"/>
            <a:ext cx="8763120" cy="43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Human-Caused Conditions: Combined &amp; Separate Acreage</a:t>
            </a:r>
            <a:endParaRPr b="1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5577" r="0" b="0"/>
          <a:stretch/>
        </p:blipFill>
        <p:spPr>
          <a:xfrm>
            <a:off x="152280" y="1857240"/>
            <a:ext cx="1066824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Substantial &amp; Widespread Economic &amp; Social Impacts</a:t>
            </a:r>
            <a:endParaRPr b="1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anapolis gathered data 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PA Median Household Income (MH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jected over 20-year implementation period for service area &amp; subpopul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onomic Trends in last 4-5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employment, Population, MHI, Property &amp; Income Tax Collection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ed Social Impact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ruption of streets, historic sites, trails and parks if full sewer separation were requi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MHI Indicator 2005-25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914400" y="1143000"/>
            <a:ext cx="7467480" cy="5423040"/>
            <a:chOff x="914400" y="1143000"/>
            <a:chExt cx="7467480" cy="5423040"/>
          </a:xfrm>
        </p:grpSpPr>
        <p:grpSp>
          <p:nvGrpSpPr>
            <p:cNvPr id="194" name=""/>
            <p:cNvGrpSpPr/>
            <p:nvPr/>
          </p:nvGrpSpPr>
          <p:grpSpPr>
            <a:xfrm>
              <a:off x="914400" y="1143000"/>
              <a:ext cx="7467480" cy="5423040"/>
              <a:chOff x="914400" y="1143000"/>
              <a:chExt cx="7467480" cy="5423040"/>
            </a:xfrm>
          </p:grpSpPr>
          <p:pic>
            <p:nvPicPr>
              <p:cNvPr id="195" name="" descr=""/>
              <p:cNvPicPr/>
              <p:nvPr/>
            </p:nvPicPr>
            <p:blipFill>
              <a:blip r:embed="rId1"/>
              <a:srcRect l="0" t="10298" r="0" b="0"/>
              <a:stretch/>
            </p:blipFill>
            <p:spPr>
              <a:xfrm>
                <a:off x="914400" y="1143000"/>
                <a:ext cx="7467480" cy="5423040"/>
              </a:xfrm>
              <a:prstGeom prst="rect">
                <a:avLst/>
              </a:prstGeom>
              <a:ln w="0">
                <a:noFill/>
              </a:ln>
              <a:effectLst>
                <a:outerShdw dist="17819" dir="2700000" blurRad="0" rotWithShape="0">
                  <a:srgbClr val="000514"/>
                </a:outerShdw>
              </a:effectLst>
            </p:spPr>
          </p:pic>
          <p:sp>
            <p:nvSpPr>
              <p:cNvPr id="196" name=""/>
              <p:cNvSpPr/>
              <p:nvPr/>
            </p:nvSpPr>
            <p:spPr>
              <a:xfrm>
                <a:off x="1995480" y="1143000"/>
                <a:ext cx="3200400" cy="990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>
                <a:off x="1962000" y="1647720"/>
                <a:ext cx="3276720" cy="0"/>
              </a:xfrm>
              <a:prstGeom prst="line">
                <a:avLst/>
              </a:prstGeom>
              <a:ln w="9360">
                <a:solidFill>
                  <a:srgbClr val="0005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6704640" y="4943520"/>
              <a:ext cx="134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514"/>
                  </a:solidFill>
                  <a:latin typeface="Arial"/>
                </a:rPr>
                <a:t>Low Burde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656400" y="353844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514"/>
                  </a:solidFill>
                  <a:latin typeface="Arial"/>
                </a:rPr>
                <a:t>High Burde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Job Losses By Sector 2001-04</a:t>
            </a:r>
            <a:endParaRPr b="1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-57240" y="1162080"/>
            <a:ext cx="9158400" cy="5371920"/>
            <a:chOff x="-57240" y="1162080"/>
            <a:chExt cx="9158400" cy="5371920"/>
          </a:xfrm>
        </p:grpSpPr>
        <p:pic>
          <p:nvPicPr>
            <p:cNvPr id="202" name="" descr=""/>
            <p:cNvPicPr/>
            <p:nvPr/>
          </p:nvPicPr>
          <p:blipFill>
            <a:blip r:embed="rId1"/>
            <a:stretch/>
          </p:blipFill>
          <p:spPr>
            <a:xfrm>
              <a:off x="-57240" y="1162080"/>
              <a:ext cx="8686800" cy="53719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514"/>
              </a:outerShdw>
            </a:effectLst>
          </p:spPr>
        </p:pic>
        <p:sp>
          <p:nvSpPr>
            <p:cNvPr id="203" name=""/>
            <p:cNvSpPr/>
            <p:nvPr/>
          </p:nvSpPr>
          <p:spPr>
            <a:xfrm>
              <a:off x="6572160" y="2657520"/>
              <a:ext cx="2527560" cy="208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514"/>
                  </a:solidFill>
                  <a:latin typeface="Arial"/>
                </a:rPr>
                <a:t>Medica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514"/>
                  </a:solidFill>
                  <a:latin typeface="Arial"/>
                </a:rPr>
                <a:t>Wholesal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514"/>
                  </a:solidFill>
                  <a:latin typeface="Arial"/>
                </a:rPr>
                <a:t>Banking, Insuran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514"/>
                  </a:solidFill>
                  <a:latin typeface="Arial"/>
                </a:rPr>
                <a:t>Retail &amp; Othe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514"/>
                  </a:solidFill>
                  <a:latin typeface="Arial"/>
                </a:rPr>
                <a:t>Manufacturin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514"/>
                  </a:solidFill>
                  <a:latin typeface="Arial"/>
                </a:rPr>
                <a:t>Transporta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357960" y="2666880"/>
              <a:ext cx="2743200" cy="2057400"/>
            </a:xfrm>
            <a:prstGeom prst="rect">
              <a:avLst/>
            </a:prstGeom>
            <a:noFill/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29640" y="5904000"/>
              <a:ext cx="44082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514"/>
                  </a:solidFill>
                  <a:latin typeface="Arial"/>
                </a:rPr>
                <a:t>2001</a:t>
              </a:r>
              <a:r>
                <a:rPr b="1" lang="en-US" sz="1800" spc="-1" strike="noStrike">
                  <a:solidFill>
                    <a:srgbClr val="000514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514"/>
                  </a:solidFill>
                  <a:latin typeface="Arial"/>
                </a:rPr>
                <a:t>      2002</a:t>
              </a:r>
              <a:r>
                <a:rPr b="1" lang="en-US" sz="1800" spc="-1" strike="noStrike">
                  <a:solidFill>
                    <a:srgbClr val="000514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514"/>
                  </a:solidFill>
                  <a:latin typeface="Arial"/>
                </a:rPr>
                <a:t>           2003</a:t>
              </a:r>
              <a:r>
                <a:rPr b="1" lang="en-US" sz="1800" spc="-1" strike="noStrike">
                  <a:solidFill>
                    <a:srgbClr val="000514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514"/>
                  </a:solidFill>
                  <a:latin typeface="Arial"/>
                </a:rPr>
                <a:t> 200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Agenda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TCP Backgr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ope of UA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ing of UA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Factors Used &amp; Their Supporting Docu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80880" y="1447920"/>
            <a:ext cx="8153640" cy="510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Unemployment Trends 1999-05</a:t>
            </a:r>
            <a:endParaRPr b="1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533520" y="1163520"/>
          <a:ext cx="8332560" cy="569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163520"/>
                    <a:ext cx="8332560" cy="56944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ffffff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Historic Areas in CSO Area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16526" t="33898" r="13560" b="38984"/>
          <a:stretch/>
        </p:blipFill>
        <p:spPr>
          <a:xfrm>
            <a:off x="304920" y="1600200"/>
            <a:ext cx="861048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Likely Next Steps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M &amp; EPA review for complete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ty answers any questions &amp; provides additional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M approval of U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lemaking before Indiana Water Pollution Control Board to create subcategory for designated stre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lic com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PA review &amp; approval of revised use and associated WQ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6187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Indy LTCP Background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181120" y="1295280"/>
            <a:ext cx="3962520" cy="510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5.5 square-mile combined sewer area; 740 miles of combined sewe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ll receiving stre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than 130 combined sewer outfall po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TCP sent to agencies in 2001; Final approval expected so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meters Requiring a UA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cte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9343" t="5681" r="6354" b="2690"/>
          <a:stretch/>
        </p:blipFill>
        <p:spPr>
          <a:xfrm>
            <a:off x="228600" y="914400"/>
            <a:ext cx="4714920" cy="61056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689280" y="18763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Selected LTCP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12800" y="1260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vel of Contro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7% capture along Fall Creek &amp; 95% capture along White River &amp; other waterways (expected to achieve 2 CSO events/ typical year on Fall Creek &amp; 4 events/year on other waterway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 Worth Cost: $1.76 bill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-Year Schedule: Completed by Dec. 31, 202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ificant increase over plan proposed in 2001: 85% capture and 12 overflow events per year at a cost of $1.1 bill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Scope of UAA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ty is seeking a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CSO Wet Weather Limited Use Subcategor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under Indiana’s recreational standard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ication cove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: Recreational designated use &amp; WQ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: CSO-impacted waterw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: Storms greater than the chosen LTCP level of control, after full LTCP implem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ation: Up to 4 days following CSO discharg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Addressed: WQS exceedances caused by non-CSO sources or outside CSO ev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523880" y="152280"/>
            <a:ext cx="5715000" cy="1143000"/>
          </a:xfrm>
          <a:prstGeom prst="flowChartProcess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Franklin Gothic Medium"/>
              </a:rPr>
              <a:t>Data Collection &amp; Analy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Medium"/>
              </a:rPr>
              <a:t>System Modeling </a:t>
            </a:r>
            <a:r>
              <a:rPr b="0" lang="en-US" sz="1800" spc="-1" strike="noStrike">
                <a:solidFill>
                  <a:srgbClr val="ffffff"/>
                </a:solidFill>
                <a:latin typeface="Franklin Gothic Medium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Franklin Gothic Medium"/>
              </a:rPr>
              <a:t>      Stream Characteriz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Medium"/>
              </a:rPr>
              <a:t>Stream Use Survey          TMDLs</a:t>
            </a:r>
            <a:r>
              <a:rPr b="0" lang="en-US" sz="1800" spc="-1" strike="noStrike">
                <a:solidFill>
                  <a:srgbClr val="ffffff"/>
                </a:solidFill>
                <a:latin typeface="Franklin Gothic Medium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Franklin Gothic Medium"/>
              </a:rPr>
              <a:t>Financial Capab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600200" y="1676520"/>
            <a:ext cx="1981080" cy="685800"/>
          </a:xfrm>
          <a:prstGeom prst="flowChartProcess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Medium"/>
              </a:rPr>
              <a:t>LTCP Develop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34120" y="1663560"/>
            <a:ext cx="1981080" cy="685800"/>
          </a:xfrm>
          <a:prstGeom prst="flowChartProcess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Medium"/>
              </a:rPr>
              <a:t>UAA Develop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2"/>
            <a:endCxn id="122" idx="0"/>
          </p:cNvCxnSpPr>
          <p:nvPr/>
        </p:nvCxnSpPr>
        <p:spPr>
          <a:xfrm rot="5400000">
            <a:off x="3295080" y="590400"/>
            <a:ext cx="381960" cy="1791360"/>
          </a:xfrm>
          <a:prstGeom prst="bentConnector3">
            <a:avLst>
              <a:gd name="adj1" fmla="val 50000"/>
            </a:avLst>
          </a:prstGeom>
          <a:ln w="28440">
            <a:solidFill>
              <a:srgbClr val="ffffff"/>
            </a:solidFill>
            <a:miter/>
            <a:tailEnd len="lg" type="triangle" w="lg"/>
          </a:ln>
        </p:spPr>
      </p:cxnSp>
      <p:cxnSp>
        <p:nvCxnSpPr>
          <p:cNvPr id="125" name=""/>
          <p:cNvCxnSpPr>
            <a:stCxn id="121" idx="2"/>
            <a:endCxn id="123" idx="0"/>
          </p:cNvCxnSpPr>
          <p:nvPr/>
        </p:nvCxnSpPr>
        <p:spPr>
          <a:xfrm flipH="1" rot="16200000">
            <a:off x="5167800" y="507600"/>
            <a:ext cx="369000" cy="1943640"/>
          </a:xfrm>
          <a:prstGeom prst="bentConnector3">
            <a:avLst>
              <a:gd name="adj1" fmla="val 50000"/>
            </a:avLst>
          </a:prstGeom>
          <a:ln w="28440">
            <a:solidFill>
              <a:srgbClr val="ffffff"/>
            </a:solidFill>
            <a:miter/>
            <a:tailEnd len="lg" type="triangle" w="lg"/>
          </a:ln>
        </p:spPr>
      </p:cxnSp>
      <p:sp>
        <p:nvSpPr>
          <p:cNvPr id="126" name=""/>
          <p:cNvSpPr/>
          <p:nvPr/>
        </p:nvSpPr>
        <p:spPr>
          <a:xfrm>
            <a:off x="304920" y="2819520"/>
            <a:ext cx="1981080" cy="914400"/>
          </a:xfrm>
          <a:prstGeom prst="flowChartProcess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Medium"/>
              </a:rPr>
              <a:t>LTCP Approv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Medium"/>
              </a:rPr>
              <a:t>(stat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553080" y="2666880"/>
            <a:ext cx="1981440" cy="914400"/>
          </a:xfrm>
          <a:prstGeom prst="flowChartProcess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Medium"/>
              </a:rPr>
              <a:t>UAA Approv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Medium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Franklin Gothic Medium"/>
              </a:rPr>
              <a:t>(stat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2" idx="2"/>
            <a:endCxn id="126" idx="0"/>
          </p:cNvCxnSpPr>
          <p:nvPr/>
        </p:nvCxnSpPr>
        <p:spPr>
          <a:xfrm rot="5400000">
            <a:off x="1713600" y="1942920"/>
            <a:ext cx="457920" cy="1296360"/>
          </a:xfrm>
          <a:prstGeom prst="bentConnector3">
            <a:avLst>
              <a:gd name="adj1" fmla="val 49960"/>
            </a:avLst>
          </a:prstGeom>
          <a:ln w="28440">
            <a:solidFill>
              <a:srgbClr val="ffffff"/>
            </a:solidFill>
            <a:miter/>
            <a:tailEnd len="lg" type="triangle" w="lg"/>
          </a:ln>
        </p:spPr>
      </p:cxnSp>
      <p:cxnSp>
        <p:nvCxnSpPr>
          <p:cNvPr id="129" name=""/>
          <p:cNvCxnSpPr>
            <a:stCxn id="123" idx="2"/>
            <a:endCxn id="127" idx="1"/>
          </p:cNvCxnSpPr>
          <p:nvPr/>
        </p:nvCxnSpPr>
        <p:spPr>
          <a:xfrm flipH="1" rot="16200000">
            <a:off x="6050520" y="2622240"/>
            <a:ext cx="775440" cy="22932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lg" type="triangle" w="lg"/>
          </a:ln>
        </p:spPr>
      </p:cxnSp>
      <p:sp>
        <p:nvSpPr>
          <p:cNvPr id="130" name=""/>
          <p:cNvSpPr/>
          <p:nvPr/>
        </p:nvSpPr>
        <p:spPr>
          <a:xfrm>
            <a:off x="5943600" y="3962520"/>
            <a:ext cx="1905120" cy="761760"/>
          </a:xfrm>
          <a:prstGeom prst="flowChartProcess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Medium"/>
              </a:rPr>
              <a:t>State Rulemak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Medium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Franklin Gothic Medium"/>
              </a:rPr>
              <a:t>to Change WQ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95880" y="5029200"/>
            <a:ext cx="1905120" cy="914400"/>
          </a:xfrm>
          <a:prstGeom prst="flowChartProcess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Medium"/>
              </a:rPr>
              <a:t>EPA Approval o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Medium"/>
              </a:rPr>
              <a:t>Revised WQ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24080" y="5334120"/>
            <a:ext cx="2362320" cy="1066680"/>
          </a:xfrm>
          <a:prstGeom prst="flowChartAlternateProcess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Medium"/>
              </a:rPr>
              <a:t>Post-Construc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Medium"/>
              </a:rPr>
              <a:t>Monitor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Medium"/>
              </a:rPr>
              <a:t>&amp; Data Analy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3" name=""/>
          <p:cNvCxnSpPr>
            <a:stCxn id="126" idx="2"/>
            <a:endCxn id="134" idx="0"/>
          </p:cNvCxnSpPr>
          <p:nvPr/>
        </p:nvCxnSpPr>
        <p:spPr>
          <a:xfrm flipH="1" rot="16200000">
            <a:off x="1523160" y="3504960"/>
            <a:ext cx="381600" cy="839160"/>
          </a:xfrm>
          <a:prstGeom prst="bentConnector3">
            <a:avLst>
              <a:gd name="adj1" fmla="val 49952"/>
            </a:avLst>
          </a:prstGeom>
          <a:ln w="28440">
            <a:solidFill>
              <a:srgbClr val="ffffff"/>
            </a:solidFill>
            <a:miter/>
            <a:tailEnd len="lg" type="triangle" w="lg"/>
          </a:ln>
        </p:spPr>
      </p:cxnSp>
      <p:sp>
        <p:nvSpPr>
          <p:cNvPr id="134" name=""/>
          <p:cNvSpPr/>
          <p:nvPr/>
        </p:nvSpPr>
        <p:spPr>
          <a:xfrm>
            <a:off x="1066680" y="4114800"/>
            <a:ext cx="2133720" cy="1143000"/>
          </a:xfrm>
          <a:prstGeom prst="flowChartProcess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Medium"/>
              </a:rPr>
              <a:t>LTCP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Medium"/>
              </a:rPr>
              <a:t>Implemen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7" idx="3"/>
            <a:endCxn id="130" idx="3"/>
          </p:cNvCxnSpPr>
          <p:nvPr/>
        </p:nvCxnSpPr>
        <p:spPr>
          <a:xfrm flipH="1">
            <a:off x="7848000" y="3123720"/>
            <a:ext cx="686520" cy="1220040"/>
          </a:xfrm>
          <a:prstGeom prst="bentConnector3">
            <a:avLst>
              <a:gd name="adj1" fmla="val -33315"/>
            </a:avLst>
          </a:prstGeom>
          <a:ln w="28440">
            <a:solidFill>
              <a:srgbClr val="ffffff"/>
            </a:solidFill>
            <a:miter/>
            <a:tailEnd len="lg" type="triangle" w="lg"/>
          </a:ln>
        </p:spPr>
      </p:cxnSp>
      <p:cxnSp>
        <p:nvCxnSpPr>
          <p:cNvPr id="136" name=""/>
          <p:cNvCxnSpPr>
            <a:stCxn id="130" idx="1"/>
            <a:endCxn id="131" idx="1"/>
          </p:cNvCxnSpPr>
          <p:nvPr/>
        </p:nvCxnSpPr>
        <p:spPr>
          <a:xfrm flipH="1" flipV="1" rot="10800000">
            <a:off x="5942520" y="4342320"/>
            <a:ext cx="153000" cy="1143720"/>
          </a:xfrm>
          <a:prstGeom prst="bentConnector3">
            <a:avLst>
              <a:gd name="adj1" fmla="val -150000"/>
            </a:avLst>
          </a:prstGeom>
          <a:ln w="28440">
            <a:solidFill>
              <a:srgbClr val="ffffff"/>
            </a:solidFill>
            <a:miter/>
            <a:tailEnd len="lg" type="triangle" w="lg"/>
          </a:ln>
        </p:spPr>
      </p:cxnSp>
      <p:cxnSp>
        <p:nvCxnSpPr>
          <p:cNvPr id="137" name=""/>
          <p:cNvCxnSpPr>
            <a:stCxn id="131" idx="2"/>
            <a:endCxn id="132" idx="3"/>
          </p:cNvCxnSpPr>
          <p:nvPr/>
        </p:nvCxnSpPr>
        <p:spPr>
          <a:xfrm flipV="1" rot="16200000">
            <a:off x="6228720" y="5124240"/>
            <a:ext cx="76680" cy="1562760"/>
          </a:xfrm>
          <a:prstGeom prst="bentConnector4">
            <a:avLst>
              <a:gd name="adj1" fmla="val -301415"/>
              <a:gd name="adj2" fmla="val 80483"/>
            </a:avLst>
          </a:prstGeom>
          <a:ln w="28440">
            <a:solidFill>
              <a:srgbClr val="ffffff"/>
            </a:solidFill>
            <a:miter/>
            <a:tailEnd len="lg" type="triangle" w="lg"/>
          </a:ln>
        </p:spPr>
      </p:cxnSp>
      <p:cxnSp>
        <p:nvCxnSpPr>
          <p:cNvPr id="138" name=""/>
          <p:cNvCxnSpPr>
            <a:stCxn id="134" idx="2"/>
            <a:endCxn id="132" idx="1"/>
          </p:cNvCxnSpPr>
          <p:nvPr/>
        </p:nvCxnSpPr>
        <p:spPr>
          <a:xfrm flipH="1" rot="16200000">
            <a:off x="2323080" y="5067000"/>
            <a:ext cx="610200" cy="99108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lg" type="triangle" w="lg"/>
          </a:ln>
        </p:spPr>
      </p:cxnSp>
      <p:cxnSp>
        <p:nvCxnSpPr>
          <p:cNvPr id="139" name=""/>
          <p:cNvCxnSpPr>
            <a:stCxn id="132" idx="0"/>
          </p:cNvCxnSpPr>
          <p:nvPr/>
        </p:nvCxnSpPr>
        <p:spPr>
          <a:xfrm flipV="1" rot="16200000">
            <a:off x="2037600" y="3066480"/>
            <a:ext cx="2972520" cy="1562760"/>
          </a:xfrm>
          <a:prstGeom prst="bentConnector3">
            <a:avLst>
              <a:gd name="adj1" fmla="val 50000"/>
            </a:avLst>
          </a:prstGeom>
          <a:ln w="28440">
            <a:solidFill>
              <a:srgbClr val="ffffff"/>
            </a:solidFill>
            <a:prstDash val="lgDash"/>
            <a:miter/>
            <a:tailEnd len="lg" type="triangle" w="lg"/>
          </a:ln>
        </p:spPr>
      </p:cxnSp>
      <p:cxnSp>
        <p:nvCxnSpPr>
          <p:cNvPr id="140" name=""/>
          <p:cNvCxnSpPr>
            <a:stCxn id="132" idx="0"/>
          </p:cNvCxnSpPr>
          <p:nvPr/>
        </p:nvCxnSpPr>
        <p:spPr>
          <a:xfrm flipH="1" flipV="1" rot="5400000">
            <a:off x="3714480" y="2952360"/>
            <a:ext cx="2972520" cy="1791360"/>
          </a:xfrm>
          <a:prstGeom prst="bentConnector3">
            <a:avLst>
              <a:gd name="adj1" fmla="val 50000"/>
            </a:avLst>
          </a:prstGeom>
          <a:ln w="28440">
            <a:solidFill>
              <a:srgbClr val="ffffff"/>
            </a:solidFill>
            <a:prstDash val="lgDash"/>
            <a:miter/>
            <a:tailEnd len="lg" type="triangle" w="lg"/>
          </a:ln>
        </p:spPr>
      </p:cxnSp>
      <p:sp>
        <p:nvSpPr>
          <p:cNvPr id="141" name=""/>
          <p:cNvSpPr/>
          <p:nvPr/>
        </p:nvSpPr>
        <p:spPr>
          <a:xfrm>
            <a:off x="3763800" y="3124080"/>
            <a:ext cx="1233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Medium"/>
              </a:rPr>
              <a:t>Periodic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Medium"/>
              </a:rPr>
              <a:t>Re-revi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72080" y="1676520"/>
            <a:ext cx="1250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Medium"/>
              </a:rPr>
              <a:t>Paralle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Medium"/>
              </a:rPr>
              <a:t>Proces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5257800" y="2362320"/>
            <a:ext cx="4105440" cy="4705920"/>
            <a:chOff x="5257800" y="2362320"/>
            <a:chExt cx="4105440" cy="4705920"/>
          </a:xfrm>
        </p:grpSpPr>
        <p:sp>
          <p:nvSpPr>
            <p:cNvPr id="144" name=""/>
            <p:cNvSpPr/>
            <p:nvPr/>
          </p:nvSpPr>
          <p:spPr>
            <a:xfrm>
              <a:off x="5257800" y="2362320"/>
              <a:ext cx="3505320" cy="3962160"/>
            </a:xfrm>
            <a:prstGeom prst="ellipse">
              <a:avLst/>
            </a:prstGeom>
            <a:noFill/>
            <a:ln w="2844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8900000">
              <a:off x="6269760" y="5203080"/>
              <a:ext cx="3282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00"/>
                  </a:solidFill>
                  <a:latin typeface="Franklin Gothic Medium"/>
                </a:rPr>
                <a:t>First 5 yrs. of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00"/>
                  </a:solidFill>
                  <a:latin typeface="Franklin Gothic Medium"/>
                </a:rPr>
                <a:t>LTCP Implementati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06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Indy UAA Approach Included </a:t>
            </a:r>
            <a:br>
              <a:rPr sz="3400"/>
            </a:br>
            <a:r>
              <a:rPr b="1" lang="en-US" sz="34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Stream Use Surveys</a:t>
            </a:r>
            <a:br>
              <a:rPr sz="3400"/>
            </a:br>
            <a:endParaRPr b="1" lang="en-US" sz="3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veys examin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s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quency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mber of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ularity of lo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ldren vs. adult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toric 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veys found limited recreational uses of CSO-impacted waterw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rcRect l="13116" t="13114" r="14755" b="14756"/>
          <a:stretch/>
        </p:blipFill>
        <p:spPr>
          <a:xfrm>
            <a:off x="5294160" y="1763640"/>
            <a:ext cx="3353040" cy="25146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292720" y="4338720"/>
            <a:ext cx="33033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Fishing along White Ri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Stream Use Survey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"/>
          <p:cNvSpPr/>
          <p:nvPr/>
        </p:nvSpPr>
        <p:spPr>
          <a:xfrm>
            <a:off x="2201760" y="18144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92360" y="14590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50720" y="1033560"/>
            <a:ext cx="83505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6994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Stream Use Map</a:t>
            </a:r>
            <a:endParaRPr b="1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219320" y="1295280"/>
          <a:ext cx="6781680" cy="54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295280"/>
                    <a:ext cx="678168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6T17:23:40Z</dcterms:created>
  <dc:creator>Jodi Perras</dc:creator>
  <dc:description/>
  <dc:language>en-US</dc:language>
  <cp:lastModifiedBy>mmorel</cp:lastModifiedBy>
  <dcterms:modified xsi:type="dcterms:W3CDTF">2006-05-26T17:18:47Z</dcterms:modified>
  <cp:revision>23</cp:revision>
  <dc:subject/>
  <dc:title>Indianapolis Approach to Use Attainability Analysi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