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5.wmf" ContentType="image/x-wmf"/>
  <Override PartName="/ppt/media/image1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2.png" ContentType="image/png"/>
  <Override PartName="/ppt/media/image10.wmf" ContentType="image/x-wmf"/>
  <Override PartName="/ppt/media/image4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E4A7A-7B16-4787-BE60-1E75595AE8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007C0-E51C-4F80-A3E7-12078CDA3D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558800" y="401760"/>
            <a:ext cx="3843360" cy="2882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568440" y="3692160"/>
            <a:ext cx="6202080" cy="3546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6B16E-3AC8-4793-81E1-39E37CA05E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49200" y="722160"/>
            <a:ext cx="4815000" cy="3611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74880" y="4573080"/>
            <a:ext cx="536544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31988-D119-48E1-A4BF-16973AB0E5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49200" y="722160"/>
            <a:ext cx="4815000" cy="3611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74880" y="4573080"/>
            <a:ext cx="536544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5E4BD-5F71-4A0A-9FB3-2456C30C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881D2-A510-4FA8-BB1A-8AE2E80F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1C77B-F277-42D3-9C25-2EBCEEE6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FB3D-2140-4D41-B4BF-E2C94BC7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151B-B5D4-4A7B-A7AE-C69E8F1E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48A5-4EA8-4E6B-9C62-5E0034B4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4E16-9477-476B-89D4-4AAAE04A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E193-1F39-497E-B758-819A3D5A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11B5-127C-4045-96DB-9DC3245E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29C7-A879-4C72-90AB-B4E51C72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84FB-BC9B-47E7-9465-4E695F13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987B2-A8B0-4EE4-9730-6A235FAF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E2E3-B2FD-4D75-94BC-C71671A4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C13B-8032-4250-AE9D-10153A7E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6620-49E0-4E82-89F3-A7352106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CB50-0B41-41D1-BCE9-28D3ADE6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B4C4-F781-4AD9-AD46-91F7D5B7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1C58B-ADC3-4A09-9D8E-F0EE27DB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9DDCD-D9E6-4F7D-BED4-B9511D22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4FCEC-3679-4A71-BE20-75FB14A7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AF01D-91AC-4547-843C-1DDC10FB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5899F-C301-4819-9574-200F2C40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FA852-95AD-4BBA-90F8-E0406B8C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39DD9-D49B-4A40-9A63-40108C1A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8F3F-BFC1-451B-87B6-AA3E3AB71D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3C8D-1547-4916-9EA2-9FF6AD2F15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Indianapolis Approach to a Use Attainability Analysis</a:t>
            </a:r>
            <a:endParaRPr b="1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5238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di Perras, Perras &amp; Associ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ation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CWA &amp; Wet Weather Partnership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cago, 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1,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32600" y="5022720"/>
            <a:ext cx="1943280" cy="162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4367" t="7709" r="13059" b="6669"/>
          <a:stretch/>
        </p:blipFill>
        <p:spPr>
          <a:xfrm>
            <a:off x="165240" y="4095720"/>
            <a:ext cx="138744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5486400"/>
            <a:ext cx="8153280" cy="7621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2895480"/>
            <a:ext cx="8229600" cy="7621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057400"/>
            <a:ext cx="822960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Three UAA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 Factors Used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aturally occurring pollutants prevent attainment of the use;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Natural, ephemeral, intermittent, or low flow conditions or water levels  prevent the attainment of the uses,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Human-caused conditions or sources of pollution prevent the attainment of the use and cannot be remedied or would cause more damage than to leave in place.;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Dams, diversions, or other types of hydrologic modifications precl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se attainment;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Physical natural features of the water body, unrelated to water qualit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clude attainment of aquatic life uses;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Controls necessary to attain the use would cause substantial and widespread economic and social imp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Recreational Use is Unattainable During Large Storm Events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storm events that cause residual CSOs after LTCP implementati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mwater will create high stream flows, making them unsafe for recre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CSO pollution sources will prevent attainment of recreational standards during &amp; after those events -- even if all CSOs were elimin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beyond the selected level of contro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not attain more days of recreational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uld cause substantial and widespread social and economic impa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3560" y="152280"/>
            <a:ext cx="77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Natural Intermittent Flow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380880"/>
            <a:ext cx="7238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ing: Instream peak flows are unsafe for recre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3520" y="938160"/>
            <a:ext cx="8369280" cy="5721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888360" y="649116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Arial"/>
              </a:rPr>
              <a:t>Stream M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92160" y="431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-642240" y="36162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Arial"/>
              </a:rPr>
              <a:t>Streamflow (cf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560" y="0"/>
            <a:ext cx="77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Natural Intermittent Flow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6280" y="685800"/>
            <a:ext cx="76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ing: Instream peak flows are unsafe for re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0" t="6421" r="0" b="0"/>
          <a:stretch/>
        </p:blipFill>
        <p:spPr>
          <a:xfrm>
            <a:off x="152280" y="1308240"/>
            <a:ext cx="86742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6336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Human-caused Conditions or Sources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843480" y="520560"/>
            <a:ext cx="7052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ing: Non-CSO sources prevent full attainment of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1371600"/>
            <a:ext cx="9144000" cy="5689440"/>
            <a:chOff x="0" y="1371600"/>
            <a:chExt cx="9144000" cy="568944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rcRect l="0" t="9050" r="0" b="0"/>
            <a:stretch/>
          </p:blipFill>
          <p:spPr>
            <a:xfrm>
              <a:off x="0" y="1371600"/>
              <a:ext cx="9144000" cy="56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870360" y="1523880"/>
              <a:ext cx="1768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Arial"/>
                </a:rPr>
                <a:t>95% Captu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33920" y="1549440"/>
              <a:ext cx="2286000" cy="0"/>
            </a:xfrm>
            <a:prstGeom prst="line">
              <a:avLst/>
            </a:prstGeom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805840" y="2498760"/>
            <a:ext cx="97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514"/>
                </a:solidFill>
                <a:latin typeface="Arial"/>
              </a:rPr>
              <a:t>84 84 8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1857240"/>
            <a:ext cx="8686800" cy="312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Human-Caused Conditions: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% of Instream Flow From CSOs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28600" y="1889280"/>
            <a:ext cx="8686800" cy="30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0880" y="6248520"/>
            <a:ext cx="5943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5760" y="1757520"/>
            <a:ext cx="876312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Human-Caused Conditions: Combined &amp; Separate Acreage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5577" r="0" b="0"/>
          <a:stretch/>
        </p:blipFill>
        <p:spPr>
          <a:xfrm>
            <a:off x="152280" y="1857240"/>
            <a:ext cx="106682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Substantial &amp; Widespread Economic &amp; Social Impacts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anapolis gathered data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Median Household Income (MH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ed over 20-year implementation period for service area &amp; sub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Trends in last 4-5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mployment, Population, MHI, Property &amp; Income Tax Collection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ed Social Impact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ruption of streets, historic sites, trails and parks if full sewer separation were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MHI Indicator 2005-25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914400" y="1143000"/>
            <a:ext cx="7467480" cy="5423040"/>
            <a:chOff x="914400" y="1143000"/>
            <a:chExt cx="7467480" cy="5423040"/>
          </a:xfrm>
        </p:grpSpPr>
        <p:grpSp>
          <p:nvGrpSpPr>
            <p:cNvPr id="194" name=""/>
            <p:cNvGrpSpPr/>
            <p:nvPr/>
          </p:nvGrpSpPr>
          <p:grpSpPr>
            <a:xfrm>
              <a:off x="914400" y="1143000"/>
              <a:ext cx="7467480" cy="5423040"/>
              <a:chOff x="914400" y="1143000"/>
              <a:chExt cx="7467480" cy="5423040"/>
            </a:xfrm>
          </p:grpSpPr>
          <p:pic>
            <p:nvPicPr>
              <p:cNvPr id="195" name="" descr=""/>
              <p:cNvPicPr/>
              <p:nvPr/>
            </p:nvPicPr>
            <p:blipFill>
              <a:blip r:embed="rId1"/>
              <a:srcRect l="0" t="10298" r="0" b="0"/>
              <a:stretch/>
            </p:blipFill>
            <p:spPr>
              <a:xfrm>
                <a:off x="914400" y="1143000"/>
                <a:ext cx="7467480" cy="542304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514"/>
                </a:outerShdw>
              </a:effectLst>
            </p:spPr>
          </p:pic>
          <p:sp>
            <p:nvSpPr>
              <p:cNvPr id="196" name=""/>
              <p:cNvSpPr/>
              <p:nvPr/>
            </p:nvSpPr>
            <p:spPr>
              <a:xfrm>
                <a:off x="1995480" y="1143000"/>
                <a:ext cx="3200400" cy="99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1962000" y="1647720"/>
                <a:ext cx="3276720" cy="0"/>
              </a:xfrm>
              <a:prstGeom prst="line">
                <a:avLst/>
              </a:prstGeom>
              <a:ln w="936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6704640" y="4943520"/>
              <a:ext cx="134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514"/>
                  </a:solidFill>
                  <a:latin typeface="Arial"/>
                </a:rPr>
                <a:t>Low Burd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56400" y="353844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514"/>
                  </a:solidFill>
                  <a:latin typeface="Arial"/>
                </a:rPr>
                <a:t>High Burd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Job Losses By Sector 2001-04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-57240" y="1162080"/>
            <a:ext cx="9158400" cy="5371920"/>
            <a:chOff x="-57240" y="1162080"/>
            <a:chExt cx="9158400" cy="537192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-57240" y="1162080"/>
              <a:ext cx="8686800" cy="5371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514"/>
              </a:outerShdw>
            </a:effectLst>
          </p:spPr>
        </p:pic>
        <p:sp>
          <p:nvSpPr>
            <p:cNvPr id="203" name=""/>
            <p:cNvSpPr/>
            <p:nvPr/>
          </p:nvSpPr>
          <p:spPr>
            <a:xfrm>
              <a:off x="6572160" y="2657520"/>
              <a:ext cx="2527560" cy="208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514"/>
                  </a:solidFill>
                  <a:latin typeface="Arial"/>
                </a:rPr>
                <a:t>Medic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514"/>
                  </a:solidFill>
                  <a:latin typeface="Arial"/>
                </a:rPr>
                <a:t>Wholesa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514"/>
                  </a:solidFill>
                  <a:latin typeface="Arial"/>
                </a:rPr>
                <a:t>Banking, Insura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514"/>
                  </a:solidFill>
                  <a:latin typeface="Arial"/>
                </a:rPr>
                <a:t>Retail &amp; Oth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514"/>
                  </a:solidFill>
                  <a:latin typeface="Arial"/>
                </a:rPr>
                <a:t>Manufactur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514"/>
                  </a:solidFill>
                  <a:latin typeface="Arial"/>
                </a:rPr>
                <a:t>Transport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57960" y="2666880"/>
              <a:ext cx="2743200" cy="20574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29640" y="5904000"/>
              <a:ext cx="4408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514"/>
                  </a:solidFill>
                  <a:latin typeface="Arial"/>
                </a:rPr>
                <a:t>2001</a:t>
              </a:r>
              <a:r>
                <a:rPr b="1" lang="en-US" sz="1800" spc="-1" strike="noStrike">
                  <a:solidFill>
                    <a:srgbClr val="000514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514"/>
                  </a:solidFill>
                  <a:latin typeface="Arial"/>
                </a:rPr>
                <a:t>      2002</a:t>
              </a:r>
              <a:r>
                <a:rPr b="1" lang="en-US" sz="1800" spc="-1" strike="noStrike">
                  <a:solidFill>
                    <a:srgbClr val="000514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514"/>
                  </a:solidFill>
                  <a:latin typeface="Arial"/>
                </a:rPr>
                <a:t>           2003</a:t>
              </a:r>
              <a:r>
                <a:rPr b="1" lang="en-US" sz="1800" spc="-1" strike="noStrike">
                  <a:solidFill>
                    <a:srgbClr val="000514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514"/>
                  </a:solidFill>
                  <a:latin typeface="Arial"/>
                </a:rPr>
                <a:t> 200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Agenda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TCP 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pe of U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ing of U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Factors Used &amp; Their Supporting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0880" y="1447920"/>
            <a:ext cx="8153640" cy="51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Unemployment Trends 1999-05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33520" y="1163520"/>
          <a:ext cx="8332560" cy="56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63520"/>
                    <a:ext cx="8332560" cy="5694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ffffff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Historic Areas in CSO Area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16526" t="33898" r="13560" b="38984"/>
          <a:stretch/>
        </p:blipFill>
        <p:spPr>
          <a:xfrm>
            <a:off x="304920" y="1600200"/>
            <a:ext cx="86104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Likely Next Step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M &amp; EPA review for complet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answers any questions &amp; provides additional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M approval of U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making before Indiana Water Pollution Control Board to create subcategory for designated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com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review &amp; approval of revised use and associated WQ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618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Indy LTCP Background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81120" y="1295280"/>
            <a:ext cx="396252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5.5 square-mile combined sewer area; 740 miles of combined sew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receiving str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130 combined sewer outfall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TCP sent to agencies in 2001; Final approval expected so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meters Requiring a UA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9343" t="5681" r="6354" b="2690"/>
          <a:stretch/>
        </p:blipFill>
        <p:spPr>
          <a:xfrm>
            <a:off x="228600" y="914400"/>
            <a:ext cx="4714920" cy="6105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689280" y="1876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elected LTCP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2800" y="1260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l of Contro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% capture along Fall Creek &amp; 95% capture along White River &amp; other waterways (expected to achieve 2 CSO events/ typical year on Fall Creek &amp; 4 events/year on other waterway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 Worth Cost: $1.76 bill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-Year Schedule: Completed by Dec. 31, 20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 increase over plan proposed in 2001: 85% capture and 12 overflow events per year at a cost of $1.1 bill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cope of UAA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is seeking a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SO Wet Weather Limited Use Subcatego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der Indiana’s recreational standard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cov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: Recreational designated use &amp; WQ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: CSO-impacted waterw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: Storms greater than the chosen LTCP level of control, after full LTCP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tion: Up to 4 days following CSO discharg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ddressed: WQS exceedances caused by non-CSO sources or outside CSO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3880" y="152280"/>
            <a:ext cx="5715000" cy="1143000"/>
          </a:xfrm>
          <a:prstGeom prst="flowChartProcess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Franklin Gothic Medium"/>
              </a:rPr>
              <a:t>Data Collection &amp;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System Modeling </a:t>
            </a: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      Stream Character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Stream Use Survey          TMDLs</a:t>
            </a: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Financial Cap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1676520"/>
            <a:ext cx="1981080" cy="685800"/>
          </a:xfrm>
          <a:prstGeom prst="flowChartProcess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LTCP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1663560"/>
            <a:ext cx="1981080" cy="685800"/>
          </a:xfrm>
          <a:prstGeom prst="flowChartProcess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UAA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2"/>
            <a:endCxn id="122" idx="0"/>
          </p:cNvCxnSpPr>
          <p:nvPr/>
        </p:nvCxnSpPr>
        <p:spPr>
          <a:xfrm rot="5400000">
            <a:off x="3295080" y="590400"/>
            <a:ext cx="381960" cy="179136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25" name=""/>
          <p:cNvCxnSpPr>
            <a:stCxn id="121" idx="2"/>
            <a:endCxn id="123" idx="0"/>
          </p:cNvCxnSpPr>
          <p:nvPr/>
        </p:nvCxnSpPr>
        <p:spPr>
          <a:xfrm flipH="1" rot="16200000">
            <a:off x="5167800" y="507600"/>
            <a:ext cx="369000" cy="194364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  <a:tailEnd len="lg" type="triangle" w="lg"/>
          </a:ln>
        </p:spPr>
      </p:cxnSp>
      <p:sp>
        <p:nvSpPr>
          <p:cNvPr id="126" name=""/>
          <p:cNvSpPr/>
          <p:nvPr/>
        </p:nvSpPr>
        <p:spPr>
          <a:xfrm>
            <a:off x="304920" y="2819520"/>
            <a:ext cx="1981080" cy="914400"/>
          </a:xfrm>
          <a:prstGeom prst="flowChartProcess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LTCP Approv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(sta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2666880"/>
            <a:ext cx="1981440" cy="914400"/>
          </a:xfrm>
          <a:prstGeom prst="flowChartProcess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UAA Appro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(sta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2" idx="2"/>
            <a:endCxn id="126" idx="0"/>
          </p:cNvCxnSpPr>
          <p:nvPr/>
        </p:nvCxnSpPr>
        <p:spPr>
          <a:xfrm rot="5400000">
            <a:off x="1713600" y="1942920"/>
            <a:ext cx="457920" cy="1296360"/>
          </a:xfrm>
          <a:prstGeom prst="bentConnector3">
            <a:avLst>
              <a:gd name="adj1" fmla="val 49960"/>
            </a:avLst>
          </a:prstGeom>
          <a:ln w="2844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29" name=""/>
          <p:cNvCxnSpPr>
            <a:stCxn id="123" idx="2"/>
            <a:endCxn id="127" idx="1"/>
          </p:cNvCxnSpPr>
          <p:nvPr/>
        </p:nvCxnSpPr>
        <p:spPr>
          <a:xfrm flipH="1" rot="16200000">
            <a:off x="6050520" y="2622240"/>
            <a:ext cx="775440" cy="2293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</p:cxnSp>
      <p:sp>
        <p:nvSpPr>
          <p:cNvPr id="130" name=""/>
          <p:cNvSpPr/>
          <p:nvPr/>
        </p:nvSpPr>
        <p:spPr>
          <a:xfrm>
            <a:off x="5943600" y="3962520"/>
            <a:ext cx="1905120" cy="761760"/>
          </a:xfrm>
          <a:prstGeom prst="flowChartProcess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State Rulema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to Change WQ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5029200"/>
            <a:ext cx="1905120" cy="914400"/>
          </a:xfrm>
          <a:prstGeom prst="flowChartProcess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EPA Approval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Revised WQ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5334120"/>
            <a:ext cx="2362320" cy="1066680"/>
          </a:xfrm>
          <a:prstGeom prst="flowChartAlternateProcess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Post-Constru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Monitor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&amp; Data 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6" idx="2"/>
            <a:endCxn id="134" idx="0"/>
          </p:cNvCxnSpPr>
          <p:nvPr/>
        </p:nvCxnSpPr>
        <p:spPr>
          <a:xfrm flipH="1" rot="16200000">
            <a:off x="1523160" y="3504960"/>
            <a:ext cx="381600" cy="839160"/>
          </a:xfrm>
          <a:prstGeom prst="bentConnector3">
            <a:avLst>
              <a:gd name="adj1" fmla="val 49952"/>
            </a:avLst>
          </a:prstGeom>
          <a:ln w="28440">
            <a:solidFill>
              <a:srgbClr val="ffffff"/>
            </a:solidFill>
            <a:miter/>
            <a:tailEnd len="lg" type="triangle" w="lg"/>
          </a:ln>
        </p:spPr>
      </p:cxnSp>
      <p:sp>
        <p:nvSpPr>
          <p:cNvPr id="134" name=""/>
          <p:cNvSpPr/>
          <p:nvPr/>
        </p:nvSpPr>
        <p:spPr>
          <a:xfrm>
            <a:off x="1066680" y="4114800"/>
            <a:ext cx="2133720" cy="1143000"/>
          </a:xfrm>
          <a:prstGeom prst="flowChartProcess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LTC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7" idx="3"/>
            <a:endCxn id="130" idx="3"/>
          </p:cNvCxnSpPr>
          <p:nvPr/>
        </p:nvCxnSpPr>
        <p:spPr>
          <a:xfrm flipH="1">
            <a:off x="7848000" y="3123720"/>
            <a:ext cx="686520" cy="1220040"/>
          </a:xfrm>
          <a:prstGeom prst="bentConnector3">
            <a:avLst>
              <a:gd name="adj1" fmla="val -33315"/>
            </a:avLst>
          </a:prstGeom>
          <a:ln w="2844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36" name=""/>
          <p:cNvCxnSpPr>
            <a:stCxn id="130" idx="1"/>
            <a:endCxn id="131" idx="1"/>
          </p:cNvCxnSpPr>
          <p:nvPr/>
        </p:nvCxnSpPr>
        <p:spPr>
          <a:xfrm flipH="1" flipV="1" rot="10800000">
            <a:off x="5942520" y="4342320"/>
            <a:ext cx="153000" cy="1143720"/>
          </a:xfrm>
          <a:prstGeom prst="bentConnector3">
            <a:avLst>
              <a:gd name="adj1" fmla="val -150000"/>
            </a:avLst>
          </a:prstGeom>
          <a:ln w="2844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37" name=""/>
          <p:cNvCxnSpPr>
            <a:stCxn id="131" idx="2"/>
            <a:endCxn id="132" idx="3"/>
          </p:cNvCxnSpPr>
          <p:nvPr/>
        </p:nvCxnSpPr>
        <p:spPr>
          <a:xfrm flipV="1" rot="16200000">
            <a:off x="6228720" y="5124240"/>
            <a:ext cx="76680" cy="1562760"/>
          </a:xfrm>
          <a:prstGeom prst="bentConnector4">
            <a:avLst>
              <a:gd name="adj1" fmla="val -301415"/>
              <a:gd name="adj2" fmla="val 80483"/>
            </a:avLst>
          </a:prstGeom>
          <a:ln w="2844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38" name=""/>
          <p:cNvCxnSpPr>
            <a:stCxn id="134" idx="2"/>
            <a:endCxn id="132" idx="1"/>
          </p:cNvCxnSpPr>
          <p:nvPr/>
        </p:nvCxnSpPr>
        <p:spPr>
          <a:xfrm flipH="1" rot="16200000">
            <a:off x="2323080" y="5067000"/>
            <a:ext cx="610200" cy="9910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39" name=""/>
          <p:cNvCxnSpPr>
            <a:stCxn id="132" idx="0"/>
          </p:cNvCxnSpPr>
          <p:nvPr/>
        </p:nvCxnSpPr>
        <p:spPr>
          <a:xfrm flipV="1" rot="16200000">
            <a:off x="2037600" y="3066480"/>
            <a:ext cx="2972520" cy="156276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</p:cxnSp>
      <p:cxnSp>
        <p:nvCxnSpPr>
          <p:cNvPr id="140" name=""/>
          <p:cNvCxnSpPr>
            <a:stCxn id="132" idx="0"/>
          </p:cNvCxnSpPr>
          <p:nvPr/>
        </p:nvCxnSpPr>
        <p:spPr>
          <a:xfrm flipH="1" flipV="1" rot="5400000">
            <a:off x="3714480" y="2952360"/>
            <a:ext cx="2972520" cy="179136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</p:cxnSp>
      <p:sp>
        <p:nvSpPr>
          <p:cNvPr id="141" name=""/>
          <p:cNvSpPr/>
          <p:nvPr/>
        </p:nvSpPr>
        <p:spPr>
          <a:xfrm>
            <a:off x="3763800" y="3124080"/>
            <a:ext cx="123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Period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Re-re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72080" y="1676520"/>
            <a:ext cx="1250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Parall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Pro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257800" y="2362320"/>
            <a:ext cx="4105440" cy="4705920"/>
            <a:chOff x="5257800" y="2362320"/>
            <a:chExt cx="4105440" cy="4705920"/>
          </a:xfrm>
        </p:grpSpPr>
        <p:sp>
          <p:nvSpPr>
            <p:cNvPr id="144" name=""/>
            <p:cNvSpPr/>
            <p:nvPr/>
          </p:nvSpPr>
          <p:spPr>
            <a:xfrm>
              <a:off x="5257800" y="2362320"/>
              <a:ext cx="3505320" cy="396216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8900000">
              <a:off x="6269760" y="5203080"/>
              <a:ext cx="3282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Franklin Gothic Medium"/>
                </a:rPr>
                <a:t>First 5 yrs. of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Franklin Gothic Medium"/>
                </a:rPr>
                <a:t>LTCP Implement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Indy UAA Approach Included </a:t>
            </a:r>
            <a:br>
              <a:rPr sz="3400"/>
            </a:br>
            <a:r>
              <a:rPr b="1" lang="en-US" sz="3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Stream Use Surveys</a:t>
            </a:r>
            <a:br>
              <a:rPr sz="3400"/>
            </a:br>
            <a:endParaRPr b="1" lang="en-US" sz="3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s examin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s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cy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ity of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vs. adul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 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s found limited recreational uses of CSO-impacted water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13116" t="13114" r="14755" b="14756"/>
          <a:stretch/>
        </p:blipFill>
        <p:spPr>
          <a:xfrm>
            <a:off x="5294160" y="176364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292720" y="4338720"/>
            <a:ext cx="330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ishing along White 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tream Use Survey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2201760" y="18144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1459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0720" y="1033560"/>
            <a:ext cx="8350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6994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tream Use Map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19320" y="1295280"/>
          <a:ext cx="678168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678168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17:23:40Z</dcterms:created>
  <dc:creator>Jodi Perras</dc:creator>
  <dc:description/>
  <dc:language>en-US</dc:language>
  <cp:lastModifiedBy>mmorel</cp:lastModifiedBy>
  <dcterms:modified xsi:type="dcterms:W3CDTF">2006-05-26T17:18:47Z</dcterms:modified>
  <cp:revision>23</cp:revision>
  <dc:subject/>
  <dc:title>Indianapolis Approach to Use Attainability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