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ohnL" initials="J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06-05-23T16:16:23.125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80B-8AF9-4C0C-840F-94365233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78DC-B3C4-4FA0-B1AE-C019AB60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44CA-AD0F-43E3-BE91-31DF84FD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D423-C872-4C80-90D0-65C95A7A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393F-77D6-48AD-8935-FA61B10B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708D-2DBD-4CE5-8218-8A628E53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7F7C-C924-414B-B146-FC255770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A09D-F64D-4C3B-B510-E6A7AF74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7082-BC83-4266-BAAA-9C195555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4747-2557-4DBA-A550-2BFC1146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409B-2D9D-4CFB-BF49-62C9FC06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6870-40DB-4490-9835-64DB5BD2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5528-89EF-4400-85C7-7A07F260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57E8-84FF-430E-A293-C92FB2B6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4615-AB1D-4E0B-8116-B554042B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D7A4-429A-4EDB-A552-6CB70826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333E-60C4-4A48-ADF5-7E52E8D4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24B-25B5-45BA-A85F-F92842D6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2A2-CD85-4EFB-B174-9608A6BD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C46F-2B44-4D62-9C31-58B78220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2683-4F62-4174-B252-FBEB4CAE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74D-8DBB-4DA0-89C9-AC189894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9F0C-13EF-42AB-9A40-F8727DAA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9E9-2210-4744-B32D-51C7A2DA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335E-987D-474E-8F46-58943B1B4F4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7571-177B-4A0A-A2A7-1A386996F73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T. Lyons, P.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and Associ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990360" y="12952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ine Minimum Contro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72400" y="5699160"/>
            <a:ext cx="1143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ments from EPA Inspe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1.  Proper O&amp;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 a written O&amp;M pl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M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sewer cleaning rates and CCTV inspections to decrease whole-system cycle tim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me of EPA inspe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2.  Maximize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regulator settings (and documen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mp station op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irect separate sanitary f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e inf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ise overflow stru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me of EPA inspe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3.  Pre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all “nondomestic”  discharges to the CSS (not just SIU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olume, pollutants and concent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ess impact of nondomestic discharges on receiving wat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me of EPA inspe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4.  Maximize flow to POT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 capacity of major interceptors pump stations and treatment faci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treatment capac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 load f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ments from EPA Inspe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5.  Elimination of Dry Weather CS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lement an inspection program of critical components of CSS (dams, weirs, CSO outfall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iminate or show a reduction in DW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ments from EPA inspe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6.  Solids and Floatables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tudy and consider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end-of-pip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olid and floatable material contro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e.g. baffles, screens, racks, booms, and skimmer vessel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ments from EPA inspe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7.  Pollution Preven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Public education program that encourages the proper disposal of sanitary and personal hygiene it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ments from EPA Inspe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8.  Public No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“Permanent” signs at out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Bill inse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Newspaper art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ments from EPA Inspe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9.  Monitor CSO Impa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Visual inspections and other simple methods to determine occurrence and impa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ccurate flow metering equipment at each C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Date, time and rainf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2004 Report to Congres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implementation rate for NMCs is approximately 38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ine Minimum Contro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er operation and maintenanc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ximum use of the collection system for storag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 and modification of pretreatment  requirement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ximization of flow to the publicly owned treatment works (POTW) for treatmen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hibition of CSOs during dry weather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 of solid and floatable materials in CSO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lution Preventio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blic Notification of CSO occurrences and impact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itoring of CSO impacts and the efficacy of CSO contro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nvironmental Groups Meet with EPA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forcement and Compliance History Online (ECHO) database – inadequ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t EPA to add communities that do not meet NMC or LTCP requirements to its list of permittees in SN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licy – Small System Consider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y with NM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c Partici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sitive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ooking Ahead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ew/upgrade your NMC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ocumentation is crit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 implemented contr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arize accomplish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inspection fo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maintenance lo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budg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trols to Focus 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S&amp;F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 Pre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 Public No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btain approv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a statement of NMC approval included in your NPDES perm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s specific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incorporated by refe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QUESTION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licy “expectations”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mittees should immediately implement the nine minimum controls as soon as practicable but no later than January 1, 199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ational CSO Polic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94 – USEPA publishes the CSO Polic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ase I perm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lement N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ase II Perm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t. implementation of N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g Term Control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5880" y="3048120"/>
            <a:ext cx="282600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PA Guidance for NMC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MC…”do not require significant engineering studies or major construction, and can be implemented in a relatively short period (e.g., less than approximately two years)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PA Guidance for NMC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encourages municipalities to be creative and to explore innovative and cost-effective measures in implementing the NM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MC are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emporary measur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ocumentation of NMC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lternatives considered for each minimum control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ctions selected and the reasons for their selectio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chedule showing additional steps to be take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ffectiveness of the minimum controls in reducing water quality impact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PA Guidance for NMC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MC are not necessarily distinct and separate from one anot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control measures can address more than one of the controls at the same time (e.g. street sweeping can address both S&amp;F and P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3500" spc="-1" strike="noStrike">
                <a:solidFill>
                  <a:srgbClr val="eaeaea"/>
                </a:solidFill>
                <a:latin typeface="Tahoma"/>
              </a:rPr>
              <a:t>CWA National Enforcement Priorities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(from OECA web page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2590560"/>
            <a:ext cx="8229600" cy="29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EPA OECA list of prioriti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torm Water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ffff66"/>
                </a:solidFill>
                <a:latin typeface="Tahoma"/>
              </a:rPr>
              <a:t>CSO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SO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6:06:55Z</dcterms:created>
  <dc:creator>Aqualaw4</dc:creator>
  <dc:description/>
  <dc:language>en-US</dc:language>
  <cp:lastModifiedBy>kwhite</cp:lastModifiedBy>
  <dcterms:modified xsi:type="dcterms:W3CDTF">2006-06-06T15:00:10Z</dcterms:modified>
  <cp:revision>44</cp:revision>
  <dc:subject/>
  <dc:title>LITIGATION UPDATE MAMWA JANUARY 26, 2005</dc:title>
</cp:coreProperties>
</file>