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ohnL" initials="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06-05-23T16:16:23.125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CA3-9561-4681-A125-309778C6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92A-1613-4E3C-8698-F6E30C9E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8A2-CC9A-4A30-8309-BE931D9D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B83-110D-49B9-90DB-F9E6C470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C974-62FE-416B-BDE0-7EEDF696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7B2D-4B37-4208-B13E-BE8C629F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94D7-0ED7-4123-B072-44645539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9AB1-9AF1-4529-9BEE-A192074C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353D-19F3-4D40-BB36-400A287F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BC56-D5B9-417B-89C6-8AEF6D18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A9C6-FAFF-4001-B4BE-95A2A94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6A0-F6A0-4D98-9EBD-4F52C06A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EC07-9A6F-49D9-8FA0-C3C5FFAF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4996-DA6F-4D1F-A093-DCF24B4D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7414-133C-476B-8EF5-DBA1EEFA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5E2C-E42F-4D77-BEBA-182EC659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E39F-FAD4-481D-8992-3A9E93C9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C0A-4871-4A9E-BEBB-4BB22BBA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FC4-FDD0-4D39-8906-FA6927BF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0D3-CBE3-4BBB-B50E-F410FB49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461-7FAB-49DF-A0A4-44624573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DA5-53C4-46B3-B8F9-0B6EB6B7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7A5-53E2-4297-91E6-7673F8CE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96D-6953-470E-A362-09A376C9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1684-FB91-4EE7-B864-EDB66138A5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E9A-90CB-4CC5-9235-B5A6EDD144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T. Lyons, P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d Associ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90360" y="1295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ine Minimum Contro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72400" y="5699160"/>
            <a:ext cx="1143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1.  Proper O&amp;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a written O&amp;M pl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sewer cleaning rates and CCTV inspections to decrease whole-system cycle ti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me of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2.  Maximize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regulator settings (and docu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mp station 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irect separate sanitary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 in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se overflow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me of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3.  Pre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all “nondomestic”  discharges to the CSS (not just SI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lume, pollutants and concent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 impact of nondomestic discharges on receiving wa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me of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4.  Maximize flow to POT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capacity of major interceptors pump stations and treatment fac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treatment capac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 load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5.  Elimination of Dry Weather C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 an inspection program of critical components of CSS (dams, weirs, CSO outfall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iminate or show a reduction in DW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6.  Solids and Floatables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udy and consider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end-of-pi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lid and floatable material contro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.g. baffles, screens, racks, booms, and skimmer vesse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7.  Pollution Pre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ublic education program that encourages the proper disposal of sanitary and personal hygiene i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8.  Public No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“Permanent” signs at out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Bill inse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Newspaper 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9.  Monitor CSO Imp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isual inspections and other simple methods to determine occurrence and imp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curate flow metering equipment at each C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ate, time and rainf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2004 Report to Congr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implementation rate for NMCs is approximately 38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ine Minimum Contro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 operation and maintenanc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um use of the collection system for storag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and modification of pretreatment  requirement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ization of flow to the publicly owned treatment works (POTW) for treat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hibition of CSOs during dry weather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of solid and floatable materials in CS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lution Preven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 Notification of CSO occurrences and impact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 of CSO impacts and the efficacy of CSO contro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vironmental Groups Meet with EP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forcement and Compliance History Online (ECHO) database – inadequ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t EPA to add communities that do not meet NMC or LTCP requirements to its list of permittees in SN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licy – Small System Consider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y with NM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Parti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itive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oking Ahead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/upgrade your NMC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ocumentation is crit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 implemented contr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ize accomplish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nspection 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aintenance lo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budg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trols to Focus 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S&amp;F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Pre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Public No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tain approv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statement of NMC approval included in your NPDES perm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s specific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ncorporated by re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licy “expectations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ttees should immediately implement the nine minimum controls as soon as practicable but no later than January 1, 199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CSO Polic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4 – USEPA publishes the CSO Poli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se I per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 N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se II Per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. implementation of N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 Term Control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8260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A Guidance for N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MC…”do not require significant engineering studies or major construction, and can be implemented in a relatively short period (e.g., less than approximately two years)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A Guidance for N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encourages municipalities to be creative and to explore innovative and cost-effective measures in implementing the NM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C ar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mporary measur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cumentation of N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lternatives considered for each minimum contro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tions selected and the reasons for their selec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chedule showing additional steps to be take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ffectiveness of the minimum controls in reducing water quality impact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A Guidance for N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MC are not necessarily distinct and separate from one an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ontrol measures can address more than one of the controls at the same time (e.g. street sweeping can address both S&amp;F and P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CWA National Enforcement Priorities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(from OECA web page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8229600" cy="29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PA OECA list of prioriti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torm Water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ffff66"/>
                </a:solidFill>
                <a:latin typeface="Tahoma"/>
              </a:rPr>
              <a:t>CSO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SO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kwhite</cp:lastModifiedBy>
  <dcterms:modified xsi:type="dcterms:W3CDTF">2006-06-06T15:00:10Z</dcterms:modified>
  <cp:revision>44</cp:revision>
  <dc:subject/>
  <dc:title>LITIGATION UPDATE MAMWA JANUARY 26, 2005</dc:title>
</cp:coreProperties>
</file>