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D8E-ACFC-40F5-AC0C-6C4F998A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 the LA area, engineered channels have been constructed to move floodwaters from urban areas to the oce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se channels transport large volumes of water that might not be of adequate quality to support the “fishable/swimmable” goal of Clean Water Act (CWA) section 101(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nder certain conditions recreational uses are inappropriate for these channels. During high-flow flood conditions, it is not safe to swim in the waters; during summer dry periods, the flow is insufficient for swimm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Los Angeles Region has opted to issue a suspension of recreational use during periods of high flow. Through a revision to its water quality control plan, the Los Angeles Region has indicated that during high-flow events, when it is not safe to be in the modified channels, these waterbodies do not have to meet bacteria crite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suspension of recreational uses applies under the rainfall conditions that trigger the Region’s swift-water protocols. (Note: The Los Angeles Region has aquatic life standards for these channels that have not been revised, and subcategories of the aquatic life uses might be developed in the futur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llowing this use attainability analysis (UAA), EPA approved the revision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ater Quality Control Plan for the Los Angeles Re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high-flow conditions in Ballona Creek. These swift water conditions and the shape of the channel make recreational activities dangerous during and after rai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Variance for the MWRA CSO Control Plan in the Charles River Basin FINAL (9/2/98) Massachusetts Department of Environmenta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 is how to achieve the highest attainable fishable/swimmable use, while appropriately considering limited information on which to make common sens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QS primarily for source control and long-term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BEACH Act requires grant recipients to base their beach decisions on water quality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2000" indent="-169560"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96080" y="76320"/>
            <a:ext cx="1371600" cy="1303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59092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Times New Roman"/>
              </a:rPr>
              <a:t>… </a:t>
            </a:r>
            <a:r>
              <a:rPr b="1" i="1" lang="en-US" sz="2000" spc="-1" strike="noStrike">
                <a:solidFill>
                  <a:srgbClr val="808080"/>
                </a:solidFill>
                <a:latin typeface="Times New Roman"/>
              </a:rPr>
              <a:t>applying science &amp; technology to improve water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57200" y="1295280"/>
            <a:ext cx="7251480" cy="12600"/>
            <a:chOff x="457200" y="1295280"/>
            <a:chExt cx="7251480" cy="12600"/>
          </a:xfrm>
        </p:grpSpPr>
        <p:sp>
          <p:nvSpPr>
            <p:cNvPr id="5" name=""/>
            <p:cNvSpPr/>
            <p:nvPr/>
          </p:nvSpPr>
          <p:spPr>
            <a:xfrm>
              <a:off x="469800" y="130788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295280"/>
              <a:ext cx="723888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wra.state.ma.us/harbor/html/wklyintr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ater Quality Standards Issu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im Kea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.S. EP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e 1, 200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 Activity at EP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HQ and Regions have hosted 4 co-regulator meetings with states and 2 stakeholder discussion meetings (one more is planned for July in Seattl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has distributed a memo highlighting key concepts to improve the effectiveness of the use attainability analysis process and provided several case studies (5/13/06 from Ephraim K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is currently preparing a set of Q&amp;As to address many of the questions and misconceptions surfaced at these meeting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70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has updated the WQS “Academy” training materials and is updating our website to reflect this new cont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mes From Stakeholder Meeting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 much debate, not enough 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ern that indecision and inaction are a result of un-resolved standards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 about return on invest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oritization of resources and application where they will produce meaningful environmental prog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r of doing too much, fear of doing too litt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ust that outcome of UAAs will result in ignoring restoration needs, or result in over-investment where nothing is to be ga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guidance is nee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mes From Co-Regulator Meeting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gnition and appreciation of innovative approaches from many st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is exploring and developing alternatives to use removal, such as variances and longer term compliance schedu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gnition of importance of developing UAA protocols in advance of use chan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s about public involvement and acceptance of use chan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guidance is nee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y Messages from Recent Mem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ght us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effective UAA proc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Getting the uses right requires states, tribes and others to have an effective process for conducting credible and defensible UA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A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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WQS chang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he goal is that the new use is more accurat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QS chang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f a credible and defensible UAA indicates a need for a WQS change, then a change to WQS is appropriate to effectively implementing the WQS program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A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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TMD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creased coordination of these processes can ensure resources are directed where they will be most effective and avoid duplicative effor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roved public communica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Improved public accep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t is critical for EPA, states and tribes to engage the public in meaningful discussions regarding the importance and value of getting uses right in maintaining and restoring water qua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mporary Suspension Example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os Angeles Channel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: high flows in urban engineered channels during &amp; after rain events make swimming unsaf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taken: temporary suspension of recreational us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uring &amp; after rain ev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wimming is inappropriate at those tim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ers do not have to meet bacteria crite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als are locked so that access can be restri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wnstream uses are still protec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1.10(g) factors: 2,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-flow Conditions 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LA Channel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87600" y="1747800"/>
            <a:ext cx="62118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bcategory Example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 WQS for CS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638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roved facilities plan provides justification for the overflow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artment finds through a use attainability analysis, and EPA concurs, that achieving a greater level of CSO control is not feasible for one of the reasons specified at 314 CMR 4.03(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uses and the level of water quality necessary to protect the existing uses shall be maintained and protec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notice is provided through procedures for permit issuance and facility plan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Link to Boston Harbor and Rivers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5238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232680" y="460836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ss.gov/dep/service/regulations/314cmr04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ple of Limited Applicability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C Proposed WQ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 on criteri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is criterion shall apply to E.coli bacteria determined by the Director to be of non-wildlife origin based best scientific judgment using available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 on u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ch uses are not expected during times of high current velocity, floods, electrical storms, hurricanes, tornadoes, winter temperatures, heavy ice conditions and other adverse natural cond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PA disapproved these provi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ssons Learne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-categorizing recreational uses based on risk level and degree of exposure has worked when it requires an appropriate case-by-case demonst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AA factors for assigning less than 101(a) recreational uses have included natural flow conditions, human caused conditions that cannot be remedied, and substantial and widespread social and economic i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gue and broadly applicable limitations, without demonstration, have not work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Recreational Use Problem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 have adopted “primary contact recreation” for almost almost all waters; sometimes viewed as applying 365 days/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ve bacteriological criteria are difficult to meet at all times for waters affected by urban areas, CSOs/SSOs, and agricultural run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 not promoted for recreational use, many of these waters are used with varying degrees of frequency for swimming, wading, rafting, et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38080" y="1523880"/>
          <a:ext cx="754380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5438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itfalls of Public Percep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Use of EPA’s Recommended Criter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recommends the criteria for two different, yet related purpo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ction of water bodies designated for recreational uses in state and tribal WQ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in beach monitoring and notification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92000" indent="-16956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ect public 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92000" indent="-16956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d in determining when to issue advisories or close be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each Act (2004) Interpretation of EPA Recommended Criter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eometric mean is the more relevant value to protect and improve water qua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reliabl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s subject to random var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directly linked to the underlying studies which were the basis for the 1986 bacteria crit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ample maximum” values are most appropriate for beach notification and closure deci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veloping a Water Quality-based LTC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mptive Appro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-6 overflow event per year, 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5% cap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nstration Appro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ing and modelng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ither fit well with strictly interpreted “maximum” criteria or expectations for low risk recreational use all the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over achieving WQS in long term should not be a barrier to implementing LTC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amples of WQS that Better Match Presumptive/Demonstration Approach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“single sample maximum” for monitoring and notification purpose only (Beach Act interpreta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t weather modifications to criteria expression (e.g., “high flow cutoff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t weather modifications to use design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term use refin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-term var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perties of a Vari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es on same regulatory basis as use removal (131.10(g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limited in scope b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s and Pollutants address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graphy (space) and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include additional provi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796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796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ainability analy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opted and Approved as Applicable WQ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ays of Refi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reational U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degree of exposure (e.g., primary and secondary conta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illness risk level (e.g., 8 illnesses per 1000 vs 10 illnesses per 100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pathogen source (e.g., wildlife impacted use) – generally requires a UA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amount of time (e.g., number of days) the use is expected to be met – generally requires a UA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9:08:03Z</dcterms:created>
  <dc:creator>Jim Keating</dc:creator>
  <dc:description/>
  <dc:language>en-US</dc:language>
  <cp:lastModifiedBy>Jim Keating</cp:lastModifiedBy>
  <dcterms:modified xsi:type="dcterms:W3CDTF">2006-06-01T17:21:01Z</dcterms:modified>
  <cp:revision>13</cp:revision>
  <dc:subject/>
  <dc:title>Designated Uses in WQS</dc:title>
</cp:coreProperties>
</file>