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55A8B-8811-4660-B994-C0092309C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 the LA area, engineered channels have been constructed to move floodwaters from urban areas to the ocea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se channels transport large volumes of water that might not be of adequate quality to support the “fishable/swimmable” goal of Clean Water Act (CWA) section 101(a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Under certain conditions recreational uses are inappropriate for these channels. During high-flow flood conditions, it is not safe to swim in the waters; during summer dry periods, the flow is insufficient for swimming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 Los Angeles Region has opted to issue a suspension of recreational use during periods of high flow. Through a revision to its water quality control plan, the Los Angeles Region has indicated that during high-flow events, when it is not safe to be in the modified channels, these waterbodies do not have to meet bacteria criter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 suspension of recreational uses applies under the rainfall conditions that trigger the Region’s swift-water protocols. (Note: The Los Angeles Region has aquatic life standards for these channels that have not been revised, and subcategories of the aquatic life uses might be developed in the future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ollowing this use attainability analysis (UAA), EPA approved the revision to th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Water Quality Control Plan for the Los Angeles Reg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hoto shows high-flow conditions in Ballona Creek. These swift water conditions and the shape of the channel make recreational activities dangerous during and after rain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: Variance for the MWRA CSO Control Plan in the Charles River Basin FINAL (9/2/98) Massachusetts Department of Environmental Pro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llenge is how to achieve the highest attainable fishable/swimmable use, while appropriately considering limited information on which to make common sense deci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QS primarily for source control and long-term 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the BEACH Act requires grant recipients to base their beach decisions on water quality standa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92000" indent="-169560">
              <a:spcBef>
                <a:spcPts val="60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696080" y="76320"/>
            <a:ext cx="1371600" cy="13032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590920" y="632448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8080"/>
                </a:solidFill>
                <a:latin typeface="Times New Roman"/>
              </a:rPr>
              <a:t>… </a:t>
            </a:r>
            <a:r>
              <a:rPr b="1" i="1" lang="en-US" sz="2000" spc="-1" strike="noStrike">
                <a:solidFill>
                  <a:srgbClr val="808080"/>
                </a:solidFill>
                <a:latin typeface="Times New Roman"/>
              </a:rPr>
              <a:t>applying science &amp; technology to improve water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457200" y="1295280"/>
            <a:ext cx="7251480" cy="12600"/>
            <a:chOff x="457200" y="1295280"/>
            <a:chExt cx="7251480" cy="12600"/>
          </a:xfrm>
        </p:grpSpPr>
        <p:sp>
          <p:nvSpPr>
            <p:cNvPr id="5" name=""/>
            <p:cNvSpPr/>
            <p:nvPr/>
          </p:nvSpPr>
          <p:spPr>
            <a:xfrm>
              <a:off x="469800" y="1307880"/>
              <a:ext cx="7238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57200" y="1295280"/>
              <a:ext cx="7238880" cy="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mwra.state.ma.us/harbor/html/wklyintr.htm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ater Quality Standards Issu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im Keatin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.S. EP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une 1, 200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rogram Activity at EP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1708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PA HQ and Regions have hosted 4 co-regulator meetings with states and 2 stakeholder discussion meetings (one more is planned for July in Seattle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708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PA has distributed a memo highlighting key concepts to improve the effectiveness of the use attainability analysis process and provided several case studies (5/13/06 from Ephraim King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708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PA is currently preparing a set of Q&amp;As to address many of the questions and misconceptions surfaced at these meeting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708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PA has updated the WQS “Academy” training materials and is updating our website to reflect this new cont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mes From Stakeholder Meeting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o much debate, not enough ac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spcBef>
                <a:spcPts val="4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cern that indecision and inaction are a result of un-resolved standards issu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cern about return on investm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spcBef>
                <a:spcPts val="4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ioritization of resources and application where they will produce meaningful environmental progre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ar of doing too much, fear of doing too littl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spcBef>
                <a:spcPts val="4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strust that outcome of UAAs will result in ignoring restoration needs, or result in over-investment where nothing is to be gain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PA guidance is need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mes From Co-Regulator Meeting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cognition and appreciation of innovative approaches from many stat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est is exploring and developing alternatives to use removal, such as variances and longer term compliance schedul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cognition of importance of developing UAA protocols in advance of use chang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cerns about public involvement and acceptance of use chang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PA guidance is need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ey Messages from Recent Memo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ight use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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effective UAA proc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Getting the uses right requires states, tribes and others to have an effective process for conducting credible and defensible UAA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UA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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WQS chang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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or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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The goal is that the new use is more accurate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WQS chang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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Ba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If a credible and defensible UAA indicates a need for a WQS change, then a change to WQS is appropriate to effectively implementing the WQS program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UA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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TMDL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Increased coordination of these processes can ensure resources are directed where they will be most effective and avoid duplicative effort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mproved public communicatio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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Improved public accepta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It is critical for EPA, states and tribes to engage the public in meaningful discussions regarding the importance and value of getting uses right in maintaining and restoring water qualit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emporary Suspension Example: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os Angeles Channel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: high flows in urban engineered channels during &amp; after rain events make swimming unsaf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on taken: temporary suspension of recreational use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uring &amp; after rain ev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spcBef>
                <a:spcPts val="4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wimming is inappropriate at those tim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07960" indent="-169920">
              <a:spcBef>
                <a:spcPts val="4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aters do not have to meet bacteria criter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07960" indent="-169920">
              <a:spcBef>
                <a:spcPts val="4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nals are locked so that access can be restrict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07960" indent="-169920">
              <a:spcBef>
                <a:spcPts val="4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ownstream uses are still protect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31.10(g) factors: 2, 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High-flow Conditions i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LA Channel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587600" y="1747800"/>
            <a:ext cx="6211800" cy="40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ubcategory Example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 WQS for CSO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5638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pproved facilities plan provides justification for the overflow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partment finds through a use attainability analysis, and EPA concurs, that achieving a greater level of CSO control is not feasible for one of the reasons specified at 314 CMR 4.03(4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ing uses and the level of water quality necessary to protect the existing uses shall be maintained and protect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notice is provided through procedures for permit issuance and facility plann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Link to Boston Harbor and Rivers p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152388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232680" y="4608360"/>
            <a:ext cx="245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mass.gov/dep/service/regulations/314cmr04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xample of Limited Applicability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C Proposed WQ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mitation on criteria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spcBef>
                <a:spcPts val="4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is criterion shall apply to E.coli bacteria determined by the Director to be of non-wildlife origin based best scientific judgment using available inform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mitation on use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spcBef>
                <a:spcPts val="4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uch uses are not expected during times of high current velocity, floods, electrical storms, hurricanes, tornadoes, winter temperatures, heavy ice conditions and other adverse natural condi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07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3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PA disapproved these provis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ssons Learned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-categorizing recreational uses based on risk level and degree of exposure has worked when it requires an appropriate case-by-case demonstr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spcBef>
                <a:spcPts val="4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AA factors for assigning less than 101(a) recreational uses have included natural flow conditions, human caused conditions that cannot be remedied, and substantial and widespread social and economic impa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gue and broadly applicable limitations, without demonstration, have not work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Recreational Use Problem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es have adopted “primary contact recreation” for almost almost all waters; sometimes viewed as applying 365 days/yea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tective bacteriological criteria are difficult to meet at all times for waters affected by urban areas, CSOs/SSOs, and agricultural runoff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le not promoted for recreational use, many of these waters are used with varying degrees of frequency for swimming, wading, rafting, etc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838080" y="1523880"/>
          <a:ext cx="7543800" cy="46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523880"/>
                    <a:ext cx="754380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itfalls of Public Perceptio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Use of EPA’s Recommended Criteri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PA recommends the criteria for two different, yet related purpose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tection of water bodies designated for recreational uses in state and tribal WQ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07960" indent="-1699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in beach monitoring and notification progr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92000" indent="-169560">
              <a:spcBef>
                <a:spcPts val="49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tect public heal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792000" indent="-169560">
              <a:spcBef>
                <a:spcPts val="49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id in determining when to issue advisories or close beach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Beach Act (2004) Interpretation of EPA Recommended Criteri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geometric mean is the more relevant value to protect and improve water qual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spcBef>
                <a:spcPts val="4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re reliable meas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07960" indent="-169920">
              <a:spcBef>
                <a:spcPts val="4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ss subject to random vari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07960" indent="-169920">
              <a:spcBef>
                <a:spcPts val="4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re directly linked to the underlying studies which were the basis for the 1986 bacteria crite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ngle sample maximum” values are most appropriate for beach notification and closure decis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eveloping a Water Quality-based LTCP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sumptive Approac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spcBef>
                <a:spcPts val="4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-6 overflow event per year, 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07960" indent="-169920">
              <a:spcBef>
                <a:spcPts val="4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85% captu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monstration Approac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spcBef>
                <a:spcPts val="4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nitoring and modelng da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ither fit well with strictly interpreted “maximum” criteria or expectations for low risk recreational use all the ti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certainty over achieving WQS in long term should not be a barrier to implementing LTC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xamples of WQS that Better Match Presumptive/Demonstration Approach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of “single sample maximum” for monitoring and notification purpose only (Beach Act interpretation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t weather modifications to criteria expression (e.g., “high flow cutoff”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t weather modifications to use design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spcBef>
                <a:spcPts val="4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ng-term use refin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07960" indent="-169920">
              <a:spcBef>
                <a:spcPts val="4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hort-term vari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roperties of a Varianc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ies on same regulatory basis as use removal (131.10(g)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n be limited in scope by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urces and Pollutants addresse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07960" indent="-16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ography (space) and Ti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392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y include additional provis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07960" indent="-16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tainability analy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392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opted and Approved as Applicable WQ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ays of Refining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reational Us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y degree of exposure (e.g., primary and secondary contact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y illness risk level (e.g., 8 illnesses per 1000 vs 10 illnesses per 1000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y pathogen source (e.g., wildlife impacted use) – generally requires a UA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y the amount of time (e.g., number of days) the use is expected to be met – generally requires a UA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09:08:03Z</dcterms:created>
  <dc:creator>Jim Keating</dc:creator>
  <dc:description/>
  <dc:language>en-US</dc:language>
  <cp:lastModifiedBy>Jim Keating</cp:lastModifiedBy>
  <dcterms:modified xsi:type="dcterms:W3CDTF">2006-06-01T17:21:01Z</dcterms:modified>
  <cp:revision>13</cp:revision>
  <dc:subject/>
  <dc:title>Designated Uses in WQS</dc:title>
</cp:coreProperties>
</file>