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3661-E82E-440D-BD7A-ADFAD5256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1837-5868-42B8-A6E8-E09AC529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88C9-0CED-4CAE-A42D-BEE897589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D216-E9C0-4E61-A15D-71D851B5B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7CA0-0D52-4EA5-8B94-97CFCF939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1645-1305-4AFF-90CC-184A685E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F4FB-ADC8-4F41-ADC0-DB91B9E5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1653-5502-470B-9E0C-96B52E11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AF7D-FD38-4E55-91EB-00E1D6E3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0636-DA14-4775-A5C2-ACEBA3E4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A855-DB0E-4D66-9470-06D09BDA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3342-C846-4E2B-BE34-A2706EB5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C258-C1F9-4AA4-9A8A-9E85520C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A2AC-3641-427F-B187-1799E30C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6B85-C9DD-42E3-BE11-BB5E0A6B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86EC-11BD-4785-8FCE-86966CCBB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C7A7-B44C-4E34-989D-7884DE026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1286-06CB-4AE9-BA24-83728EB9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CDB2-522C-4E91-8670-B7770315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009C-8B0F-43CB-B0D5-9C4A380C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B666-794D-4B02-8C1E-C8B511A4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1795-92CF-4E2B-9B31-48DA3187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2207-EE24-4655-9E46-BBACC3D9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C2B1-CAE2-4F35-8819-C2C2C9C4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D14C-FF3A-41A5-B44C-7F75F947DC8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056D-5E97-4DC1-A791-23544EB9F5D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1996920"/>
            <a:ext cx="73152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Selecting and Living with CSO Performance Measure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320" y="4038120"/>
            <a:ext cx="7239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ry W. Mercer, P.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D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mbridge, Massachuset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ypes of CSO Performance Measur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oup 2: $ Expenditure per y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liance is based on $ expendit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if affordability bas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gal agreement includes statement that any remaining CSO discharges will not cause or contribute to water quality exceedenc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ypes of CSO Performance Measur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oup 3: Performance of completed CSO facil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nual CSO volu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cent cap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SO overflows per year (max. or averag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ximize use of facilities; flow and/or volu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liance is at completion of project and after monitoring performance of CSO faciliti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gal Agreement includes statement that any remaining CSO discharges will not cause or contribute to water quality exceedenc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ypes of CSO Performance Measur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oup 4: Meet water quality goals (standard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cteria reduction and/or improved dissolved oxy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liance is at completion of program and after monitoring instream water qu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gal agreement includes statement that any remaining CSO discharges will not cause or contribute to water quality exceedenc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mparison of PM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80880" y="1733400"/>
          <a:ext cx="8457840" cy="5124600"/>
        </p:xfrm>
        <a:graphic>
          <a:graphicData uri="http://schemas.openxmlformats.org/drawingml/2006/table">
            <a:tbl>
              <a:tblPr/>
              <a:tblGrid>
                <a:gridCol w="1174680"/>
                <a:gridCol w="1801080"/>
                <a:gridCol w="2193120"/>
                <a:gridCol w="3288960"/>
              </a:tblGrid>
              <a:tr h="91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Gro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Moni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ssu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1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roject Schedu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Constru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- Construction Manage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91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$ per Ye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Yearly Expendi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- Construction Manage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Facilities Perform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ost Construction Facilities Meter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- At comple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- Actual perform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- Accuracy of meter/mod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36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Meet WQ Go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ost Construction Instream Monitor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7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- At comple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7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- Actual perform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7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- Accuracy of meter/mod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7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- Other sour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mparison of PM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up 1 (Project schedule) and Group 2 ($ per year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uild and belie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up 3 (Facilities performance) and Group 4 (Meet WQ Goals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uild and pro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mparisons of PM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Groups 3 and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formance measured after constr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aring predicted performance to actual perform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ject to accuracy of metering, models and analy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facility not adequate, may/will need to build mor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BUT…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mparison of PM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ltimate goal of CSO program is CSO facility performance and achieving water quality goal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ither you know and solve the issue, o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y blissful ignorant of iss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gend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SO Poli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gal Agre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formance Meas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Select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es of Meas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arison of Meas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SO Polic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Demonstrative Approac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equires the CSO program will meet the state water quality standar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esumptive Approac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resume compliance with water quality standards if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 more than four to six discharges per year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imination or capture of eighty-five percent of the volume of pollutants concerned, o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imination or capture of eighty-five percent of the mass of pollutants concerne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election of CSO Program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communities select their CSO program based on one or more of the followi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fordability (UA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eting water quality standards (No need for UA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bination of cost of program and cost-effectiveness. (UAA?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ceived goal of 4 overflows per year (UAA?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egal Agreemen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SO Long Term Control Plan completed and approved by regulatory agencies.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(Yeah!!!!!)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gal agreement to implement selected CSO program; such as consent decree, court order, or administrative ord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erformance Measur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96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ained in legal agre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s of Performance Measure ar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00"/>
              </a:spcBef>
              <a:buClr>
                <a:srgbClr val="ffffff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ject schedu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00"/>
              </a:spcBef>
              <a:buClr>
                <a:srgbClr val="ffffff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$ per year expendi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00"/>
              </a:spcBef>
              <a:buClr>
                <a:srgbClr val="ffffff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itor and confirm performance of completed CSO facil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00"/>
              </a:spcBef>
              <a:buClr>
                <a:srgbClr val="ffffff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itoring instream and confirm compliance of WQ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ttributes of Performance Measur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rectly measur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levant measure to progr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ortable to agencies and public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$ spent per year, projects completed,  system improvement measures, or water quality improv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o Selects the Performance Measures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PA or State agency…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unity can try, but often they only add additional requirem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ypes of CSO Performance Measur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oup 1: Project list and sched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d date, construction start, construction complete, and/or start of operatio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liance is based on progress in construc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gal agreement includes statement that any remaining CSO discharges will not cause or contribute to water quality exceedenc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6:06:55Z</dcterms:created>
  <dc:creator>Aqualaw4</dc:creator>
  <dc:description/>
  <dc:language>en-US</dc:language>
  <cp:lastModifiedBy>mmorel</cp:lastModifiedBy>
  <dcterms:modified xsi:type="dcterms:W3CDTF">2006-05-26T15:45:32Z</dcterms:modified>
  <cp:revision>47</cp:revision>
  <dc:subject/>
  <dc:title>LITIGATION UPDATE MAMWA JANUARY 26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1557464</vt:r8>
  </property>
  <property fmtid="{D5CDD505-2E9C-101B-9397-08002B2CF9AE}" pid="3" name="_AuthorEmail">
    <vt:lpwstr>MercerGW@cdm.com</vt:lpwstr>
  </property>
  <property fmtid="{D5CDD505-2E9C-101B-9397-08002B2CF9AE}" pid="4" name="_AuthorEmailDisplayName">
    <vt:lpwstr>Mercer, Gary</vt:lpwstr>
  </property>
  <property fmtid="{D5CDD505-2E9C-101B-9397-08002B2CF9AE}" pid="5" name="_EmailSubject">
    <vt:lpwstr>Wet Weather Partnership/NACWA CSO Workshop: June 1-2 in Chicago</vt:lpwstr>
  </property>
  <property fmtid="{D5CDD505-2E9C-101B-9397-08002B2CF9AE}" pid="6" name="_NewReviewCycle">
    <vt:lpwstr/>
  </property>
</Properties>
</file>