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3B1-2E1B-4E08-A61B-1B0C5FC8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687-74FB-429E-A543-459115B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190-A39F-4513-B0FA-E37F140C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58C-C32E-4B96-A0A7-3D520F49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6525-4C0C-41E6-9731-C99CC40F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E60B-AB4F-45AD-98F2-E5BC9234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23A5-EB01-4ED1-9418-5C9B0BF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78E4-E402-4671-8AAF-55E5747A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85CA-D47F-477B-82A5-75BF6A9C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9CA8-AE0F-4BD9-AC52-7F8D42F0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F933-608B-43EB-AF76-0C2FFDA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537-1FFF-4625-9D97-E5C2B393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614C-F518-4B2F-A91D-EAD6CA58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D020-6021-4302-BAA3-AFABA1E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8967-BEDA-46C0-BE48-6D76FB49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31A2-1CB7-4A90-A81B-2321ECE6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1D2F-AA36-421A-AA9B-2375EFEF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1C1-0032-40D9-98C3-6517264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A28-BC96-438D-8E15-99FBC88A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25E-1996-44A7-BC1B-6F0715C5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8D6-443D-4FA2-8B24-A1234A5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63B-6EE5-492B-8874-854E6F6F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1E1-322A-4FBE-AD39-7AE912A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EBD-AC4C-4477-A6C2-F498FA62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7C8B-808E-4AF8-9FFA-25528C7049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5FF9-0EDB-4B3D-AAEE-5F14AA8593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7315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lecting and Living with CSO Performance Measur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ry W. Mercer, P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mbridge, Massachuse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CSO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oup 2: $ Expenditure per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is based on $ expendi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if affordability ba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agreement includes statement that any remaining CSO discharges will not cause or contribute to water quality exceed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CSO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oup 3: Performance of completed CSO fac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nual CSO vol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nt cap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SO overflows per year (max. or aver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ize use of facilities; flow and/or vol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is at completion of project and after monitoring performance of CSO facili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Agreement includes statement that any remaining CSO discharges will not cause or contribute to water quality exceed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CSO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oup 4: Meet water quality goals (standard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 reduction and/or improved dissolved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is at completion of program and after monitoring instream water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agreement includes statement that any remaining CSO discharges will not cause or contribute to water quality exceed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arison of P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1733400"/>
          <a:ext cx="8457840" cy="5124600"/>
        </p:xfrm>
        <a:graphic>
          <a:graphicData uri="http://schemas.openxmlformats.org/drawingml/2006/table">
            <a:tbl>
              <a:tblPr/>
              <a:tblGrid>
                <a:gridCol w="1174680"/>
                <a:gridCol w="1801080"/>
                <a:gridCol w="2193120"/>
                <a:gridCol w="328896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oject Sched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Construction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 per Y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Yearly Expendi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Construction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acilities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st Construction Facilities Mete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t comple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ctual perform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ccuracy of meter/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eet WQ Go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st Construction Instream Monito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t comple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ctual perform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ccuracy of meter/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Other sou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arison of P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 (Project schedule) and Group 2 ($ per year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uild and belie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3 (Facilities performance) and Group 4 (Meet WQ Goal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uild and pr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arisons of P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Groups 3 and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ance measured after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ing predicted performance to actual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to accuracy of metering, models and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facility not adequate, may/will need to build mo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UT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arison of P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ltimate goal of CSO program is CSO facility performance and achieving water quality goal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ther you know and solve the issue, 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 blissful ignorant of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ge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O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ance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Selec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ison of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SO Polic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monstrative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quires the CSO program will meet the state water quality stand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umptive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esume compliance with water quality standards if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more than four to six discharges per year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imination or capture of eighty-five percent of the volume of pollutants concerned, 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imination or capture of eighty-five percent of the mass of pollutants concern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lection of CSO Progra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ommunities select their CSO program based on one or more of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ordability (UA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water quality standards (No need for UA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ation of cost of program and cost-effectiveness. (UAA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ceived goal of 4 overflows per year (UAA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gal Agre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O Long Term Control Plan completed and approved by regulatory agencies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Yeah!!!!!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greement to implement selected CSO program; such as consent decree, court order, or administrative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ed in legal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s of Performance Measure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 per year expendi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 and confirm performance of completed CSO fac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instream and confirm compliance of WQ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tributes of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ly measu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evant measure to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able to agencies and public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 spent per year, projects completed,  system improvement measures, or water quality impr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o Selects the Performance Measure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or State agency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ty can try, but often they only add additional requir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CSO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oup 1: Project list and sche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d date, construction start, construction complete, and/or start of oper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is based on progress in constru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agreement includes statement that any remaining CSO discharges will not cause or contribute to water quality exceed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mmorel</cp:lastModifiedBy>
  <dcterms:modified xsi:type="dcterms:W3CDTF">2006-05-26T15:45:32Z</dcterms:modified>
  <cp:revision>47</cp:revision>
  <dc:subject/>
  <dc:title>LITIGATION UPDATE MAMWA JANUARY 26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557464</vt:r8>
  </property>
  <property fmtid="{D5CDD505-2E9C-101B-9397-08002B2CF9AE}" pid="3" name="_AuthorEmail">
    <vt:lpwstr>MercerGW@cdm.com</vt:lpwstr>
  </property>
  <property fmtid="{D5CDD505-2E9C-101B-9397-08002B2CF9AE}" pid="4" name="_AuthorEmailDisplayName">
    <vt:lpwstr>Mercer, Gary</vt:lpwstr>
  </property>
  <property fmtid="{D5CDD505-2E9C-101B-9397-08002B2CF9AE}" pid="5" name="_EmailSubject">
    <vt:lpwstr>Wet Weather Partnership/NACWA CSO Workshop: June 1-2 in Chicago</vt:lpwstr>
  </property>
  <property fmtid="{D5CDD505-2E9C-101B-9397-08002B2CF9AE}" pid="6" name="_NewReviewCycle">
    <vt:lpwstr/>
  </property>
</Properties>
</file>