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3460-AB69-45F2-B562-F82349BC6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6229-957C-468E-8387-3AC7A242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B776-4753-4064-A11B-B801ACAE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C467-2036-47C4-8269-37B944605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A414-C9F7-4E1E-9767-B2AEC1FD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96A7-FBD9-44D8-91EF-52F3E4BD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D055-C8D8-4BA3-A1D2-6DEE0745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09A2-27C5-44C5-9AC3-BB2EA381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CB0D-3E97-4C56-A97D-5A3D7959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49FB-35A4-4E5F-812D-D14E0E0A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756E-CEFE-42D8-82E1-30122A16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270F-91E7-4360-BB3D-6FB7F6B3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4331-6F05-463A-8AD1-A6DDA0E5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9929-279D-40C4-A5DD-82D12F48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6CC6-8C62-4537-A155-C9975078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CB34-7878-4E45-95EC-B713C602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9306-A735-4F17-AA21-36A9DA578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DD81-0691-4672-811C-9A45D4FC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80CB-4BC6-43D7-A259-1A24B2E4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24FB-1627-49F4-96C6-82D2322B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D907-B503-479F-BC62-A2725027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D5A7-7D8D-4AFB-BF77-55BDED47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43C3-B760-4822-B11D-DA332A99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7134-3748-4E21-A724-BDE61AF0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4868-79B8-475A-8BFE-C4F966DA2E1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25CD-11C9-4E96-964C-9ADFCFE6C1A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Water Quality/LTCP CSO Conferenc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diana Approach for Doing UAAs for CS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d Andes, Barnes &amp; Thornburg LL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une 2, 20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se of Compliance Schedu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PCB is required to adopt rules to implement inclusion of compliance schedules in permits, but IDEM does not need to wait for those rules before putting long-term schedules in perm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ther 620 Provis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riances: before 620, a variance could be extended only once – now, can be extended more than o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get variance, discharger must do a Pollutant Minimization Plan – for CSOs, that means that you have prepared an LTCP and are implementing 9 minimum contro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ders – IDEM given authority to seek judicially enforceable order to compel implementation of an approved LTC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ey Issu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isting U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chigan Approach” as Alternative to UA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ication of Narrative Crite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ich UAA Test to Us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ication of “Substantial and Widespread Social and Economic Impact” UAA 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keholder Participation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A 234 - Process for Adoption of Waterbody-Specific UAA-Based Standards Revis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Main Purposes of SEA 62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 clear path for CSO communities to obtain relief, when appropriate, from requirement that CSO discharges meet current bacterial water quality stand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ile CSO communities are implementing Long-Term Control Plans, provide maximum amount of legal protection against liability for discharges that exceed standards during and after rain even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Establishment of CSO Wet Weather Subcategory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520" y="17521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WPCB Sec. 4 of SEA 620 created CSO Wet Weather Limited Use (CSO-WW) subcategory of designated use, subject to EPA approv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DEM will submit new subcategory to EPA Region 5 for approv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WPCB to adopt rules for implementation of new designated use subcatego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mpact of subcategory: during and for up to 4 days after rain events, regular recreational use will not apply; requirements that will apply are those that were contained in approved LTC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Approval of CSO Wet Weather Subcategory for Specific Waterbodie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ty prepares LTCP based on CSO-WW subcategory, if appropri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ty prepares draft Use Attainability Analysis (UAA) for CSO-WW subcategor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ty specifies CSO controls and implementation schedule as warranted under CSO-W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most cases, the level of CSO controls specified under the LTCP will be determined under the substantial/widespread social and economic impact criterion of the UAA proc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Approval of CSO-WW Subcategory for Specific Waterbodies (Contd.)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M reviews LTCP and draft UA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IDEM concurs, IDEM initiates rulemaking and holds public hearing on proposed WQS revision to apply CSO-WW subcategory to receiving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M could concurrently conduct public hearing on proposal to approve LTCP based on CSO-WW and a draft permit modification to incorporate LTC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Approval of CSO-WW Subcategory for Specific Waterbodies (Contd.)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 any time after its concurrence with the draft UAA, IDEM could conditionally approve LTCP based on proposed CSO-WW subject to ultimate EPA approval of the WQS revi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WPCB concludes CSO-WW is appropriate for receiving waters, WPCB approves WQS revi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WPCB approves WQS revision, IDEM submits the CSO-WW WQS revision and UAA to EPA for approv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Approval of CSO-WW Subcategory for Specific Waterbodies (Contd.)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EPA approves the WQS revision, it will be approved for application to the City’s receiving wa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SO-WW subcategory will not actually apply to the City’s receiving waters until implementation of the LTCP is completed, resulting in a time gap between approval and application of the CSO-W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mpliance Schedules - Histo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fore SEA 431, longest compliance schedule possible was 5 years in Great Lakes Basin and 3 years outside Bas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31 contained provision regarding longer schedules during approval of LTC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M and CSO community differed on how 431 language should be applied, resulting in permit appe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mpliance Schedules - 62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20 sought to clarify appropriate use of compliance schedules for CSO contro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ows schedule for time period during which LTCP is developed, approved and implemen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edule is incorporated into perm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edule can last longer than one permit term, but no longer than time required to implement approved LTC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morel</cp:lastModifiedBy>
  <dcterms:modified xsi:type="dcterms:W3CDTF">2006-05-30T12:38:23Z</dcterms:modified>
  <cp:revision>9</cp:revision>
  <dc:subject/>
  <dc:title>Slide 1</dc:title>
</cp:coreProperties>
</file>