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15D-6B69-4DC9-A721-D24AD164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C32-D883-401D-920E-60F2314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32D-66F7-4CBB-A625-889AB002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EAC-74D2-4D96-8D75-CDD14B93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AE57-D9BF-4E88-9269-DA18FC62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EED8-B6DD-43EB-A57A-BA5B7CB8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4B55-5636-4331-B56B-35688E26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2415-9D37-4A89-9F31-3BA2881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572-6119-45C7-BFD4-10E3A162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FD0C-D821-455B-A9C6-E03D15F7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D217-C93C-4753-817C-D9A55AC2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979-AD72-4D5E-87C4-C4AB795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EB3E-77CC-4331-818A-72DB72A0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DEE-8680-475F-B392-086229C4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B41A-2221-4ADB-9E66-134ECB2C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8419-1110-4AE9-BA1A-E6CF8657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726-6F74-4C04-80EA-0C57E2C3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B52-14F0-47C7-9F60-204A4FD1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108-E729-46EC-86F3-CBB9CBEE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F6A-3159-4471-A426-AC325BAA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EEE-B4F2-44E2-A216-952899F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0FF-EDA8-4295-9805-D5F16BE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4EA-16B3-486E-93E8-0819D08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AC2-8252-404F-A911-436CD917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B4A9-0CCA-4469-A6C6-B7A4DEA572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64C8-E863-456A-8E38-147A2D0E16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ater Quality/LTCP CSO Confere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diana Approach for Doing UAAs for CS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d Andes, Barnes &amp; Thornburg L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ne 2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 of Compliance Sche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PCB is required to adopt rules to implement inclusion of compliance schedules in permits, but IDEM does not need to wait for those rules before putting long-term schedules in perm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her 620 Provi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nces: before 620, a variance could be extended only once – now, can be extended more than o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get variance, discharger must do a Pollutant Minimization Plan – for CSOs, that means that you have prepared an LTCP and are implementing 9 minimum contr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s – IDEM given authority to seek judicially enforceable order to compel implementation of an approved LTC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y Issu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sting 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higan Approach” as Alternative to UA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of Narrative Cri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UAA Test to U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of “Substantial and Widespread Social and Economic Impact” UAA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keholder Participation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 234 - Process for Adoption of Waterbody-Specific UAA-Based Standards Rev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ain Purposes of SEA 62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clear path for CSO communities to obtain relief, when appropriate, from requirement that CSO discharges meet current bacterial water quality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CSO communities are implementing Long-Term Control Plans, provide maximum amount of legal protection against liability for discharges that exceed standards during and after rain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Establishment of CSO Wet Weather Subcatego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PCB Sec. 4 of SEA 620 created CSO Wet Weather Limited Use (CSO-WW) subcategory of designated use, subject to EPA approv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DEM will submit new subcategory to EPA Region 5 for approv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PCB to adopt rules for implementation of new designated use subcateg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mpact of subcategory: during and for up to 4 days after rain events, regular recreational use will not apply; requirements that will apply are those that were contained in approved LTC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Approval of CSO Wet Weather Subcategory for Specific Waterbod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prepares LTCP based on CSO-WW subcategory, if appropr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prepares draft Use Attainability Analysis (UAA) for CSO-WW subcatego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specifies CSO controls and implementation schedule as warranted under CSO-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ost cases, the level of CSO controls specified under the LTCP will be determined under the substantial/widespread social and economic impact criterion of the UAA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pproval of CSO-WW Subcategory for Specific Waterbodies (Contd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M reviews LTCP and draft UA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DEM concurs, IDEM initiates rulemaking and holds public hearing on proposed WQS revision to apply CSO-WW subcategory to receiv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M could concurrently conduct public hearing on proposal to approve LTCP based on CSO-WW and a draft permit modification to incorporate LTC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pproval of CSO-WW Subcategory for Specific Waterbodies (Contd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any time after its concurrence with the draft UAA, IDEM could conditionally approve LTCP based on proposed CSO-WW subject to ultimate EPA approval of the WQS revi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PCB concludes CSO-WW is appropriate for receiving waters, WPCB approves WQ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PCB approves WQS revision, IDEM submits the CSO-WW WQS revision and UAA to EPA for approv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Approval of CSO-WW Subcategory for Specific Waterbodies (Contd.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EPA approves the WQS revision, it will be approved for application to the City’s receiving wa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SO-WW subcategory will not actually apply to the City’s receiving waters until implementation of the LTCP is completed, resulting in a time gap between approval and application of the CSO-W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liance Schedules - 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SEA 431, longest compliance schedule possible was 5 years in Great Lakes Basin and 3 years outside Ba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1 contained provision regarding longer schedules during approval of LT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M and CSO community differed on how 431 language should be applied, resulting in permit appe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liance Schedules - 62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20 sought to clarify appropriate use of compliance schedules for CSO contr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schedule for time period during which LTCP is developed, approved and implem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dule is incorporated into per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dule can last longer than one permit term, but no longer than time required to implement approved LT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l</cp:lastModifiedBy>
  <dcterms:modified xsi:type="dcterms:W3CDTF">2006-05-30T12:38:23Z</dcterms:modified>
  <cp:revision>9</cp:revision>
  <dc:subject/>
  <dc:title>Slide 1</dc:title>
</cp:coreProperties>
</file>