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0E48-6338-454B-8A05-718DEB9C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2F8-8E99-4651-978A-D7217FA6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043-C7E1-4170-B8FA-CC4BF371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7A7-D272-4BB2-B24F-78F90179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318B-F935-4B19-A168-A580067D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18A-A287-4AA2-8B48-BFD83C90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DE80-5CE8-4190-8324-A1F64B2E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92A-AAA6-4D17-9D92-F1D7EAE6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919-A90B-4EEF-AB3E-D842C6AC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EC7C-1DC5-4258-9D97-CC12A0FF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0C00-BB30-4913-8543-96E68C7F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FBA-EDB2-43D0-A452-78DBE53A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0B5A-6E72-4FCC-86AF-27DFA092A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TCP Development Issu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“Presumption” Approach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avid W. Burch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quire, Sanders &amp; Dempsey L.L.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800600"/>
            <a:ext cx="563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repared for the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Wet Weather Partnership/NACWA CSO Work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hicago  (June 1-2, 20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7150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y Are We Spending All this Money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506736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y Are We Spending All this Money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157176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1994 CSO Polic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key princi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Policy ensure that CSO controls are cost-effective and meet the objectives of the CWA.  The key principl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76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Providing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lear levels of control that would be presumed to me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ropriate health and environmental objectives . . . 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1994 CSO Polic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mption”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that meets any of the criteria listed below would be presumed to provide an adequate level of control to meet the water-quality based requirements of the CWA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oviding the permitting authority determines that such presumption is reason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light of the data and analysis conducted in the characterization, monitoring and modeling of the system and the consideration of sensitive areas abo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1994 CSO Polic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mption” Approach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riteria are provided becaus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ata and modeling of wet weather events often do not give a clear pi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level of CSO controls necessary to protect WQ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First Casualty: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85% Captur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tates have concluded that the “85% capture” criterion is not equivalent to the “4 overflows per year” criterion, and should not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O Policy suggests consideration of controls that achieve 100%, 90%, 85%, 80% and 75% capture for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Ohio permits dictate consideration of 90%, 95%, 99% and 100% cap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 Overflows Per Year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the “4 overflows per year” criterion still requires a demonstration that the presumption of WQS compliance is “reason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emonstration should not require certainty, because the data and modeling of wet weather events is no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monstration” Approac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a successful demonstration, the permittee should demonstrate each of the following: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760" indent="-460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lanned control program is adequate to meet WQS and protect designated 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760" indent="-460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O discharges remaining after implementation of the planned control program will not preclude attainment of WQS of the receiving waters’ designated uses or contribute to their impair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760" indent="-460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rol program will provide the maximum pollution reduction benefits reasonably attain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760" indent="-460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rol program is designed to allow cost effective expansion or retrofi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as Demonstration Swallowed the Presumption Approach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492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d Long Term Control Plan for DC WAS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4920" indent="-2149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s compliance with applicable WQS on a daily, monthly and rolling 30-day average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4920" indent="-2149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s evaluated included fecal coliform, e. coli, CBOD, TSS and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4920" indent="-2149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pla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38880" indent="-418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overflows/year for Anacostia 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8880" indent="-418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overflows/year for Rock Cr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8880" indent="-418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overflows/year for Potomac 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4920" indent="-2149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es to 99% capture on a system-wide, annual average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308240" y="0"/>
            <a:ext cx="652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02:54:22Z</dcterms:created>
  <dc:creator>David W. Burchmore</dc:creator>
  <dc:description/>
  <dc:language>en-US</dc:language>
  <cp:lastModifiedBy>kwhite</cp:lastModifiedBy>
  <cp:lastPrinted>2004-10-25T20:18:14Z</cp:lastPrinted>
  <dcterms:modified xsi:type="dcterms:W3CDTF">2006-06-06T15:32:09Z</dcterms:modified>
  <cp:revision>146</cp:revision>
  <dc:subject/>
  <dc:title>Blending Stormwater and TMDLs</dc:title>
</cp:coreProperties>
</file>