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C43-7115-44BE-A515-3DB86A89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308-CC3E-4C13-8D7B-9409983D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57D-F7C6-4609-A25A-80C9F3D0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0B36-E526-40F1-9B3B-3B4D4B75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1F08-8714-400A-AF45-23F755D9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2B3-AEA3-40C9-8702-0FD3CDF1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BB1-BCAA-4327-8433-1996EBC8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2A30-0E4A-477C-9119-4DDF7290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D124-B0A2-4190-843E-14EFBED8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A7B4-9761-43C4-9A5E-074E923E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76D-4A93-4AA3-8444-A6B5ECCD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2C0-7648-4D26-8A70-D69EE828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4CE0-F857-4D5B-B19C-8FB01735E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National Trends: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ACWA’s Consent Decree Handbook Update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avid W. Burch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quire, Sanders &amp; Dempsey L.L.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800600"/>
            <a:ext cx="563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repared for the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Wet Weather Partnership/NACWA CSO Work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hicago  (June 1-2, 20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7150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egotiating Strategies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WA White Paper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ancial Capability and Affordability in Wet Weather Negot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existing EPA gui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on sche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case stud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ncinn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ORS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Orle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C W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W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CWA’s Consent Decree Handbook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d i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O/SSO Legal and Regulatory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 Policies and Guidance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cree Prov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otiating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of 43 Municipal Wet Weather Consent Decrees (State and Fed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NACWA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nt Decree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32385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2006 Update to Handbook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thru May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Developments in CSOs, SSOs and Ble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ly Released EPA Guidance and Enforcement Memor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 in Standard Decree Provisions and the Emergence of New Prov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of 19 New Wet Weather Consent Dec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56320" y="1371600"/>
            <a:ext cx="39211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cent EPA Guidanc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3 Memorandum on Negotiation of CSO Consent Dec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d by Walker Smith (ORE) on September 16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s the essential elements to be included in federal consent dec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5 Memorandum on Guidelines for Federal Enforcement in CSO/SSO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d by Thomas Skinner (OECA) and Robert King (ECOS)  on April 10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sses the need for coordination of state and federal enforcement efforts and defines the circumstances under which U.S. EPA will assume primary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cent Consent Decre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Federal, 5 State decrees in 2003-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are SSO dec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r revised CSO decrees fr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hua, 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C W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uisville &amp; Jefferson County M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 No. 1 of Northern Kentuc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ncinnati M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ston (MW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volution of Standard Provis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” of improvements completed ahead of schedule allows credit against future deadlines (Los Ange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Quality Standards Re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on of LTCP if assumed WQS revisions are not adopted (no extension of schedule) (Cincinna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QS revisions may be sought based on LTCP cost analysis and alternatives evaluation (Northern Kentuck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pulated Penal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bid” Provision excuses interim milestone penalties if projects completed on time (DC WA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volution of Standard Provisions (cont.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ance for change in regulations, new or revised water quality standards, or new requirements in future permits (Cincinna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ance for “unforeseen circumstances” or changes in construction schedules that do not extend the decree (Los Ange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Maje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ef for delays resulting from failure to obtain permits or approvals if applications are timely and complete (Baltimore Coun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mergence of New Provis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shed”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ing CSO, SSO and Stormwater control in one decree (Sanitation Dist. No. 1 of Northern Kentuck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s and Reop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ncinnati (must complete in 20 years unless cost exceeds $1.5 bill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C WASA (20 year schedule may be revisited if there is a “significant change” in current economic assump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No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s, billing inserts, newspaper notices, database on website (Columb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Notification System (DC WA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mergence of New Provisions (cont.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Submit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 of deadlines and relief from stipulated penalties if EPA fails to respond within 60, 90 or 120 days after timely and complete submittals (WSSC; Knoxville; Louisville MSD; Northern K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02:54:22Z</dcterms:created>
  <dc:creator>David W. Burchmore</dc:creator>
  <dc:description/>
  <dc:language>en-US</dc:language>
  <cp:lastModifiedBy>mmorel</cp:lastModifiedBy>
  <cp:lastPrinted>2004-10-25T20:18:14Z</cp:lastPrinted>
  <dcterms:modified xsi:type="dcterms:W3CDTF">2006-05-26T18:42:15Z</dcterms:modified>
  <cp:revision>147</cp:revision>
  <dc:subject/>
  <dc:title>Blending Stormwater and TMDLs</dc:title>
</cp:coreProperties>
</file>