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C58-6573-432F-ABC0-98D2D79C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8CB-F6C7-48B3-B28A-77C029A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D28-AFDF-41FA-B831-FAF8741C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A98-DB48-4C15-84F3-B76D12C0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BD6-F1C0-4DB4-B651-736C35CC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15F-18B3-483A-AFEC-14477962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656-FFBD-4B0B-BA05-4077990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4F9-8610-43C0-A34F-4AD6ADD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919-77B8-43D3-86A9-82860B9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3AA-A0D6-41AC-AC7B-7AB91B3D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C41-F3C8-444F-9DAD-694C2B2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3CE-8BD1-49FB-9A02-58F3745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D88A-A646-4D91-B254-3E9DA9928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National Trends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CWA’s Consent Decree Handbook Updat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vid W. Burc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uire, Sanders &amp; Dempsey L.L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80060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epared for th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et Weather Partnership/NACWA CSO Work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hicago  (June 1-2, 20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gotiating Strategie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WA White Paper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ancial Capability and Affordability in Wet Weather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xisting EPA gu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on sche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case stud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ncinn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OR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Orl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W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CWA’s Consent Decree Handboo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/SSO Legal and Regulatory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Policies and Guida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cree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43 Municipal Wet Weather Consent Decrees (State and Fed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NACWA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nt Decre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3238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006 Update to Handboo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u May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Developments in CSOs, SSOs and Bl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ly Released EPA Guidance and Enforcement Memor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in Standard Decree Provisions and the Emergence of New Pro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19 New Wet Weather Consent Dec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6320" y="1371600"/>
            <a:ext cx="39211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ent EPA Guidan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 Memorandum on Negotiation of CSO Consent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by Walker Smith (ORE) on September 16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the essential elements to be included in federal consent dec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 Memorandum on Guidelines for Federal Enforcement in CSO/SSO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d by Thomas Skinner (OECA) and Robert King (ECOS)  on April 10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es the need for coordination of state and federal enforcement efforts and defines the circumstances under which U.S. EPA will assume primary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ent Consent Decre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Federal, 5 State decrees in 2003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SSO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 revised CSO decree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W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ville &amp; Jefferson County M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 No. 1 of Northern Kentuc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innati M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ston (MW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olution of Standard Provis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” of improvements completed ahead of schedule allows credit against future deadlines (Los Ange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Standards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on of LTCP if assumed WQS revisions are not adopted (no extension of schedule) (Cincinn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QS revisions may be sought based on LTCP cost analysis and alternatives evaluation (Northern Kentuc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pulated Pen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id” Provision excuses interim milestone penalties if projects completed on time (DC W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olution of Standard Provisions (cont.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change in regulations, new or revised water quality standards, or new requirements in future permits (Cincinn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nce for “unforeseen circumstances” or changes in construction schedules that do not extend the decree (Los Ange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Maje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f for delays resulting from failure to obtain permits or approvals if applications are timely and complete (Baltimore Coun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ergence of New Provis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”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CSO, SSO and Stormwater control in one decree (Sanitation Dist. No. 1 of Northern Kentuc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s and Reope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innati (must complete in 20 years unless cost exceeds $1.5 b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WASA (20 year schedule may be revisited if there is a “significant change” in current economic assump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s, billing inserts, newspaper notices, database on website (Colum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Notification System (DC W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ergence of New Provisions (cont.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Submit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deadlines and relief from stipulated penalties if EPA fails to respond within 60, 90 or 120 days after timely and complete submittals (WSSC; Knoxville; Louisville MSD; Northern K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02:54:22Z</dcterms:created>
  <dc:creator>David W. Burchmore</dc:creator>
  <dc:description/>
  <dc:language>en-US</dc:language>
  <cp:lastModifiedBy>mmorel</cp:lastModifiedBy>
  <cp:lastPrinted>2004-10-25T20:18:14Z</cp:lastPrinted>
  <dcterms:modified xsi:type="dcterms:W3CDTF">2006-05-26T18:42:15Z</dcterms:modified>
  <cp:revision>147</cp:revision>
  <dc:subject/>
  <dc:title>Blending Stormwater and TMDLs</dc:title>
</cp:coreProperties>
</file>