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0" y="6353280"/>
            <a:ext cx="129528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35480" y="490680"/>
            <a:ext cx="2271600" cy="871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03360"/>
            <a:ext cx="830592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T WEATHER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ANAGEMENT PLAN </a:t>
            </a:r>
            <a:br>
              <a:rPr sz="48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partment of Public Utiliti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Division of Sewerage &amp; Drainage</a:t>
            </a: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x J. Blake, P.E., DOSD Assistant Administrator</a:t>
            </a:r>
            <a:br>
              <a:rPr sz="36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hael B. Coleman, Mayo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eryl Roberto, Director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5638680"/>
            <a:ext cx="1219320" cy="1219320"/>
            <a:chOff x="0" y="5638680"/>
            <a:chExt cx="1219320" cy="1219320"/>
          </a:xfrm>
        </p:grpSpPr>
        <p:sp>
          <p:nvSpPr>
            <p:cNvPr id="98" name=""/>
            <p:cNvSpPr/>
            <p:nvPr/>
          </p:nvSpPr>
          <p:spPr>
            <a:xfrm>
              <a:off x="19080" y="5661000"/>
              <a:ext cx="1182600" cy="119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0" y="5638680"/>
              <a:ext cx="121932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No Feasible Alternative - WWTP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06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rehensive evaluation of hydraulics and proces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ydraulic model, Process Model, CFD Mod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queezes as much flow through the plants a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ifies/expands processes to maintain compliance with NPDES permit limits (7-day Average) with 50% increase in throughp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pass analysis done as part of SEC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ing tunnel sizes with treatment plant capac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chedule for Implement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4440"/>
            <a:ext cx="82296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SO consent order required 20-year schedule for LTC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AP consent order included no specific end d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edule based primarily on affordability analy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luded factors for accelerated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ed a 40-year schedule for implem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tle benefit to shorter sche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85% of the reduction in first 20 y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Will The Plan Cost?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92360"/>
          <a:ext cx="8229600" cy="4295520"/>
        </p:xfrm>
        <a:graphic>
          <a:graphicData uri="http://schemas.openxmlformats.org/drawingml/2006/table">
            <a:tbl>
              <a:tblPr/>
              <a:tblGrid>
                <a:gridCol w="6019920"/>
                <a:gridCol w="2209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unnels &amp; pump s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.5 bil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ined sewer solu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0.5 bil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ority Areas &amp; other improv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0.2 bil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eatment plant improv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0.3 bil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otal Wet Weather Program Estim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$2.5 bil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ther capital improvement proje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e.g. sewer rehabilitation) over 40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2.9 bil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OTAL (in present day costs) 40 yr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$5.4 bil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verflow Reduction Over Time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57400" y="1353960"/>
            <a:ext cx="69325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Benefits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 vs. 40 Year Schedule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WWMP Submitted in Two Part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im Plan – Addresses specific CSO consent order requir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“substantial reduction” in our single largest CS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im plan achieves a 70% reduction at this CS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-miles of 14-foot sewer and 50% increase in biological treatment capacity at WWT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WMP – Addresses LTCP, SECAP, and NFA over 40-year timefra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lan Approval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3680" y="1645920"/>
            <a:ext cx="868680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im Plan approved April 28, 20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rrently discussing the entire WWMP with OEP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viewing content of WWMP to assist understanding – (six-foot tall documen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erns with WWTP Bypass L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erns with collection system mo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erns with Affordability Analysis and associated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1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35160" y="1536840"/>
            <a:ext cx="66722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1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92840" y="320040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3040" y="14590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uly 1, 2005 – The City submitted our Wet Weather Management Plan to Ohio E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121200"/>
            <a:ext cx="59515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ated to two agreements signed by Columbus and the State of Ohio to reduce sewer overf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nitary Sewer Overflows (SSOs)   -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bined Sewer Overflows (CSOs) -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pecific requirements must be m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w To Review The Plan</a:t>
            </a:r>
            <a:endParaRPr b="1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2998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pointments can be made at 910 Dublin Rd. or Fairwood Av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py of the 22-binder plan at the Columbus main libr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k sets available for purchase for $2 at the  910 Dublin Rd. Permit Off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Wet Weather Problem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ypical year CSO discharge = 1.25 billion gall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erage annual SSO discharge = .35 billion gallo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s often as once per month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storical annual Southerly plant bypasses ≈ 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04 reported basement backups = 5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th no action, these problems would only get wor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ream Quality Study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ve stream study d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ples collected from: Scioto and Olentangy Rivers; Big Walnut, Alum and Blacklick Cree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indicated that streams met chemical water quality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indicated that streams did not meet bacterial water quality standards during wet wea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species not seen in more than a decade were fou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section available on Division of Sewerage and Drainage web site at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www.sewers.columbus.go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SO LOCATIONS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5867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858000" cy="530064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476240" y="4298760"/>
            <a:ext cx="3007080" cy="1103760"/>
            <a:chOff x="4476240" y="4298760"/>
            <a:chExt cx="3007080" cy="1103760"/>
          </a:xfrm>
        </p:grpSpPr>
        <p:sp>
          <p:nvSpPr>
            <p:cNvPr id="149" name=""/>
            <p:cNvSpPr/>
            <p:nvPr/>
          </p:nvSpPr>
          <p:spPr>
            <a:xfrm flipH="1" flipV="1">
              <a:off x="4476240" y="4298760"/>
              <a:ext cx="1143000" cy="533160"/>
            </a:xfrm>
            <a:prstGeom prst="line">
              <a:avLst/>
            </a:prstGeom>
            <a:ln w="936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78560" y="4745160"/>
              <a:ext cx="190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514"/>
                  </a:solidFill>
                  <a:latin typeface="Times New Roman"/>
                </a:rPr>
                <a:t>Jackson Pike WWTP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516200" y="5156280"/>
              <a:ext cx="2819160" cy="246240"/>
              <a:chOff x="4516200" y="5156280"/>
              <a:chExt cx="2819160" cy="24624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4516200" y="5276880"/>
                <a:ext cx="974520" cy="0"/>
              </a:xfrm>
              <a:prstGeom prst="line">
                <a:avLst/>
              </a:prstGeom>
              <a:ln w="9360">
                <a:solidFill>
                  <a:srgbClr val="00051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430600" y="5156280"/>
                <a:ext cx="1904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514"/>
                    </a:solidFill>
                    <a:latin typeface="Times New Roman"/>
                  </a:rPr>
                  <a:t>Southerly WWT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9154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SO LOCATIONS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0160" y="911160"/>
            <a:ext cx="6783120" cy="524052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4455720" y="4236840"/>
            <a:ext cx="3007080" cy="1103760"/>
            <a:chOff x="4455720" y="4236840"/>
            <a:chExt cx="3007080" cy="1103760"/>
          </a:xfrm>
        </p:grpSpPr>
        <p:sp>
          <p:nvSpPr>
            <p:cNvPr id="157" name=""/>
            <p:cNvSpPr/>
            <p:nvPr/>
          </p:nvSpPr>
          <p:spPr>
            <a:xfrm flipH="1" flipV="1">
              <a:off x="4455720" y="4236840"/>
              <a:ext cx="1143000" cy="533160"/>
            </a:xfrm>
            <a:prstGeom prst="line">
              <a:avLst/>
            </a:prstGeom>
            <a:ln w="936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58040" y="4683240"/>
              <a:ext cx="190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514"/>
                  </a:solidFill>
                  <a:latin typeface="Times New Roman"/>
                </a:rPr>
                <a:t>Jackson Pike WWTP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495680" y="5094360"/>
              <a:ext cx="2819160" cy="246240"/>
              <a:chOff x="4495680" y="5094360"/>
              <a:chExt cx="2819160" cy="246240"/>
            </a:xfrm>
          </p:grpSpPr>
          <p:sp>
            <p:nvSpPr>
              <p:cNvPr id="160" name=""/>
              <p:cNvSpPr/>
              <p:nvPr/>
            </p:nvSpPr>
            <p:spPr>
              <a:xfrm flipH="1">
                <a:off x="4495680" y="5214960"/>
                <a:ext cx="974520" cy="0"/>
              </a:xfrm>
              <a:prstGeom prst="line">
                <a:avLst/>
              </a:prstGeom>
              <a:ln w="9360">
                <a:solidFill>
                  <a:srgbClr val="00051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10080" y="5094360"/>
                <a:ext cx="1904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514"/>
                    </a:solidFill>
                    <a:latin typeface="Times New Roman"/>
                  </a:rPr>
                  <a:t>Southerly WWT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0"/>
            <a:ext cx="89154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orted Basement Backup Lo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00200" y="912960"/>
            <a:ext cx="6858000" cy="5300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2590920"/>
            <a:ext cx="160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all basement backups are capacity re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765320" y="4298760"/>
            <a:ext cx="3007080" cy="1103760"/>
            <a:chOff x="4765320" y="4298760"/>
            <a:chExt cx="3007080" cy="1103760"/>
          </a:xfrm>
        </p:grpSpPr>
        <p:sp>
          <p:nvSpPr>
            <p:cNvPr id="166" name=""/>
            <p:cNvSpPr/>
            <p:nvPr/>
          </p:nvSpPr>
          <p:spPr>
            <a:xfrm flipH="1" flipV="1">
              <a:off x="4765320" y="4298760"/>
              <a:ext cx="1143000" cy="533160"/>
            </a:xfrm>
            <a:prstGeom prst="line">
              <a:avLst/>
            </a:prstGeom>
            <a:ln w="9360">
              <a:solidFill>
                <a:srgbClr val="0005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67640" y="4745160"/>
              <a:ext cx="190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514"/>
                  </a:solidFill>
                  <a:latin typeface="Times New Roman"/>
                </a:rPr>
                <a:t>Jackson Pike WWTP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805280" y="5156280"/>
              <a:ext cx="2819160" cy="246240"/>
              <a:chOff x="4805280" y="5156280"/>
              <a:chExt cx="2819160" cy="246240"/>
            </a:xfrm>
          </p:grpSpPr>
          <p:sp>
            <p:nvSpPr>
              <p:cNvPr id="169" name=""/>
              <p:cNvSpPr/>
              <p:nvPr/>
            </p:nvSpPr>
            <p:spPr>
              <a:xfrm flipH="1">
                <a:off x="4805280" y="5276880"/>
                <a:ext cx="974520" cy="0"/>
              </a:xfrm>
              <a:prstGeom prst="line">
                <a:avLst/>
              </a:prstGeom>
              <a:ln w="9360">
                <a:solidFill>
                  <a:srgbClr val="00051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19680" y="5156280"/>
                <a:ext cx="1904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514"/>
                    </a:solidFill>
                    <a:latin typeface="Times New Roman"/>
                  </a:rPr>
                  <a:t>Southerly WWT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terim CSO Control Pla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sewer to be built from Whittier Street Storm Tank (where majority of CSOs occur) to Jackson Pike Wastewater Treatment Pl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design and to be completed by 20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O regulator adjustments (weir rais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 wet weather capacity at Jackson Pike by approximately 50 million gallons per da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 wet weather capacity at Southerly by approximately 105 million gallons per d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2286000"/>
            <a:ext cx="40006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w sewer from Whittier to Jackson Pik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“OARS” - OSIS Augmentation Relief Sewer, Phase 1)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343400" y="395280"/>
            <a:ext cx="43513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30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nefits Of Interim Plan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589200" y="762120"/>
            <a:ext cx="5478480" cy="59436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3353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duction of typical year CSO volume at Whittier St. overflow from 1 billion gallons to 312 million gallons (70% reductio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SOs from Whittier Street relocated to Jackson Pi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duction of typical year CSO volume at all CSOs by 67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3962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all Plan Includes Four Types of Improvements</a:t>
            </a:r>
            <a:br>
              <a:rPr sz="2800"/>
            </a:br>
            <a:br>
              <a:rPr sz="24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1. SSOs—Large Scale System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Strategies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-Two Tunnels (Olentangy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amp; Alum Creek)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-Olentangy Pump Station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2. SSOs—Small Scale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- 12 Priority Areas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3. CSOs - New Whittier-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Jackson Pike Sewer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4. Treatment Plants</a:t>
            </a: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49560" y="304920"/>
            <a:ext cx="4869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Wet Weather Management Plan (WWMP)?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599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ital Improvement Plan for Columbus’ sewer system and treatment plant improv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 Characterization for collection system and receiving stre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 Evaluation and Capacity Assurance Plan (SECAP) for separate sanitary sew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Control Plan (LTCP) for combined sew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Feasible Alternative (NFA) analysis done at both wastewater treatment plants (Jackson Pike and Southerl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Wet Weather Management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Plan Benefits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d 1.4 billion gallons of annual overflow reduction after plan comple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85% of the average annual reduction occurs in the first 20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level of service along main trunk sew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: Some overflow as much as once per mon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ture: Overflows no more than once every 10 y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nefits continued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55760"/>
            <a:ext cx="85345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mproved Priority Area SSO level of service of 5 to 25 years, depending on ar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nificant reduction of sewer backup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roject Dry Basement backflow prevention program is scheduled to contin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mproved combined sewer level of contr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ero overflows except at the Jackson Pike high rate treatment facility in a typical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four untreated overflows at Jackson Pike high rate treatment faci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nefits continued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capacity at the wastewater treatment 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passes from 10 or more times per year to once every 1.4 years at Southe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ero bypasses expected at Jackson Pi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biological treatment capacity from 325 to 600 million gallons per d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ements Schedule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sumes Jan. 1, 2006 plan approval from OEP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ity selected 40-year schedule to spread out the construction and debt payment for affordabi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um Creek Relief Tunnel design to begin 2005 with construction anticipated to begin in 20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lentangy Relief Tunnel design to begin 2014 with construction anticipated to begin in 202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ements Schedule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SO Consent Order proj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im date of 2010 to be me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mainder of projects as quickly as practical; all projects completed by 202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SO Consent Order proj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 end date requi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ity used affordability analysis and community’s ability to pay to set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320" y="380880"/>
            <a:ext cx="9067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ffordability Analysis Purpo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2133720"/>
            <a:ext cx="7086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o ensure that any schedule for improvements is as expeditious as possible while maintaining affordable 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for all consum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ffordability Analysi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 done to determine residents’ ability to pay for the improv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less federal funding becomes available, rate payers will finance the pl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ity examined 20, 30 and 40-year sched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PA provides affordability guidelines that can be used but City of Columbus looked beyond th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 information consid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hedule compression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st benefit analysis of sched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ffordability Analysis continued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 is based on long-term proje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s estimates, population growth estima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to continually measure afford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ty and Sewer and Water Advisory Board developed “Measures of Succes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dule may be adjusted if needed to meet Measures of Suc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asures Of Success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33520" y="1143000"/>
          <a:ext cx="8229600" cy="4743360"/>
        </p:xfrm>
        <a:graphic>
          <a:graphicData uri="http://schemas.openxmlformats.org/drawingml/2006/table">
            <a:tbl>
              <a:tblPr/>
              <a:tblGrid>
                <a:gridCol w="2971800"/>
                <a:gridCol w="525780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jor Categor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onent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verall Effect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ffff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ximum aggregate bill increas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ffff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of customers in Steps 3 &amp; 4 Delinquency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ulnerable Populations Effect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ffff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ximum % household income for vulnerable population segme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cal Economy/ Business Health Effect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ffff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using start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ffff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loyme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using Effect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ffff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 households mortgage eligibility affecte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ffff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 of renters driven over housing cost burden threshol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Should Ratepayers Expect?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itary sewer rates could reach as high as 2.6 times current rates (average quarterly bill currently is $72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ncrease will not apply to water or stormwater fe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s will be reviewed each y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gger mechanisms are built into the revie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dule lengthened if triggers are activ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dule accelerated if outside funding receiv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 other words…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WWMP is an integrated plan to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elected level of control (LOC) for CS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elected level of service (LOS) for SS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elected LOS for treatment plant bypas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hallenge was taking a system that is integrated today and providing for different standards of capture and trea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ic Benefits Expected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cording to the Columbus Chamber of Commerce, we can expect $12.5 billion in economic benefits for our area from the plan over the 40 yea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 average of 1,281 construction jobs annual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 average of 2,897 total jobs annual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erating $4.5 billion in payro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$76.4 million in tax receip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ays Residents Can Lowe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ir Sewer Bills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ater conserv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bills are based on water consumption.  Examples: wash dishes and laundry only on full loads, fix leaks, use low-flow fixtures and water lawns and plants only when nee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nior Citizen Discou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available to income-eligible residents over 60 - call 645-8270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uxiliary met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available for high consumption of water that does not enter the sanitary system (i.e. filling pools) – call 645-816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ext Steps</a:t>
            </a:r>
            <a:endParaRPr b="1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ents on the plan due November 1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an submit comments to DOS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ty awaits approval of the plan from Ohio EPA, while proceeding with improvements already underw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projects are designed, additional public meetings will be held before constr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1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d 1.4 billion gallons of annual overflow reduction, a vast majority of which is achieved early in the progr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level of service – reduced sewer backups, SSOs and CS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ressing the problems in our sewer system will make central Ohio a cleaner and healthier                place to live, work and pl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SECA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rily addresses LOS for SSOs and treatment plant bypas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d a flow-based analysis of collection system flow meter data to estimate a level of serv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ies primarily upon tunnels for conveyance and storage as well as treatment plant improv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rrent plans for about 25 miles of 14-foot diameter tunnels and one 250 mgd pump s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CAP LOS Selec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ro level model to look at over 12,000 possible combinations of tunnel and treatment siz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knee of curve was near 1-year L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-year LOS selected for the collection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4 year LOS selected for the treatment plant bypas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ion based on non-monetary fac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n DOES NOT include blen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LTC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ded an evaluation of presumptive measures and demonstration meas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ent order essentially required bo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d a typical year of rainfall to analyze the response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llec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llection system model linked to WASP6 water quality model and bacteria spreadsheet mod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ch of the plan development revolved around presumptive measures – primarily frequ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TCP LOC Selec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3680" y="1306440"/>
            <a:ext cx="87422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mmended alternative selected based on non-monetary and cost fac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est cost (at the selected LOC) and highest benefit in non-monetary fac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C selection driven by sensitive areas criter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ry Contact Use designation – all receiving stre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tinguished areas by surrounding land 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atment plant improvements – common to SECAP and LTC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nts challenges for operation strate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TCP LOC Selec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3680" y="1695600"/>
            <a:ext cx="87422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mmended plan consolidated lower half of CSOs into a common pipe with one overflow (14-foot diamet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pper half of combined system addressed with storage tan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rate treatment system proposed at downstream end of the system – 250 mg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CSOs either consolidated or controlled to 1-year LO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SO HRT capacity exceeded and overflows at a 3-month LO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4:56:40Z</dcterms:created>
  <dc:creator>Steve Freedman</dc:creator>
  <dc:description/>
  <dc:language>en-US</dc:language>
  <cp:lastModifiedBy>kwhite</cp:lastModifiedBy>
  <dcterms:modified xsi:type="dcterms:W3CDTF">2006-06-06T15:33:14Z</dcterms:modified>
  <cp:revision>172</cp:revision>
  <dc:subject/>
  <dc:title>DOSD Senior Staff  CMOM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8615614</vt:r8>
  </property>
  <property fmtid="{D5CDD505-2E9C-101B-9397-08002B2CF9AE}" pid="3" name="_AuthorEmail">
    <vt:lpwstr>DJBlake@columbus.gov</vt:lpwstr>
  </property>
  <property fmtid="{D5CDD505-2E9C-101B-9397-08002B2CF9AE}" pid="4" name="_AuthorEmailDisplayName">
    <vt:lpwstr>Blake, Dax J.</vt:lpwstr>
  </property>
  <property fmtid="{D5CDD505-2E9C-101B-9397-08002B2CF9AE}" pid="5" name="_EmailSubject">
    <vt:lpwstr>Wet Weather Partnership/NACWA CSO Workshop: June 1-2 in Chicago</vt:lpwstr>
  </property>
</Properties>
</file>