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84400" cy="457200"/>
          </a:xfrm>
          <a:prstGeom prst="rect">
            <a:avLst/>
          </a:prstGeom>
          <a:noFill/>
          <a:ln w="0">
            <a:noFill/>
          </a:ln>
        </p:spPr>
        <p:txBody>
          <a:bodyPr lIns="89280" rIns="89280" tIns="44640" bIns="44640" anchor="t">
            <a:noAutofit/>
          </a:bodyPr>
          <a:p>
            <a: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73600" y="0"/>
            <a:ext cx="2984400" cy="457200"/>
          </a:xfrm>
          <a:prstGeom prst="rect">
            <a:avLst/>
          </a:prstGeom>
          <a:noFill/>
          <a:ln w="0">
            <a:noFill/>
          </a:ln>
        </p:spPr>
        <p:txBody>
          <a:bodyPr lIns="89280" rIns="89280" tIns="44640" bIns="44640" anchor="t">
            <a:noAutofit/>
          </a:bodyPr>
          <a:lstStyle>
            <a:lvl1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092240" y="684360"/>
            <a:ext cx="4673520" cy="3504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move the slide</a:t>
            </a:r>
            <a:endParaRPr b="0" lang="en-US" sz="4000" spc="-1" strike="noStrike">
              <a:solidFill>
                <a:srgbClr val="000000"/>
              </a:solidFill>
              <a:latin typeface="Impact"/>
            </a:endParaRPr>
          </a:p>
        </p:txBody>
      </p:sp>
      <p:sp>
        <p:nvSpPr>
          <p:cNvPr id="86" name="PlaceHolder 4"/>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9080"/>
            <a:ext cx="2984400" cy="457200"/>
          </a:xfrm>
          <a:prstGeom prst="rect">
            <a:avLst/>
          </a:prstGeom>
          <a:noFill/>
          <a:ln w="0">
            <a:noFill/>
          </a:ln>
        </p:spPr>
        <p:txBody>
          <a:bodyPr lIns="89280" rIns="89280" tIns="44640" bIns="44640" anchor="b">
            <a:noAutofit/>
          </a:bodyPr>
          <a:lstStyle>
            <a:lvl1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73600" y="8839080"/>
            <a:ext cx="2984400" cy="457200"/>
          </a:xfrm>
          <a:prstGeom prst="rect">
            <a:avLst/>
          </a:prstGeom>
          <a:noFill/>
          <a:ln w="0">
            <a:noFill/>
          </a:ln>
        </p:spPr>
        <p:txBody>
          <a:bodyPr lIns="89280" rIns="89280" tIns="44640" bIns="44640" anchor="b">
            <a:noAutofit/>
          </a:bodyPr>
          <a:lstStyle>
            <a:lvl1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lnSpc>
                <a:spcPct val="10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B15CA73E-8391-4AF4-9C46-1FC7A53CA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92240" y="684360"/>
            <a:ext cx="4673520" cy="3504960"/>
          </a:xfrm>
          <a:prstGeom prst="rect">
            <a:avLst/>
          </a:prstGeom>
          <a:ln w="0">
            <a:noFill/>
          </a:ln>
        </p:spPr>
      </p:sp>
      <p:sp>
        <p:nvSpPr>
          <p:cNvPr id="144"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or substantially similar types of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the same types of wa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the same effluent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same or similar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pinion of the PAOTW, are more appropriately controlled under a general control mechanism than under individual control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U ;must file a written request for coverage that identify contact info; production processes, types of wastes generated, monitoring location, all requests for monitoring waivers ( pollut not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le for mass local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92240" y="684360"/>
            <a:ext cx="4673520" cy="3504960"/>
          </a:xfrm>
          <a:prstGeom prst="rect">
            <a:avLst/>
          </a:prstGeom>
          <a:ln w="0">
            <a:noFill/>
          </a:ln>
        </p:spPr>
      </p:sp>
      <p:sp>
        <p:nvSpPr>
          <p:cNvPr id="146"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Ps incl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s of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hibitions of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to control plant site runoff, spillage or leaks, sludge or waste disposal, raw materials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3.8(f)(2)(vii)(H) – allows violations of BMPs to qualify for S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92240" y="684360"/>
            <a:ext cx="4673520" cy="3504960"/>
          </a:xfrm>
          <a:prstGeom prst="rect">
            <a:avLst/>
          </a:prstGeom>
          <a:ln w="0">
            <a:noFill/>
          </a:ln>
        </p:spPr>
      </p:sp>
      <p:sp>
        <p:nvSpPr>
          <p:cNvPr id="148" name="PlaceHolder 2"/>
          <p:cNvSpPr>
            <a:spLocks noGrp="1"/>
          </p:cNvSpPr>
          <p:nvPr>
            <p:ph type="body"/>
          </p:nvPr>
        </p:nvSpPr>
        <p:spPr>
          <a:xfrm>
            <a:off x="896760" y="4419720"/>
            <a:ext cx="5064480" cy="45720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FR 403.8(f)(1)(iii)(B)(6) – that requirements for a slug plan (if necessary) need to be in the per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CFR 403.8(f)(2)(vi) – includes dates such that the time starts “from this date forward” – must be evaluated within 1 year of being designated an SIU; SIU must immediately report to CA any facility changes that could affect potential for a slug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the provision requiring that slug discharge requirements be incorporated into the SIU’s control mechanism must be adop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 CFR 403.8(f)(1)(iii)(B)(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92240" y="684360"/>
            <a:ext cx="4673520" cy="3504960"/>
          </a:xfrm>
          <a:prstGeom prst="rect">
            <a:avLst/>
          </a:prstGeom>
          <a:ln w="0">
            <a:noFill/>
          </a:ln>
        </p:spPr>
      </p:sp>
      <p:sp>
        <p:nvSpPr>
          <p:cNvPr id="150" name="PlaceHolder 2"/>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92240" y="684360"/>
            <a:ext cx="4673520" cy="3504960"/>
          </a:xfrm>
          <a:prstGeom prst="rect">
            <a:avLst/>
          </a:prstGeom>
          <a:ln w="0">
            <a:noFill/>
          </a:ln>
        </p:spPr>
      </p:sp>
      <p:sp>
        <p:nvSpPr>
          <p:cNvPr id="152"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changes relating to the extension of sampling requirements to periodic compliance reports must be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92240" y="684360"/>
            <a:ext cx="4673520" cy="3504960"/>
          </a:xfrm>
          <a:prstGeom prst="rect">
            <a:avLst/>
          </a:prstGeom>
          <a:ln w="0">
            <a:noFill/>
          </a:ln>
        </p:spPr>
      </p:sp>
      <p:sp>
        <p:nvSpPr>
          <p:cNvPr id="154"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 The portion that incorporates the numeric or narrative violations is required because the definition of SNC is expa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92240" y="684360"/>
            <a:ext cx="4673520" cy="3504960"/>
          </a:xfrm>
          <a:prstGeom prst="rect">
            <a:avLst/>
          </a:prstGeom>
          <a:ln w="0">
            <a:noFill/>
          </a:ln>
        </p:spPr>
      </p:sp>
      <p:sp>
        <p:nvSpPr>
          <p:cNvPr id="156" name="PlaceHolder 2"/>
          <p:cNvSpPr>
            <a:spLocks noGrp="1"/>
          </p:cNvSpPr>
          <p:nvPr>
            <p:ph type="body"/>
          </p:nvPr>
        </p:nvSpPr>
        <p:spPr>
          <a:xfrm>
            <a:off x="896760" y="4267080"/>
            <a:ext cx="5064480" cy="434520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ust this rule change be adopted by the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 this provision i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92240" y="684360"/>
            <a:ext cx="4673520" cy="3504960"/>
          </a:xfrm>
          <a:prstGeom prst="rect">
            <a:avLst/>
          </a:prstGeom>
          <a:ln w="0">
            <a:noFill/>
          </a:ln>
        </p:spPr>
      </p:sp>
      <p:sp>
        <p:nvSpPr>
          <p:cNvPr id="158" name="PlaceHolder 2"/>
          <p:cNvSpPr>
            <a:spLocks noGrp="1"/>
          </p:cNvSpPr>
          <p:nvPr>
            <p:ph type="body"/>
          </p:nvPr>
        </p:nvSpPr>
        <p:spPr>
          <a:xfrm>
            <a:off x="896760" y="4419720"/>
            <a:ext cx="5064480" cy="4192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gpd of total categorical waste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discharges any untreated concentrated wastewat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92240" y="685800"/>
            <a:ext cx="4673520" cy="3505320"/>
          </a:xfrm>
          <a:prstGeom prst="rect">
            <a:avLst/>
          </a:prstGeom>
          <a:ln w="0">
            <a:noFill/>
          </a:ln>
        </p:spPr>
      </p:sp>
      <p:sp>
        <p:nvSpPr>
          <p:cNvPr id="160" name="PlaceHolder 2"/>
          <p:cNvSpPr>
            <a:spLocks noGrp="1"/>
          </p:cNvSpPr>
          <p:nvPr>
            <p:ph type="body"/>
          </p:nvPr>
        </p:nvSpPr>
        <p:spPr>
          <a:xfrm>
            <a:off x="896400" y="4266720"/>
            <a:ext cx="5123160" cy="4496040"/>
          </a:xfrm>
          <a:prstGeom prst="rect">
            <a:avLst/>
          </a:prstGeom>
          <a:noFill/>
          <a:ln w="0">
            <a:noFill/>
          </a:ln>
        </p:spPr>
        <p:txBody>
          <a:bodyPr lIns="89280" rIns="8928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oposed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ection discussing NSCIUs, EPA requested comment on “alternative criteria for determining non-significant status … [such as] the percentage of POTW’s total flow discharged by a particular CI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POTW commenters suggested adoption of 3-tier system for CI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tier – categorical SI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tier – non-significant CIUs:  discharge less than a percentage of POTW’s design dry weather treatment capacity, design dry weather organic treatment capacity, and MAHL for any pollutant detected at headworks for which CIU is reg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tier – </a:t>
            </a:r>
            <a:r>
              <a:rPr b="0" i="1" lang="en-US" sz="1000" spc="-1" strike="noStrike">
                <a:solidFill>
                  <a:srgbClr val="000000"/>
                </a:solidFill>
                <a:latin typeface="Arial"/>
              </a:rPr>
              <a:t>de minimis</a:t>
            </a:r>
            <a:r>
              <a:rPr b="0" lang="en-US" sz="1000" spc="-1" strike="noStrike">
                <a:solidFill>
                  <a:srgbClr val="000000"/>
                </a:solidFill>
                <a:latin typeface="Arial"/>
              </a:rPr>
              <a:t> CIUs:  discharge less than 100 gp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approved Metropolitan Water Reclamation District of Greater Chicago’s pilot project for the 3-tier system (no longer ac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comment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 – delete word “other”; could be used as a loophole; cutoff should be different for different ELG categori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N – doesn’t oppose, but would rather see us use “SIU” def. to allow exemptions for categorical SIUs with no potential to harm POTW</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 – supports, but proposes 1000 gpd or any higher cutoff</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X – suppor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J – suppor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 – raise the cutoff to 500 gpd</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58760" y="692280"/>
            <a:ext cx="4673880" cy="3504960"/>
          </a:xfrm>
          <a:prstGeom prst="rect">
            <a:avLst/>
          </a:prstGeom>
          <a:ln w="0">
            <a:noFill/>
          </a:ln>
        </p:spPr>
      </p:sp>
      <p:sp>
        <p:nvSpPr>
          <p:cNvPr id="142" name="PlaceHolder 2"/>
          <p:cNvSpPr>
            <a:spLocks noGrp="1"/>
          </p:cNvSpPr>
          <p:nvPr>
            <p:ph type="body"/>
          </p:nvPr>
        </p:nvSpPr>
        <p:spPr>
          <a:xfrm>
            <a:off x="896760" y="4419720"/>
            <a:ext cx="5064480" cy="4192560"/>
          </a:xfrm>
          <a:prstGeom prst="rect">
            <a:avLst/>
          </a:prstGeom>
          <a:solidFill>
            <a:srgbClr val="ffffff"/>
          </a:solidFill>
          <a:ln w="9360">
            <a:solidFill>
              <a:srgbClr val="000000"/>
            </a:solidFill>
            <a:miter/>
          </a:ln>
        </p:spPr>
        <p:txBody>
          <a:bodyPr lIns="90000" rIns="90000" tIns="45000" bIns="45000" anchor="t">
            <a:noAutofit/>
          </a:bodyPr>
          <a:p>
            <a:pPr lvl="1" marL="7048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is subject to conditions:  403.12(e)(2) – </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 may authorizae a waiver where a pollutant is determined to be present solely due to sanitary wastewater discharged from the facility provided that the sanitary wastewater is not regulated by an applicable cat. Std and otherwise includes no process wastewater;</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nitoring waiver is valid only for permit effective period, no case longer than 5 years.  New waiver request must be submitted for each permit term</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U must provide data from at least 1 representative sampling of the process wastewater prior to any treatment.  Request must be signed &amp; certified.  Non-detectable results may only be used as demo that pollutant not present if lowest min. det. Level method approved by EPA was used in the analysis</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waiver must be cited as condition in the IU permit; supporting reasons/info must be maintained by the CA for 3 years after expiration of permit</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U must certify on each report (special statement) that there has been no increase in the pollutant in the wastewater due to activities</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waived pollutant is found present or expected present based on changes, IU must immediately comply with more frequent monitoring requirements and notify CA</a:t>
            </a:r>
            <a:endParaRPr b="0" lang="en-US" sz="1000" spc="-1" strike="noStrike">
              <a:solidFill>
                <a:srgbClr val="000000"/>
              </a:solidFill>
              <a:latin typeface="Arial"/>
            </a:endParaRPr>
          </a:p>
          <a:p>
            <a:pPr lvl="1" marL="704880" indent="-247680">
              <a:spcBef>
                <a:spcPts val="374"/>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sion does not supersede cat std requirements</a:t>
            </a:r>
            <a:endParaRPr b="0" lang="en-US" sz="1000" spc="-1" strike="noStrike">
              <a:solidFill>
                <a:srgbClr val="000000"/>
              </a:solidFill>
              <a:latin typeface="Arial"/>
            </a:endParaRPr>
          </a:p>
          <a:p>
            <a:pPr lvl="1" marL="704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ust this rule change be adopted by the CA?</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 this provision is optiona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68CBC-D28F-4A24-B15F-13EC9CDE3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AA9EE-9D0B-4198-AD0A-37FE0E526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3"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BCFCF-CC03-4FBC-AC7A-460C0B7F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7"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4AFF4-002B-42CB-A514-55F9E8EFA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4E67B-9EE8-4BD1-B02B-312BA9070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15CF4-7E6F-4680-A84E-C27EEDB99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D7513-C9C9-4F5B-949A-E3ED9ED2F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2"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A4CBE-6D16-4BFF-AED9-865F0B251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CDD45-D992-4BCA-A4CF-4349A3CD9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FFD03-B7A7-4653-A897-9D61D653B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7"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68470-6450-4AF2-A3BB-4C714251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52280" y="837720"/>
            <a:ext cx="8839440" cy="5715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4BF39-3E6C-46BC-B91D-EE0368A7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1"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21CB5-BF9B-4BC0-90A3-532AD6567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5"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A3F19-2FA1-4467-A5EA-AD9D425CA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52280" y="83772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9" name="PlaceHolder 3"/>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58C8E-E851-4F70-A9AE-3E28C01EF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4" name="PlaceHolder 5"/>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44E67-8D0A-440C-AD5C-A319C227B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522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3"/>
          <p:cNvSpPr>
            <a:spLocks noGrp="1"/>
          </p:cNvSpPr>
          <p:nvPr>
            <p:ph/>
          </p:nvPr>
        </p:nvSpPr>
        <p:spPr>
          <a:xfrm>
            <a:off x="314100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4"/>
          <p:cNvSpPr>
            <a:spLocks noGrp="1"/>
          </p:cNvSpPr>
          <p:nvPr>
            <p:ph/>
          </p:nvPr>
        </p:nvSpPr>
        <p:spPr>
          <a:xfrm>
            <a:off x="6130080" y="83772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9" name="PlaceHolder 5"/>
          <p:cNvSpPr>
            <a:spLocks noGrp="1"/>
          </p:cNvSpPr>
          <p:nvPr>
            <p:ph/>
          </p:nvPr>
        </p:nvSpPr>
        <p:spPr>
          <a:xfrm>
            <a:off x="1522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6"/>
          <p:cNvSpPr>
            <a:spLocks noGrp="1"/>
          </p:cNvSpPr>
          <p:nvPr>
            <p:ph/>
          </p:nvPr>
        </p:nvSpPr>
        <p:spPr>
          <a:xfrm>
            <a:off x="314100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7"/>
          <p:cNvSpPr>
            <a:spLocks noGrp="1"/>
          </p:cNvSpPr>
          <p:nvPr>
            <p:ph/>
          </p:nvPr>
        </p:nvSpPr>
        <p:spPr>
          <a:xfrm>
            <a:off x="6130080" y="3822840"/>
            <a:ext cx="28461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337C0-A3FD-4D2C-8372-6ECC49406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553AC-2B18-430E-A0B9-0891E5E4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2453-4153-44C6-8D6B-62892630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6E88-DCC3-4083-965B-A7E9DE8E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668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73FF6-0F7B-40BE-93FE-B343F508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3"/>
          <p:cNvSpPr>
            <a:spLocks noGrp="1"/>
          </p:cNvSpPr>
          <p:nvPr>
            <p:ph/>
          </p:nvPr>
        </p:nvSpPr>
        <p:spPr>
          <a:xfrm>
            <a:off x="468180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 name="PlaceHolder 4"/>
          <p:cNvSpPr>
            <a:spLocks noGrp="1"/>
          </p:cNvSpPr>
          <p:nvPr>
            <p:ph/>
          </p:nvPr>
        </p:nvSpPr>
        <p:spPr>
          <a:xfrm>
            <a:off x="15228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1E19-D938-4C4D-8CC2-DD21B9C8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52280" y="837720"/>
            <a:ext cx="43135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1" name="PlaceHolder 4"/>
          <p:cNvSpPr>
            <a:spLocks noGrp="1"/>
          </p:cNvSpPr>
          <p:nvPr>
            <p:ph/>
          </p:nvPr>
        </p:nvSpPr>
        <p:spPr>
          <a:xfrm>
            <a:off x="4681800" y="382284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DB4E-5BB6-4000-AC05-8B80ACBA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5228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3"/>
          <p:cNvSpPr>
            <a:spLocks noGrp="1"/>
          </p:cNvSpPr>
          <p:nvPr>
            <p:ph/>
          </p:nvPr>
        </p:nvSpPr>
        <p:spPr>
          <a:xfrm>
            <a:off x="4681800" y="837720"/>
            <a:ext cx="431352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5" name="PlaceHolder 4"/>
          <p:cNvSpPr>
            <a:spLocks noGrp="1"/>
          </p:cNvSpPr>
          <p:nvPr>
            <p:ph/>
          </p:nvPr>
        </p:nvSpPr>
        <p:spPr>
          <a:xfrm>
            <a:off x="152280" y="3822840"/>
            <a:ext cx="88394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A44E-1C39-4B07-A522-03F8EF6D1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982B-F055-436A-B5BD-1D3C6DCA6E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Impact"/>
              </a:rPr>
              <a:t>Click to edit the title text format</a:t>
            </a:r>
            <a:endParaRPr b="0" lang="en-US" sz="5400" spc="-1" strike="noStrike">
              <a:solidFill>
                <a:srgbClr val="000000"/>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D95B-FCD2-421A-AF05-AEEC39AEE6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ickrel.jan@epa.gov" TargetMode="External"/><Relationship Id="rId3" Type="http://schemas.openxmlformats.org/officeDocument/2006/relationships/hyperlink" Target="mailto:schaner.greg@epa.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0" name="PlaceHolder 2"/>
          <p:cNvSpPr>
            <a:spLocks noGrp="1"/>
          </p:cNvSpPr>
          <p:nvPr>
            <p:ph/>
          </p:nvPr>
        </p:nvSpPr>
        <p:spPr>
          <a:xfrm>
            <a:off x="152280" y="3048120"/>
            <a:ext cx="8839440" cy="76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ttp://www.ce.ncsu.edu/research/frog/</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7C5882AC-3057-41AE-ACCC-3A099F73C084}" type="slidenum">
              <a:t>1</a:t>
            </a:fld>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General Control Mechanism </a:t>
            </a:r>
            <a:r>
              <a:rPr b="0" lang="en-US" sz="3600" spc="-1" strike="noStrike">
                <a:solidFill>
                  <a:srgbClr val="000000"/>
                </a:solidFill>
                <a:latin typeface="Impact"/>
              </a:rPr>
              <a:t>(Permits)</a:t>
            </a:r>
            <a:endParaRPr b="0" lang="en-US" sz="3600" spc="-1" strike="noStrike">
              <a:solidFill>
                <a:srgbClr val="000000"/>
              </a:solidFill>
              <a:latin typeface="Impact"/>
            </a:endParaRPr>
          </a:p>
        </p:txBody>
      </p:sp>
      <p:sp>
        <p:nvSpPr>
          <p:cNvPr id="108" name="PlaceHolder 2"/>
          <p:cNvSpPr>
            <a:spLocks noGrp="1"/>
          </p:cNvSpPr>
          <p:nvPr>
            <p:ph/>
          </p:nvPr>
        </p:nvSpPr>
        <p:spPr>
          <a:xfrm>
            <a:off x="457200" y="990720"/>
            <a:ext cx="8153280" cy="4952880"/>
          </a:xfrm>
          <a:prstGeom prst="rect">
            <a:avLst/>
          </a:prstGeom>
          <a:noFill/>
          <a:ln w="0">
            <a:noFill/>
          </a:ln>
        </p:spPr>
        <p:txBody>
          <a:bodyPr lIns="90000" rIns="90000" tIns="46800" bIns="46800" anchor="t">
            <a:normAutofit fontScale="91000"/>
          </a:bodyPr>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Pre-Streamlining Rules</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IUs must be controlled through permits or equivalent mechanisms </a:t>
            </a:r>
            <a:endParaRPr b="1" lang="en-US" sz="1900" spc="-1" strike="noStrike">
              <a:solidFill>
                <a:srgbClr val="000000"/>
              </a:solidFill>
              <a:latin typeface="Tahoma"/>
            </a:endParaRPr>
          </a:p>
          <a:p>
            <a:pPr marL="41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PA emphasizes the importance of evaluating each SIU individually </a:t>
            </a: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Final Rule</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Allows POTWs to control SIUs through general permits where the necessary legal authority exists and the SIUs meet the criteria for being substantially similar</a:t>
            </a:r>
            <a:endParaRPr b="1" lang="en-US" sz="1900" spc="-1" strike="noStrike">
              <a:solidFill>
                <a:srgbClr val="000000"/>
              </a:solidFill>
              <a:latin typeface="Tahoma"/>
            </a:endParaRPr>
          </a:p>
          <a:p>
            <a:pPr marL="415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lvl="1" marL="934560" indent="-414360">
              <a:lnSpc>
                <a:spcPct val="8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verage not allowed for CIUs subject to production-based mass limits, mass limits/day, or limits based on Combined Wastestream Formula or Net/Gross calc.</a:t>
            </a:r>
            <a:endParaRPr b="1" lang="en-US" sz="1900" spc="-1" strike="noStrike">
              <a:solidFill>
                <a:srgbClr val="000000"/>
              </a:solidFill>
              <a:latin typeface="Tahoma"/>
            </a:endParaRPr>
          </a:p>
          <a:p>
            <a:pPr lvl="1" marL="934560" indent="0">
              <a:lnSpc>
                <a:spcPct val="8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lvl="1" marL="934560" indent="-414360">
              <a:lnSpc>
                <a:spcPct val="8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A may choose to make coverage optional or required</a:t>
            </a:r>
            <a:endParaRPr b="1" lang="en-US" sz="1900" spc="-1" strike="noStrike">
              <a:solidFill>
                <a:srgbClr val="000000"/>
              </a:solidFill>
              <a:latin typeface="Tahoma"/>
            </a:endParaRPr>
          </a:p>
          <a:p>
            <a:pPr lvl="1" marL="934560" indent="0">
              <a:lnSpc>
                <a:spcPct val="8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Tahoma"/>
            </a:endParaRPr>
          </a:p>
          <a:p>
            <a:pPr marL="415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Where to find rule changes?</a:t>
            </a:r>
            <a:endParaRPr b="1" lang="en-US" sz="1900" spc="-1" strike="noStrike">
              <a:solidFill>
                <a:srgbClr val="000000"/>
              </a:solidFill>
              <a:latin typeface="Tahoma"/>
            </a:endParaRPr>
          </a:p>
          <a:p>
            <a:pPr marL="415800" indent="-415800">
              <a:lnSpc>
                <a:spcPct val="80000"/>
              </a:lnSpc>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40 CFR 403.8(f)(1)(iii)</a:t>
            </a:r>
            <a:endParaRPr b="1" lang="en-US" sz="1900" spc="-1" strike="noStrike">
              <a:solidFill>
                <a:srgbClr val="000000"/>
              </a:solidFill>
              <a:latin typeface="Tahoma"/>
            </a:endParaRPr>
          </a:p>
        </p:txBody>
      </p:sp>
      <p:sp>
        <p:nvSpPr>
          <p:cNvPr id="4" name="PlaceHolder 3"/>
          <p:cNvSpPr>
            <a:spLocks noGrp="1"/>
          </p:cNvSpPr>
          <p:nvPr>
            <p:ph type="sldNum" idx="3"/>
          </p:nvPr>
        </p:nvSpPr>
        <p:spPr/>
        <p:txBody>
          <a:bodyPr/>
          <a:p>
            <a:fld id="{A05452DC-A914-4772-820F-81194EBE2DC0}"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7848720" cy="4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BMPs as Local Limits</a:t>
            </a:r>
            <a:endParaRPr b="0" lang="en-US" sz="4000" spc="-1" strike="noStrike">
              <a:solidFill>
                <a:srgbClr val="000000"/>
              </a:solidFill>
              <a:latin typeface="Impact"/>
            </a:endParaRPr>
          </a:p>
        </p:txBody>
      </p:sp>
      <p:sp>
        <p:nvSpPr>
          <p:cNvPr id="110" name="PlaceHolder 2"/>
          <p:cNvSpPr>
            <a:spLocks noGrp="1"/>
          </p:cNvSpPr>
          <p:nvPr>
            <p:ph/>
          </p:nvPr>
        </p:nvSpPr>
        <p:spPr>
          <a:xfrm>
            <a:off x="457200" y="914400"/>
            <a:ext cx="8153280" cy="5105520"/>
          </a:xfrm>
          <a:prstGeom prst="rect">
            <a:avLst/>
          </a:prstGeom>
          <a:noFill/>
          <a:ln w="0">
            <a:noFill/>
          </a:ln>
        </p:spPr>
        <p:txBody>
          <a:bodyPr lIns="90000" rIns="90000" tIns="46800" bIns="46800" anchor="t">
            <a:normAutofit fontScale="96000"/>
          </a:bodyPr>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treatment rules are silent on whether POTWs can use BMPs (rather than numeric limits) to satisfy their requirement to develop local limit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rifies that BMPs developed by POTWs may serve as local limit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TWs must document the supporting rationale for specific BMPs</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8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3(e) - Definition</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5(c)(4)</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a:t>
            </a:r>
            <a:endParaRPr b="1" lang="en-US" sz="2000" spc="-1" strike="noStrike">
              <a:solidFill>
                <a:srgbClr val="000000"/>
              </a:solidFill>
              <a:latin typeface="Tahoma"/>
            </a:endParaRPr>
          </a:p>
          <a:p>
            <a:pPr marL="438840" indent="-438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12(b), (e), (h)</a:t>
            </a:r>
            <a:endParaRPr b="1" lang="en-US" sz="2000" spc="-1" strike="noStrike">
              <a:solidFill>
                <a:srgbClr val="000000"/>
              </a:solidFill>
              <a:latin typeface="Tahom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9B7511D2-8E0A-4BC1-AD1D-EDF2CAEF6F24}" type="slidenum">
              <a:t>11</a:t>
            </a:fld>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52280"/>
            <a:ext cx="7848360" cy="47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lug Control Plans</a:t>
            </a:r>
            <a:endParaRPr b="0" lang="en-US" sz="4000" spc="-1" strike="noStrike">
              <a:solidFill>
                <a:srgbClr val="000000"/>
              </a:solidFill>
              <a:latin typeface="Impact"/>
            </a:endParaRPr>
          </a:p>
        </p:txBody>
      </p:sp>
      <p:sp>
        <p:nvSpPr>
          <p:cNvPr id="112" name="PlaceHolder 2"/>
          <p:cNvSpPr>
            <a:spLocks noGrp="1"/>
          </p:cNvSpPr>
          <p:nvPr>
            <p:ph/>
          </p:nvPr>
        </p:nvSpPr>
        <p:spPr>
          <a:xfrm>
            <a:off x="457200" y="685440"/>
            <a:ext cx="8153280" cy="525780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57200" indent="-45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lug discharges are prohibited</a:t>
            </a:r>
            <a:r>
              <a:rPr b="1" lang="en-US" sz="1800" spc="-1" strike="noStrike">
                <a:solidFill>
                  <a:srgbClr val="000000"/>
                </a:solidFill>
                <a:latin typeface="Tahoma"/>
              </a:rPr>
              <a:t> </a:t>
            </a:r>
            <a:endParaRPr b="1" lang="en-US" sz="1800" spc="-1" strike="noStrike">
              <a:solidFill>
                <a:srgbClr val="000000"/>
              </a:solidFill>
              <a:latin typeface="Tahoma"/>
            </a:endParaRPr>
          </a:p>
          <a:p>
            <a:pPr lvl="1" marL="1027080" indent="-45540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TWs must evaluate, at least once every two years, whether each SIU needs a plan to control slug discharges</a:t>
            </a:r>
            <a:endParaRPr b="1" lang="en-US" sz="1600" spc="-1" strike="noStrike">
              <a:solidFill>
                <a:srgbClr val="000000"/>
              </a:solidFill>
              <a:latin typeface="Tahoma"/>
            </a:endParaRPr>
          </a:p>
          <a:p>
            <a:pPr lvl="1" marL="1027080" indent="-455400">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PA has historically emphasized that a plan is not required</a:t>
            </a:r>
            <a:endParaRPr b="1" lang="en-US" sz="1600" spc="-1" strike="noStrike">
              <a:solidFill>
                <a:srgbClr val="000000"/>
              </a:solidFill>
              <a:latin typeface="Tahoma"/>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vides POTWs the flexibility to review the need for a slug control plan or other requirements as necessary </a:t>
            </a:r>
            <a:endParaRPr b="1" lang="en-US" sz="2000" spc="-1" strike="noStrike">
              <a:solidFill>
                <a:srgbClr val="000000"/>
              </a:solidFill>
              <a:latin typeface="Tahom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quirements must be included in control mechanism</a:t>
            </a:r>
            <a:endParaRPr b="1"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1)(iii)(B)(6)</a:t>
            </a:r>
            <a:endParaRPr b="1" lang="en-US" sz="2000" spc="-1" strike="noStrike">
              <a:solidFill>
                <a:srgbClr val="000000"/>
              </a:solidFill>
              <a:latin typeface="Tahoma"/>
            </a:endParaRPr>
          </a:p>
          <a:p>
            <a:pPr marL="457200" indent="-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2)(vi)</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1F21A9D8-1FA7-4790-919E-B16821915438}" type="slidenum">
              <a:t>12</a:t>
            </a:fld>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045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quivalent Concentration Limits</a:t>
            </a:r>
            <a:endParaRPr b="0" lang="en-US" sz="4000" spc="-1" strike="noStrike">
              <a:solidFill>
                <a:srgbClr val="000000"/>
              </a:solidFill>
              <a:latin typeface="Impact"/>
            </a:endParaRPr>
          </a:p>
        </p:txBody>
      </p:sp>
      <p:sp>
        <p:nvSpPr>
          <p:cNvPr id="114" name="PlaceHolder 2"/>
          <p:cNvSpPr>
            <a:spLocks noGrp="1"/>
          </p:cNvSpPr>
          <p:nvPr>
            <p:ph/>
          </p:nvPr>
        </p:nvSpPr>
        <p:spPr>
          <a:xfrm>
            <a:off x="457200" y="990360"/>
            <a:ext cx="8153280" cy="5257800"/>
          </a:xfrm>
          <a:prstGeom prst="rect">
            <a:avLst/>
          </a:prstGeom>
          <a:noFill/>
          <a:ln w="0">
            <a:noFill/>
          </a:ln>
        </p:spPr>
        <p:txBody>
          <a:bodyPr lIns="90000" rIns="90000" tIns="46800" bIns="46800" anchor="t">
            <a:normAutofit/>
          </a:bodyPr>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Pre-Streamlining Rules</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 allowance for equivalent concentration limits where categorical standard requires a mass limit to be calculated based on the facility’s flow</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Affected CIU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CPSF - 40 CFR 414</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troleum Refining (Cr and Zn) – 40 CFR 419</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sticide Chemicals – 40 CFR 455</a:t>
            </a:r>
            <a:endParaRPr b="1" lang="en-US" sz="16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Final Rule</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CIUs subject to OCPSF, Petroleum Refining, and Pesticide Chemicals allows POTW to use concentration limit in categorical standard</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res CA to document that dilution is not being substituted for treatment</a:t>
            </a:r>
            <a:endParaRPr b="1" lang="en-US" sz="1600" spc="-1" strike="noStrike">
              <a:solidFill>
                <a:srgbClr val="000000"/>
              </a:solidFill>
              <a:latin typeface="Tahoma"/>
            </a:endParaRPr>
          </a:p>
          <a:p>
            <a:pPr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457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ahoma"/>
              </a:rPr>
              <a:t>Where to find rule changes?</a:t>
            </a:r>
            <a:endParaRPr b="1" lang="en-US" sz="17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 CFR 403.6(c)(6)</a:t>
            </a: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524F43A7-6EFA-4F5E-964D-B6BE6F689633}"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Impact"/>
              </a:rPr>
              <a:t>Use of Grab/Composite Samples</a:t>
            </a:r>
            <a:endParaRPr b="0" lang="en-US" sz="3900" spc="-1" strike="noStrike">
              <a:solidFill>
                <a:srgbClr val="000000"/>
              </a:solidFill>
              <a:latin typeface="Impact"/>
            </a:endParaRPr>
          </a:p>
        </p:txBody>
      </p:sp>
      <p:sp>
        <p:nvSpPr>
          <p:cNvPr id="116"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Pre-Streamlining Rule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eatment regulations specify:</a:t>
            </a:r>
            <a:endParaRPr b="1" lang="en-US" sz="16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sampling method for baseline monitoring reports and 90-day compliance reports, but not for periodic compliance reports</a:t>
            </a: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mum of 4 grab samples for pH, cyanide, total phenols, oil &amp; grease, sulfides, and volatile organic compounds</a:t>
            </a: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posite samples must be flow-proportional unless the Industrial User demonstrates that this is “infeasible”</a:t>
            </a:r>
            <a:endParaRPr b="1" lang="en-US" sz="1400" spc="-1" strike="noStrike">
              <a:solidFill>
                <a:srgbClr val="000000"/>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Final Rule</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arifies when different types of sampling methods may be used:</a:t>
            </a:r>
            <a:endParaRPr b="1" lang="en-US" sz="16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tends sampling requirements to periodic report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s POTWs flexibility to determine appropriate number of grab samples to measure pH, Cn, total phenols, oil and grease, sulfides and VOC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arifies composite samples for Cn and VOCs may be done prior to analysis</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1027080" indent="-45540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moves requirement that flow-composite sampling must be “infeasible” in order to allow time-composite sampling (sampling must be “representative”)</a:t>
            </a:r>
            <a:endParaRPr b="1" lang="en-US" sz="1400" spc="-1" strike="noStrike">
              <a:solidFill>
                <a:srgbClr val="000000"/>
              </a:solidFill>
              <a:latin typeface="Tahoma"/>
            </a:endParaRPr>
          </a:p>
          <a:p>
            <a:pPr lvl="1" marL="10270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Where to find rule changes?</a:t>
            </a:r>
            <a:endParaRPr b="1" lang="en-US" sz="1600" spc="-1" strike="noStrike">
              <a:solidFill>
                <a:srgbClr val="000000"/>
              </a:solidFill>
              <a:latin typeface="Tahoma"/>
            </a:endParaRPr>
          </a:p>
          <a:p>
            <a:pPr marL="457200" indent="-45720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 CFR 403.12(b), (d), (e), (g), (h)</a:t>
            </a:r>
            <a:endParaRPr b="1" lang="en-US" sz="1600" spc="-1" strike="noStrike">
              <a:solidFill>
                <a:srgbClr val="000000"/>
              </a:solidFill>
              <a:latin typeface="Tahoma"/>
            </a:endParaRPr>
          </a:p>
          <a:p>
            <a:pPr lvl="1" marL="10270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53902D37-928F-4D6D-B693-1BDD494C897D}" type="slidenum">
              <a:t>14</a:t>
            </a:fld>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Impact"/>
              </a:rPr>
              <a:t>SNC – 4 Primary Changes</a:t>
            </a:r>
            <a:endParaRPr b="0" lang="en-US" sz="3900" spc="-1" strike="noStrike">
              <a:solidFill>
                <a:srgbClr val="000000"/>
              </a:solidFill>
              <a:latin typeface="Impact"/>
            </a:endParaRPr>
          </a:p>
        </p:txBody>
      </p:sp>
      <p:sp>
        <p:nvSpPr>
          <p:cNvPr id="118" name="PlaceHolder 2"/>
          <p:cNvSpPr>
            <a:spLocks noGrp="1"/>
          </p:cNvSpPr>
          <p:nvPr>
            <p:ph/>
          </p:nvPr>
        </p:nvSpPr>
        <p:spPr>
          <a:xfrm>
            <a:off x="457200" y="1294920"/>
            <a:ext cx="8305920" cy="53341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Publication</a:t>
            </a:r>
            <a:r>
              <a:rPr b="0" lang="en-US" sz="2400" spc="-1" strike="noStrike">
                <a:solidFill>
                  <a:srgbClr val="000000"/>
                </a:solidFill>
                <a:latin typeface="Tahoma"/>
              </a:rPr>
              <a:t> (403.8(f)(2)(viiii)</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ow publication in any paper of general circulation within the jurisdiction</a:t>
            </a: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pplication to SIUs</a:t>
            </a:r>
            <a:r>
              <a:rPr b="0" lang="en-US" sz="2400" spc="-1" strike="noStrike">
                <a:solidFill>
                  <a:srgbClr val="000000"/>
                </a:solidFill>
                <a:latin typeface="Tahoma"/>
              </a:rPr>
              <a:t> (403.8(f)(2)(viii)</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y SNC to Significant Industrial Users only</a:t>
            </a:r>
            <a:endParaRPr b="1" lang="en-US" sz="2400" spc="-1" strike="noStrike">
              <a:solidFill>
                <a:srgbClr val="000000"/>
              </a:solidFill>
              <a:latin typeface="Tahoma"/>
            </a:endParaRPr>
          </a:p>
          <a:p>
            <a:pPr lvl="1" marL="1027080" indent="-455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o other IUs if they cause pass through, interference, imminent endangerment</a:t>
            </a:r>
            <a:endParaRPr b="1" lang="en-US" sz="20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Daily Max or Ave. Limits</a:t>
            </a:r>
            <a:r>
              <a:rPr b="0" lang="en-US" sz="2400" spc="-1" strike="noStrike">
                <a:solidFill>
                  <a:srgbClr val="000000"/>
                </a:solidFill>
                <a:latin typeface="Tahoma"/>
              </a:rPr>
              <a:t> (403.8(f)(2)(viii)(A-C)</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lude broader array of numeric or narrative violations</a:t>
            </a:r>
            <a:endParaRPr b="1" lang="en-US" sz="2400" spc="-1" strike="noStrike">
              <a:solidFill>
                <a:srgbClr val="000000"/>
              </a:solidFill>
              <a:latin typeface="Tahoma"/>
            </a:endParaRPr>
          </a:p>
          <a:p>
            <a:pPr lvl="1" marL="1027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Late Reports</a:t>
            </a:r>
            <a:r>
              <a:rPr b="0" lang="en-US" sz="2400" spc="-1" strike="noStrike">
                <a:solidFill>
                  <a:srgbClr val="000000"/>
                </a:solidFill>
                <a:latin typeface="Tahoma"/>
              </a:rPr>
              <a:t> (403.8(f)(2)(viii)(F)</a:t>
            </a:r>
            <a:endParaRPr b="1" lang="en-US" sz="2400" spc="-1" strike="noStrike">
              <a:solidFill>
                <a:srgbClr val="000000"/>
              </a:solidFill>
              <a:latin typeface="Tahoma"/>
            </a:endParaRPr>
          </a:p>
          <a:p>
            <a:pPr marL="457200" indent="-457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ended 30-day deadline to 45 days</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675FAF8F-625D-4E12-9B18-CB409FB72445}" type="slidenum">
              <a:t>15</a:t>
            </a:fld>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pH</a:t>
            </a:r>
            <a:endParaRPr b="0" lang="en-US" sz="4100" spc="-1" strike="noStrike">
              <a:solidFill>
                <a:srgbClr val="000000"/>
              </a:solidFill>
              <a:latin typeface="Impact"/>
            </a:endParaRPr>
          </a:p>
        </p:txBody>
      </p:sp>
      <p:sp>
        <p:nvSpPr>
          <p:cNvPr id="12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No change.</a:t>
            </a:r>
            <a:endParaRPr b="1"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IUs are prohibited from discharging at pH &lt; 5.0 without exception</a:t>
            </a:r>
            <a:endParaRPr b="1" lang="en-US" sz="3400" spc="-1" strike="noStrike">
              <a:solidFill>
                <a:srgbClr val="000000"/>
              </a:solidFill>
              <a:latin typeface="Tahoma"/>
            </a:endParaRPr>
          </a:p>
        </p:txBody>
      </p:sp>
      <p:sp>
        <p:nvSpPr>
          <p:cNvPr id="4" name="PlaceHolder 3"/>
          <p:cNvSpPr>
            <a:spLocks noGrp="1"/>
          </p:cNvSpPr>
          <p:nvPr>
            <p:ph type="sldNum" idx="3"/>
          </p:nvPr>
        </p:nvSpPr>
        <p:spPr/>
        <p:txBody>
          <a:bodyPr/>
          <a:p>
            <a:fld id="{46395ED0-2895-4C21-9420-2D236DEB437A}" type="slidenum">
              <a:t>16</a:t>
            </a:fld>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2"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Pre-Streamlining Rules</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 CIUs, 40 CFR 403.6(d) allows CA to impose equivalent mass limits in addition to concentration-based standards where the IU is using dilution to meet standards or where the imposition of mass limits is appropriat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 CIUs, Pre-Streamlining rules do not allow the equivalent mass limit to replace the concentration-based standard</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me POTWs and CIUs argue that using concentration-based standards discourages the adoption of water conservation measures</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 federal restrictions on using mass limits for local limits</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2BB2DDD9-F475-445F-9765-40A628170436}" type="slidenum">
              <a:t>17</a:t>
            </a:fld>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4"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Final Rule</a:t>
            </a:r>
            <a:endParaRPr b="1" lang="en-US" sz="18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mphasizes that CIU may request equiv. mass limits</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ows POTW to set equivalent mass limits </a:t>
            </a:r>
            <a:r>
              <a:rPr b="1" i="1" lang="en-US" sz="1600" spc="-1" strike="noStrike">
                <a:solidFill>
                  <a:srgbClr val="000000"/>
                </a:solidFill>
                <a:latin typeface="Tahoma"/>
              </a:rPr>
              <a:t>as an alternative to</a:t>
            </a:r>
            <a:r>
              <a:rPr b="1" lang="en-US" sz="1600" spc="-1" strike="noStrike">
                <a:solidFill>
                  <a:srgbClr val="000000"/>
                </a:solidFill>
                <a:latin typeface="Tahoma"/>
              </a:rPr>
              <a:t> concentration limits</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marL="343080" indent="-34308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be eligible for use of equiv. mass limits, CIU must:</a:t>
            </a:r>
            <a:endParaRPr b="1"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mplements water conservation measures that substantially reduce water use,</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s control and treatment technologies adequate to achieve compliance with categorical standards, and demonstrate that dilution not used,</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vides monitoring data to establish its actual average daily flow rate through the use of a continuous effluent flow monitoring device and its baseline long-term average production rate,</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monstrates that it doesn’t have daily flow rates, production rates, or pollutant levels that fluctuate so significantly that establishing equiv. mass limits would not be appropriate, and</a:t>
            </a:r>
            <a:endParaRPr b="1" lang="en-US" sz="1400" spc="-1" strike="noStrike">
              <a:solidFill>
                <a:srgbClr val="000000"/>
              </a:solidFill>
              <a:latin typeface="Tahom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43040" indent="-28584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as consistently complied with applicable categorical standards</a:t>
            </a:r>
            <a:endParaRPr b="1"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p:txBody>
      </p:sp>
      <p:sp>
        <p:nvSpPr>
          <p:cNvPr id="4" name="PlaceHolder 3"/>
          <p:cNvSpPr>
            <a:spLocks noGrp="1"/>
          </p:cNvSpPr>
          <p:nvPr>
            <p:ph type="sldNum" idx="3"/>
          </p:nvPr>
        </p:nvSpPr>
        <p:spPr/>
        <p:txBody>
          <a:bodyPr/>
          <a:p>
            <a:fld id="{3BF38CC3-8531-4ED1-8026-EEC1B4E9CA5F}" type="slidenum">
              <a:t>18</a:t>
            </a:fld>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6"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nal Rule</a:t>
            </a:r>
            <a:r>
              <a:rPr b="0" lang="en-US" sz="2400" spc="-1" strike="noStrike">
                <a:solidFill>
                  <a:srgbClr val="000000"/>
                </a:solidFill>
                <a:latin typeface="Tahoma"/>
              </a:rPr>
              <a:t> (cont’d)</a:t>
            </a:r>
            <a:endParaRPr b="1" lang="en-US" sz="24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f CA approves eligible CIU’s request, CA then calculates the equiv. mass limits:</a:t>
            </a: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centration-based categorical standard </a:t>
            </a:r>
            <a:r>
              <a:rPr b="1" lang="en-US" sz="1600" spc="-1" strike="noStrike">
                <a:solidFill>
                  <a:srgbClr val="000000"/>
                </a:solidFill>
                <a:latin typeface="Tahoma"/>
                <a:ea typeface="Tahoma"/>
              </a:rPr>
              <a:t>× </a:t>
            </a:r>
            <a:r>
              <a:rPr b="1" lang="en-US" sz="1600" spc="-1" strike="noStrike">
                <a:solidFill>
                  <a:srgbClr val="000000"/>
                </a:solidFill>
                <a:latin typeface="Tahoma"/>
              </a:rPr>
              <a:t>CIU’s actual average daily flow rate </a:t>
            </a:r>
            <a:r>
              <a:rPr b="1" lang="en-US" sz="1600" spc="-1" strike="noStrike">
                <a:solidFill>
                  <a:srgbClr val="000000"/>
                </a:solidFill>
                <a:latin typeface="Tahoma"/>
                <a:ea typeface="Tahoma"/>
              </a:rPr>
              <a:t>× unit conversion factor</a:t>
            </a:r>
            <a:endParaRPr b="1"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Once equiv. mass limit is effective in the CIU’s control mechanism, CIU must do the following to retain coverage:</a:t>
            </a:r>
            <a:endParaRPr b="1"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Maintain and effectively operate control and treatment technologies adequate to achieve compliance with the equiv. mass limits,</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Record the facility’s flow rates through use of a continuous effluent flow monitoring device,</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ntinue to record facility’s production rates and notify CA if rates vary by more than 20 percent from production rates used as basis for equiv. mass limits</a:t>
            </a:r>
            <a:endParaRPr b="1"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Employ same or comparable water conservation measures used in setting the equiv. mass limits</a:t>
            </a:r>
            <a:endParaRPr b="1" lang="en-US" sz="1600" spc="-1" strike="noStrike">
              <a:solidFill>
                <a:srgbClr val="000000"/>
              </a:solidFill>
              <a:latin typeface="Tahoma"/>
            </a:endParaRPr>
          </a:p>
        </p:txBody>
      </p:sp>
      <p:sp>
        <p:nvSpPr>
          <p:cNvPr id="4" name="PlaceHolder 3"/>
          <p:cNvSpPr>
            <a:spLocks noGrp="1"/>
          </p:cNvSpPr>
          <p:nvPr>
            <p:ph type="sldNum" idx="3"/>
          </p:nvPr>
        </p:nvSpPr>
        <p:spPr/>
        <p:txBody>
          <a:bodyPr/>
          <a:p>
            <a:fld id="{7BCF4DB9-3131-425B-9EBE-1D8B6D820556}" type="slidenum">
              <a:t>19</a:t>
            </a:fld>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etreatment Streamlining Rule</a:t>
            </a:r>
            <a:endParaRPr b="0" lang="en-US" sz="4400" spc="-1" strike="noStrike">
              <a:solidFill>
                <a:srgbClr val="000000"/>
              </a:solidFill>
              <a:latin typeface="Impact"/>
            </a:endParaRPr>
          </a:p>
        </p:txBody>
      </p:sp>
      <p:sp>
        <p:nvSpPr>
          <p:cNvPr id="92" name="PlaceHolder 2"/>
          <p:cNvSpPr>
            <a:spLocks noGrp="1"/>
          </p:cNvSpPr>
          <p:nvPr>
            <p:ph type="subTitle"/>
          </p:nvPr>
        </p:nvSpPr>
        <p:spPr>
          <a:xfrm>
            <a:off x="0" y="3505320"/>
            <a:ext cx="8763120" cy="8380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Overview of Changes to the </a:t>
            </a:r>
            <a:endParaRPr b="1" lang="en-US" sz="3400" spc="-1" strike="noStrike">
              <a:solidFill>
                <a:srgbClr val="000000"/>
              </a:solidFill>
              <a:latin typeface="Tahoma"/>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National Pretreatment Regulations</a:t>
            </a:r>
            <a:endParaRPr b="1" lang="en-US" sz="34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an Pickrel – </a:t>
            </a:r>
            <a:r>
              <a:rPr b="1" lang="en-US" sz="2000" spc="-1" strike="noStrike">
                <a:solidFill>
                  <a:srgbClr val="000000"/>
                </a:solidFill>
                <a:latin typeface="Tahoma"/>
              </a:rPr>
              <a:t>EPA Office of Water, Water Permits Division</a:t>
            </a:r>
            <a:endParaRPr b="1" lang="en-US" sz="2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vember 16, 2005</a:t>
            </a:r>
            <a:endParaRPr b="1" lang="en-US" sz="2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CWA 2005 National Pretreatment &amp; P2 Workshop, Kansas City, MO</a:t>
            </a:r>
            <a:endParaRPr b="1" lang="en-US" sz="1800" spc="-1" strike="noStrike">
              <a:solidFill>
                <a:srgbClr val="000000"/>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Equivalent Mass Limits</a:t>
            </a:r>
            <a:endParaRPr b="0" lang="en-US" sz="4100" spc="-1" strike="noStrike">
              <a:solidFill>
                <a:srgbClr val="000000"/>
              </a:solidFill>
              <a:latin typeface="Impact"/>
            </a:endParaRPr>
          </a:p>
        </p:txBody>
      </p:sp>
      <p:sp>
        <p:nvSpPr>
          <p:cNvPr id="128"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Final Rule</a:t>
            </a:r>
            <a:r>
              <a:rPr b="0" lang="en-US" sz="1800" spc="-1" strike="noStrike">
                <a:solidFill>
                  <a:srgbClr val="000000"/>
                </a:solidFill>
                <a:latin typeface="Tahoma"/>
              </a:rPr>
              <a:t> (cont’d)</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After calculating equiv. mass limit, CA must reassess the limit and recalculate as necessary to reflect changed conditions, where the CIU notifies it of a revised production rate</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CA may retain the initial equiv. mass limits in subsequent control mechanism terms if:</a:t>
            </a:r>
            <a:endParaRPr b="1" lang="en-US" sz="18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CIU’s actual average daily flow rate reduced solely as a result of water conservation methods and technologies,</a:t>
            </a:r>
            <a:endParaRPr b="1" lang="en-US" sz="1500" spc="-1" strike="noStrike">
              <a:solidFill>
                <a:srgbClr val="000000"/>
              </a:solidFill>
              <a:latin typeface="Tahoma"/>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Actual average daily flows used for calculating limit weren’t based on use of dilution as substitute for treatment, and</a:t>
            </a:r>
            <a:endParaRPr b="1" lang="en-US" sz="1500" spc="-1" strike="noStrike">
              <a:solidFill>
                <a:srgbClr val="000000"/>
              </a:solidFill>
              <a:latin typeface="Tahoma"/>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ahoma"/>
            </a:endParaRPr>
          </a:p>
          <a:p>
            <a:pPr lvl="1" marL="743040" indent="-285840">
              <a:lnSpc>
                <a:spcPct val="80000"/>
              </a:lnSpc>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ahoma"/>
              </a:rPr>
              <a:t>CIU doesn’t bypass treatment control and treatment technologies</a:t>
            </a:r>
            <a:endParaRPr b="1" lang="en-US" sz="1500" spc="-1" strike="noStrike">
              <a:solidFill>
                <a:srgbClr val="000000"/>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Equiv. mass limits are not authorized for pollutants which cannot be appropriately expressed as mass </a:t>
            </a: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r>
              <a:rPr b="1" lang="en-US" sz="1800" spc="-1" strike="noStrike">
                <a:solidFill>
                  <a:srgbClr val="000000"/>
                </a:solidFill>
                <a:latin typeface="Tahoma"/>
                <a:ea typeface="Tahoma"/>
              </a:rPr>
              <a:t>(examples:  pH, temperature, radiation, etc.)</a:t>
            </a:r>
            <a:endParaRPr b="1"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Where to find rule changes?</a:t>
            </a:r>
            <a:endParaRPr b="1"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 CFR 403.6(c)(5)</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BCEDEA47-2CA3-4C0F-8DDD-D3230BA09890}" type="slidenum">
              <a:t>20</a:t>
            </a:fld>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Oversight of Categorical Industrial Users (CIUs)</a:t>
            </a:r>
            <a:endParaRPr b="0" lang="en-US" sz="3600" spc="-1" strike="noStrike">
              <a:solidFill>
                <a:srgbClr val="000000"/>
              </a:solidFill>
              <a:latin typeface="Impact"/>
            </a:endParaRPr>
          </a:p>
        </p:txBody>
      </p:sp>
      <p:sp>
        <p:nvSpPr>
          <p:cNvPr id="13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ahoma"/>
              </a:rPr>
              <a:t>Pre-Streamlining Rule</a:t>
            </a:r>
            <a:endParaRPr b="1" lang="en-US" sz="21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l CIUs are considered SIUs</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TW may exclude a non-categorical IU from SIU designation if demonstrates that it has no reasonable potential to adversely affect the plant or violate a standard (SIU based on flow alone)</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 flexibility to exclude CIUs from SIU status</a:t>
            </a:r>
            <a:endParaRPr b="1"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Oversight Scenarios for CIUs:</a:t>
            </a:r>
            <a:endParaRPr b="1" lang="en-US" sz="20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Us that are considered SIUs</a:t>
            </a:r>
            <a:endParaRPr b="1" lang="en-US" sz="18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Significant Categorical Industrial User (NSCIU)</a:t>
            </a:r>
            <a:endParaRPr b="1"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ddle Tier CIU</a:t>
            </a:r>
            <a:endParaRPr b="1" lang="en-US" sz="1800" spc="-1" strike="noStrike">
              <a:solidFill>
                <a:srgbClr val="000000"/>
              </a:solidFill>
              <a:latin typeface="Tahoma"/>
            </a:endParaRPr>
          </a:p>
        </p:txBody>
      </p:sp>
      <p:sp>
        <p:nvSpPr>
          <p:cNvPr id="4" name="PlaceHolder 3"/>
          <p:cNvSpPr>
            <a:spLocks noGrp="1"/>
          </p:cNvSpPr>
          <p:nvPr>
            <p:ph type="sldNum" idx="3"/>
          </p:nvPr>
        </p:nvSpPr>
        <p:spPr/>
        <p:txBody>
          <a:bodyPr/>
          <a:p>
            <a:fld id="{D0978A61-51C7-4A03-9B49-1E13D4DD2EDF}" type="slidenum">
              <a:t>21</a:t>
            </a:fld>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mparison of CIU Oversight Requirements</a:t>
            </a:r>
            <a:endParaRPr b="0" lang="en-US" sz="3600" spc="-1" strike="noStrike">
              <a:solidFill>
                <a:srgbClr val="000000"/>
              </a:solidFill>
              <a:latin typeface="Impact"/>
            </a:endParaRPr>
          </a:p>
        </p:txBody>
      </p:sp>
      <p:graphicFrame>
        <p:nvGraphicFramePr>
          <p:cNvPr id="132" name=""/>
          <p:cNvGraphicFramePr/>
          <p:nvPr/>
        </p:nvGraphicFramePr>
        <p:xfrm>
          <a:off x="152280" y="914400"/>
          <a:ext cx="8686800" cy="5029200"/>
        </p:xfrm>
        <a:graphic>
          <a:graphicData uri="http://schemas.openxmlformats.org/drawingml/2006/table">
            <a:tbl>
              <a:tblPr/>
              <a:tblGrid>
                <a:gridCol w="2210040"/>
                <a:gridCol w="2209680"/>
                <a:gridCol w="2209680"/>
                <a:gridCol w="2057400"/>
              </a:tblGrid>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rol Mechanism Requi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imum CIU Reporting Requir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nimum POTW Inspection / Sampling Requirem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egorical S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imes per year (at a minim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per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SC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ification only (no reporting), one time per y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qui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iddle Tier CI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per year (if representative of operating conditio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e every other ye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47198C9-6017-4BF3-A9F9-F6025458CA64}" type="slidenum">
              <a:t>22</a:t>
            </a:fld>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240"/>
            <a:ext cx="88394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 </a:t>
            </a:r>
            <a:br>
              <a:rPr sz="3900"/>
            </a:br>
            <a:r>
              <a:rPr b="0" lang="en-US" sz="3900" spc="-1" strike="noStrike">
                <a:solidFill>
                  <a:srgbClr val="000000"/>
                </a:solidFill>
                <a:latin typeface="Impact"/>
              </a:rPr>
              <a:t>	</a:t>
            </a:r>
            <a:r>
              <a:rPr b="0" lang="en-US" sz="3900" spc="-1" strike="noStrike">
                <a:solidFill>
                  <a:srgbClr val="000000"/>
                </a:solidFill>
                <a:latin typeface="Impact"/>
              </a:rPr>
              <a:t>Non-Significant CIU – Final Rule</a:t>
            </a:r>
            <a:endParaRPr b="0" lang="en-US" sz="3900" spc="-1" strike="noStrike">
              <a:solidFill>
                <a:srgbClr val="000000"/>
              </a:solidFill>
              <a:latin typeface="Impact"/>
            </a:endParaRPr>
          </a:p>
        </p:txBody>
      </p:sp>
      <p:sp>
        <p:nvSpPr>
          <p:cNvPr id="134"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fontScale="95000"/>
          </a:bodyPr>
          <a:p>
            <a:pPr marL="434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o be eligible, the CIU must:</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00 gpd or less daily max. categorical wastewater discharge (cannot be averaged flow)</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ave consistently complied w/ all applicable standards and requirements</a:t>
            </a:r>
            <a:endParaRPr b="1" lang="en-US" sz="1700" spc="-1" strike="noStrike">
              <a:solidFill>
                <a:srgbClr val="000000"/>
              </a:solidFill>
              <a:latin typeface="Tahoma"/>
            </a:endParaRPr>
          </a:p>
          <a:p>
            <a:pPr lvl="1" marL="975600" indent="-432360">
              <a:lnSpc>
                <a:spcPct val="80000"/>
              </a:lnSpc>
              <a:spcBef>
                <a:spcPts val="4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Annually submit certification statement indicating that it continues to meet the NSCIU definitional criteria and that it complied w/ applicable standards and requirements</a:t>
            </a:r>
            <a:endParaRPr b="1" lang="en-US" sz="1700" spc="-1" strike="noStrike">
              <a:solidFill>
                <a:srgbClr val="000000"/>
              </a:solidFill>
              <a:latin typeface="Tahoma"/>
            </a:endParaRPr>
          </a:p>
          <a:p>
            <a:pPr lvl="1" marL="97560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quires annual certification statement to be signed in accordance w/ 403.12 requirements</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required to annually list out which CIUs are considered NSCIUs</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required to annually evaluate whether each NSCIU has submitted its certification statement and continues to meet the definitional criteria</a:t>
            </a:r>
            <a:endParaRPr b="1" lang="en-US" sz="1700" spc="-1" strike="noStrike">
              <a:solidFill>
                <a:srgbClr val="000000"/>
              </a:solidFill>
              <a:latin typeface="Tahoma"/>
            </a:endParaRPr>
          </a:p>
          <a:p>
            <a:pPr marL="4341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ahoma"/>
            </a:endParaRPr>
          </a:p>
          <a:p>
            <a:pPr marL="434160" indent="-43416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A establishes inspection and sampling frequencies</a:t>
            </a:r>
            <a:endParaRPr b="1" lang="en-US" sz="1700" spc="-1" strike="noStrike">
              <a:solidFill>
                <a:srgbClr val="000000"/>
              </a:solidFill>
              <a:latin typeface="Tahoma"/>
            </a:endParaRPr>
          </a:p>
        </p:txBody>
      </p:sp>
      <p:sp>
        <p:nvSpPr>
          <p:cNvPr id="4" name="PlaceHolder 3"/>
          <p:cNvSpPr>
            <a:spLocks noGrp="1"/>
          </p:cNvSpPr>
          <p:nvPr>
            <p:ph type="sldNum" idx="3"/>
          </p:nvPr>
        </p:nvSpPr>
        <p:spPr/>
        <p:txBody>
          <a:bodyPr/>
          <a:p>
            <a:fld id="{41CCB9E8-E41C-494D-9078-5FF16A7691B8}" type="slidenum">
              <a:t>23</a:t>
            </a:fld>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04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a:t>
            </a:r>
            <a:r>
              <a:rPr b="0" lang="en-US" sz="3900" spc="-1" strike="noStrike">
                <a:solidFill>
                  <a:srgbClr val="000000"/>
                </a:solidFill>
                <a:latin typeface="Impact"/>
              </a:rPr>
              <a:t> </a:t>
            </a:r>
            <a:br>
              <a:rPr sz="3900"/>
            </a:br>
            <a:r>
              <a:rPr b="0" lang="en-US" sz="3900" spc="-1" strike="noStrike">
                <a:solidFill>
                  <a:srgbClr val="000000"/>
                </a:solidFill>
                <a:latin typeface="Impact"/>
              </a:rPr>
              <a:t>	</a:t>
            </a:r>
            <a:r>
              <a:rPr b="0" lang="en-US" sz="3900" spc="-1" strike="noStrike">
                <a:solidFill>
                  <a:srgbClr val="000000"/>
                </a:solidFill>
                <a:latin typeface="Impact"/>
              </a:rPr>
              <a:t>Middle Tier CIU – Final Rule</a:t>
            </a:r>
            <a:endParaRPr b="0" lang="en-US" sz="3900" spc="-1" strike="noStrike">
              <a:solidFill>
                <a:srgbClr val="000000"/>
              </a:solidFill>
              <a:latin typeface="Impact"/>
            </a:endParaRPr>
          </a:p>
        </p:txBody>
      </p:sp>
      <p:sp>
        <p:nvSpPr>
          <p:cNvPr id="136"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fontScale="97000"/>
          </a:bodyPr>
          <a:p>
            <a:pPr marL="443160" indent="-44316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r>
              <a:rPr b="1" lang="en-US" sz="1600" spc="-1" strike="noStrike">
                <a:solidFill>
                  <a:srgbClr val="000000"/>
                </a:solidFill>
                <a:latin typeface="Tahoma"/>
              </a:rPr>
              <a:t>Middle Tier” CIU Designation:</a:t>
            </a:r>
            <a:endParaRPr b="1" lang="en-US" sz="16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can reduce reporting to one time per year </a:t>
            </a:r>
            <a:endParaRPr b="1" lang="en-US" sz="1400" spc="-1" strike="noStrike">
              <a:solidFill>
                <a:srgbClr val="000000"/>
              </a:solidFill>
              <a:latin typeface="Tahoma"/>
            </a:endParaRPr>
          </a:p>
          <a:p>
            <a:pPr lvl="1" marL="9961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stead of minimum twice per year as SIU)</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TW can reduce its inspections/samplings to one time every other year (instead of minimum one time per year as SIU)</a:t>
            </a:r>
            <a:endParaRPr b="1" lang="en-US" sz="1400" spc="-1" strike="noStrike">
              <a:solidFill>
                <a:srgbClr val="000000"/>
              </a:solidFill>
              <a:latin typeface="Tahoma"/>
            </a:endParaRPr>
          </a:p>
          <a:p>
            <a:pPr marL="443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443160" indent="-44316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be eligible as a “Middle Tier” CIU, the CIU discharges can be no greater than:</a:t>
            </a:r>
            <a:endParaRPr b="1" lang="en-US" sz="16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POTW’s design dry weather hydraulic capacity, or </a:t>
            </a:r>
            <a:endParaRPr b="1" lang="en-US" sz="1400" spc="-1" strike="noStrike">
              <a:solidFill>
                <a:srgbClr val="000000"/>
              </a:solidFill>
              <a:latin typeface="Tahoma"/>
            </a:endParaRPr>
          </a:p>
          <a:p>
            <a:pPr lvl="1" marL="9961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5,000 gpd, whichever is smaller (measured by continuous effluent flow monitor unless CIU is batch discharger)</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POTW’s design dry weather treatment capacity</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01% of MAHL for any pollutant for which CIU regulated</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has not been in SNC for any time in past 2 years</a:t>
            </a:r>
            <a:endParaRPr b="1" lang="en-US" sz="1400" spc="-1" strike="noStrike">
              <a:solidFill>
                <a:srgbClr val="000000"/>
              </a:solidFill>
              <a:latin typeface="Tahoma"/>
            </a:endParaRPr>
          </a:p>
          <a:p>
            <a:pPr lvl="1" marL="9961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lvl="1" marL="996120" indent="-441720">
              <a:lnSpc>
                <a:spcPct val="8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IU does not have daily flow rates, production levels, or pollutant levels that vary significantly that reduced reporting would be non-representative of operating conditions</a:t>
            </a:r>
            <a:endParaRPr b="1" lang="en-US" sz="1400" spc="-1" strike="noStrike">
              <a:solidFill>
                <a:srgbClr val="000000"/>
              </a:solidFill>
              <a:latin typeface="Tahoma"/>
            </a:endParaRPr>
          </a:p>
        </p:txBody>
      </p:sp>
      <p:sp>
        <p:nvSpPr>
          <p:cNvPr id="4" name="PlaceHolder 3"/>
          <p:cNvSpPr>
            <a:spLocks noGrp="1"/>
          </p:cNvSpPr>
          <p:nvPr>
            <p:ph type="sldNum" idx="3"/>
          </p:nvPr>
        </p:nvSpPr>
        <p:spPr/>
        <p:txBody>
          <a:bodyPr/>
          <a:p>
            <a:fld id="{F04030FD-5C2C-445A-9A8B-8A1BB85B3D6F}" type="slidenum">
              <a:t>24</a:t>
            </a:fld>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Impact"/>
              </a:rPr>
              <a:t>Oversight of Categorical Industrial Users (CIUs)</a:t>
            </a:r>
            <a:endParaRPr b="0" lang="en-US" sz="3500" spc="-1" strike="noStrike">
              <a:solidFill>
                <a:srgbClr val="000000"/>
              </a:solidFill>
              <a:latin typeface="Impact"/>
            </a:endParaRPr>
          </a:p>
        </p:txBody>
      </p:sp>
      <p:sp>
        <p:nvSpPr>
          <p:cNvPr id="13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ahoma"/>
              </a:rPr>
              <a:t>Final Rule</a:t>
            </a:r>
            <a:endParaRPr b="1" lang="en-US" sz="2900" spc="-1" strike="noStrike">
              <a:solidFill>
                <a:srgbClr val="000000"/>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Where to find rule changes?</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3(v)(2) – Definition </a:t>
            </a:r>
            <a:r>
              <a:rPr b="1" i="1" lang="en-US" sz="2800" spc="-1" strike="noStrike">
                <a:solidFill>
                  <a:srgbClr val="000000"/>
                </a:solidFill>
                <a:latin typeface="Tahoma"/>
              </a:rPr>
              <a:t>NS </a:t>
            </a:r>
            <a:r>
              <a:rPr b="1" lang="en-US" sz="2800" spc="-1" strike="noStrike">
                <a:solidFill>
                  <a:srgbClr val="000000"/>
                </a:solidFill>
                <a:latin typeface="Tahoma"/>
              </a:rPr>
              <a:t>CIU</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8(f)(2)(v)(B) and (C)</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12(e)(3)</a:t>
            </a:r>
            <a:endParaRPr b="1" lang="en-US" sz="2800" spc="-1" strike="noStrike">
              <a:solidFill>
                <a:srgbClr val="000000"/>
              </a:solidFill>
              <a:latin typeface="Tahoma"/>
            </a:endParaRPr>
          </a:p>
          <a:p>
            <a:pPr marL="457200" indent="-45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CFR 403.12(i) – Annual POTW report</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D7214E6E-623E-47DB-9254-AE3473995103}" type="slidenum">
              <a:t>25</a:t>
            </a:fld>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Questions?</a:t>
            </a:r>
            <a:endParaRPr b="0" lang="en-US" sz="4000" spc="-1" strike="noStrike">
              <a:solidFill>
                <a:srgbClr val="000000"/>
              </a:solidFill>
              <a:latin typeface="Impact"/>
            </a:endParaRPr>
          </a:p>
        </p:txBody>
      </p:sp>
      <p:sp>
        <p:nvSpPr>
          <p:cNvPr id="140"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tact Information:</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Jan Pickrel</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202) 564-7904</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u="sng">
                <a:solidFill>
                  <a:srgbClr val="0066cc"/>
                </a:solidFill>
                <a:uFillTx/>
                <a:latin typeface="Tahoma"/>
                <a:hlinkClick r:id="rId2"/>
              </a:rPr>
              <a:t>pickrel.jan@epa.gov</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Greg Schaner</a:t>
            </a:r>
            <a:endParaRPr b="1"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202) 564-0721 or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u="sng">
                <a:solidFill>
                  <a:srgbClr val="0066cc"/>
                </a:solidFill>
                <a:uFillTx/>
                <a:latin typeface="Tahoma"/>
                <a:hlinkClick r:id="rId3"/>
              </a:rPr>
              <a:t>schaner.greg@epa.gov</a:t>
            </a:r>
            <a:r>
              <a:rPr b="1" lang="en-US" sz="3200" spc="-1" strike="noStrike">
                <a:solidFill>
                  <a:srgbClr val="000000"/>
                </a:solidFill>
                <a:latin typeface="Tahoma"/>
              </a:rPr>
              <a:t> </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109A5B2D-8CFE-4DE7-8066-881B4C8B5B85}" type="slidenum">
              <a:t>26</a:t>
            </a:fld>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treatment Streamlining Rule</a:t>
            </a:r>
            <a:endParaRPr b="0" lang="en-US" sz="4000" spc="-1" strike="noStrike">
              <a:solidFill>
                <a:srgbClr val="000000"/>
              </a:solidFill>
              <a:latin typeface="Impact"/>
            </a:endParaRPr>
          </a:p>
        </p:txBody>
      </p:sp>
      <p:sp>
        <p:nvSpPr>
          <p:cNvPr id="94"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blished in Federal Register on October 14, 2005</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ffective November 14, 2005</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0 FR 60134-60198</a:t>
            </a:r>
            <a:endParaRPr b="1" lang="en-US" sz="3200" spc="-1" strike="noStrike">
              <a:solidFill>
                <a:srgbClr val="000000"/>
              </a:solidFill>
              <a:latin typeface="Tahoma"/>
            </a:endParaRPr>
          </a:p>
        </p:txBody>
      </p:sp>
      <p:sp>
        <p:nvSpPr>
          <p:cNvPr id="4" name="PlaceHolder 3"/>
          <p:cNvSpPr>
            <a:spLocks noGrp="1"/>
          </p:cNvSpPr>
          <p:nvPr>
            <p:ph type="sldNum" idx="3"/>
          </p:nvPr>
        </p:nvSpPr>
        <p:spPr/>
        <p:txBody>
          <a:bodyPr/>
          <a:p>
            <a:fld id="{9DD87BAE-D688-488C-B387-C2A17E1E7F28}" type="slidenum">
              <a:t>3</a:t>
            </a:fld>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04560"/>
            <a:ext cx="8686800" cy="41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Active Stakeholders</a:t>
            </a:r>
            <a:endParaRPr b="0" lang="en-US" sz="4100" spc="-1" strike="noStrike">
              <a:solidFill>
                <a:srgbClr val="000000"/>
              </a:solidFill>
              <a:latin typeface="Impact"/>
            </a:endParaRPr>
          </a:p>
        </p:txBody>
      </p:sp>
      <p:sp>
        <p:nvSpPr>
          <p:cNvPr id="96" name="PlaceHolder 2"/>
          <p:cNvSpPr>
            <a:spLocks noGrp="1"/>
          </p:cNvSpPr>
          <p:nvPr>
            <p:ph/>
          </p:nvPr>
        </p:nvSpPr>
        <p:spPr>
          <a:xfrm>
            <a:off x="53352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CWA, WEF and Other POTWs</a:t>
            </a:r>
            <a:endParaRPr b="1"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ustrial Users</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tal Finishers</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 Organic Chemical Manufacturers Assoc. (SOCMA)</a:t>
            </a:r>
            <a:endParaRPr b="1"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all Business Administration</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oval Authorities (Regions/States)</a:t>
            </a:r>
            <a:endParaRPr b="1"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 Resources Defense Council</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29464D5D-8445-4F70-BD0D-22A2D552BFB5}" type="slidenum">
              <a:t>4</a:t>
            </a:fld>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treatment Streamlining Overview</a:t>
            </a:r>
            <a:endParaRPr b="0" lang="en-US" sz="4000" spc="-1" strike="noStrike">
              <a:solidFill>
                <a:srgbClr val="000000"/>
              </a:solidFill>
              <a:latin typeface="Impact"/>
            </a:endParaRPr>
          </a:p>
        </p:txBody>
      </p:sp>
      <p:sp>
        <p:nvSpPr>
          <p:cNvPr id="98"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Regulation Revised -- 11 Major Topic Areas</a:t>
            </a:r>
            <a:endParaRPr b="1" lang="en-US" sz="28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mpling for Pollutants Not Present</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 Control Mechanism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st Management Practices (“BMPs”) as Local Lim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lug Control Plan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quivalent Concentration Limits for Flow-Based Standard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 of Grab and Composite Sampling</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nificant Noncompliance Criteria (“SNC”)</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moval Cred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quivalent Mass Limits for Concentration Limit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versight of Categorical Industrial Users</a:t>
            </a:r>
            <a:endParaRPr b="1"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scellaneous Changes</a:t>
            </a:r>
            <a:endParaRPr b="1" lang="en-US" sz="2400" spc="-1" strike="noStrike">
              <a:solidFill>
                <a:srgbClr val="000000"/>
              </a:solidFill>
              <a:latin typeface="Tahoma"/>
            </a:endParaRPr>
          </a:p>
        </p:txBody>
      </p:sp>
      <p:sp>
        <p:nvSpPr>
          <p:cNvPr id="4" name="PlaceHolder 3"/>
          <p:cNvSpPr>
            <a:spLocks noGrp="1"/>
          </p:cNvSpPr>
          <p:nvPr>
            <p:ph type="sldNum" idx="3"/>
          </p:nvPr>
        </p:nvSpPr>
        <p:spPr/>
        <p:txBody>
          <a:bodyPr/>
          <a:p>
            <a:fld id="{CA287AB6-9FB2-4F90-A7BF-693A658348A1}"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a:t>
            </a:r>
            <a:endParaRPr b="0" lang="en-US" sz="4000" spc="-1" strike="noStrike">
              <a:solidFill>
                <a:srgbClr val="000000"/>
              </a:solidFill>
              <a:latin typeface="Impact"/>
            </a:endParaRPr>
          </a:p>
        </p:txBody>
      </p:sp>
      <p:graphicFrame>
        <p:nvGraphicFramePr>
          <p:cNvPr id="100" name=""/>
          <p:cNvGraphicFramePr/>
          <p:nvPr/>
        </p:nvGraphicFramePr>
        <p:xfrm>
          <a:off x="152280" y="838080"/>
          <a:ext cx="8839440" cy="5794560"/>
        </p:xfrm>
        <a:graphic>
          <a:graphicData uri="http://schemas.openxmlformats.org/drawingml/2006/table">
            <a:tbl>
              <a:tblPr/>
              <a:tblGrid>
                <a:gridCol w="2455920"/>
                <a:gridCol w="6383520"/>
              </a:tblGrid>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Pollutants not presen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can grant sampling waivers where CIU demonstrates that a regulated pollutant is neither present nor expected to be presen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eneral control mechanism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may issue general control mechanisms to groups of SIUs that are substantially simil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BMPs as local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MPs may be used in lieu of numeric local limi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43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lug control plan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TWs may determine how often they evaluate SIUs for the need for slug control plans or other requirements</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y requirements must be reflected in control mec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quivalent Conc.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s can use existing concentration-based standards instead of converting to flow-based mass limits for CIUs in OCPSF, Petroleum Refining, Pesticide Chemical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Grab and Composite Sampling</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larifies and updates application of sampling requirements; Provides flexibility to CA in certain sampling protocol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Publication</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TW can publish SNC violations in any paper of general circulatio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E8AEDE4-0F4B-415D-A833-4836A77F858F}" type="slidenum">
              <a:t>6</a:t>
            </a:fld>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 (cont’d)</a:t>
            </a:r>
            <a:endParaRPr b="0" lang="en-US" sz="4000" spc="-1" strike="noStrike">
              <a:solidFill>
                <a:srgbClr val="000000"/>
              </a:solidFill>
              <a:latin typeface="Impact"/>
            </a:endParaRPr>
          </a:p>
        </p:txBody>
      </p:sp>
      <p:graphicFrame>
        <p:nvGraphicFramePr>
          <p:cNvPr id="102" name=""/>
          <p:cNvGraphicFramePr/>
          <p:nvPr/>
        </p:nvGraphicFramePr>
        <p:xfrm>
          <a:off x="152280" y="838080"/>
          <a:ext cx="8839440" cy="5535720"/>
        </p:xfrm>
        <a:graphic>
          <a:graphicData uri="http://schemas.openxmlformats.org/drawingml/2006/table">
            <a:tbl>
              <a:tblPr/>
              <a:tblGrid>
                <a:gridCol w="2455920"/>
                <a:gridCol w="6383520"/>
              </a:tblGrid>
              <a:tr h="4716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Applicability</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NC criteria apply only to SIUs and to those IUs that have adversely affected pretreatment program</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Daily Max. or Avge.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roadens scope of violations covered by chronic, TRC, and other violation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Late Repor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NC violation occurs when reports submitted more than 45 days after deadlin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NC – TRC, Rolling Quarters, pH</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o changes made to Pre-Streamlining rule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moval Credits - Overflow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tains and updates Pre-Streamlining formula to adjust removal credits by number of hours of sewer overflows per ye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moval Credits – Sewage Sludg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PRM asks for comment on adding pollutants to list of chemicals eligible for removal credits, and on potential ways to streamline consistent removal requiremen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Miscellaneous Change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Updates or corrects provisions re: to signatory requirements, net/gross calculations, requirement to report all monitoring data, and notification of change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20548D7-A567-4650-ABB5-2A8C659B6C48}" type="slidenum">
              <a:t>7</a:t>
            </a:fld>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mmary of Final Rule Changes (cont’d)</a:t>
            </a:r>
            <a:endParaRPr b="0" lang="en-US" sz="4000" spc="-1" strike="noStrike">
              <a:solidFill>
                <a:srgbClr val="000000"/>
              </a:solidFill>
              <a:latin typeface="Impact"/>
            </a:endParaRPr>
          </a:p>
        </p:txBody>
      </p:sp>
      <p:graphicFrame>
        <p:nvGraphicFramePr>
          <p:cNvPr id="104" name=""/>
          <p:cNvGraphicFramePr/>
          <p:nvPr/>
        </p:nvGraphicFramePr>
        <p:xfrm>
          <a:off x="152280" y="838080"/>
          <a:ext cx="8839440" cy="5915160"/>
        </p:xfrm>
        <a:graphic>
          <a:graphicData uri="http://schemas.openxmlformats.org/drawingml/2006/table">
            <a:tbl>
              <a:tblPr/>
              <a:tblGrid>
                <a:gridCol w="2455920"/>
                <a:gridCol w="6383520"/>
              </a:tblGrid>
              <a:tr h="7376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ssue</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ule Change</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quivalent Mass Limit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s can request, and Control Authorities have discretion to approve, the conversion of concentration-based categorical standards to equivalent mass limit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59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IU Oversight</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nSpc>
                          <a:spcPct val="100000"/>
                        </a:lnSpc>
                        <a:spcBef>
                          <a:spcPts val="42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stablishes Non-Significant CIU (NSCIU) category (discharges &lt; 100 gpd)</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 reporting can be reduced to yearly compliance certification</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 oversight can be reduced to annual evaluation of the CIU’s certification</a:t>
                      </a:r>
                      <a:endParaRPr b="0" lang="en-US" sz="1700" spc="-1" strike="noStrike">
                        <a:solidFill>
                          <a:srgbClr val="000000"/>
                        </a:solidFill>
                        <a:latin typeface="Arial"/>
                      </a:endParaRPr>
                    </a:p>
                    <a:p>
                      <a:pPr marL="533520" indent="-53352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stablishes “Middle Tier” CIU category (discharges don’t exceed (a) the smaller of 5,000 gpd or 0.01 % of POTW design dry weather hydraulic capacity; (b) 0.01 % of POTW design organic treatment capacity; and (c) 0.01 % of the MAHL</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IU reporting can be reduced to once annually</a:t>
                      </a:r>
                      <a:endParaRPr b="0" lang="en-US" sz="1700" spc="-1" strike="noStrike">
                        <a:solidFill>
                          <a:srgbClr val="000000"/>
                        </a:solidFill>
                        <a:latin typeface="Arial"/>
                      </a:endParaRPr>
                    </a:p>
                    <a:p>
                      <a:pPr marL="533520" indent="-53352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 oversight can be reduced to one inspection and sampling event every other year</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7EE13CC-EF24-440B-9CD9-4C724E2579A5}" type="slidenum">
              <a:t>8</a:t>
            </a:fld>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533160"/>
            <a:ext cx="7848720" cy="46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Impact"/>
              </a:rPr>
              <a:t>Pollutants Not Present</a:t>
            </a:r>
            <a:endParaRPr b="0" lang="en-US" sz="4100" spc="-1" strike="noStrike">
              <a:solidFill>
                <a:srgbClr val="000000"/>
              </a:solidFill>
              <a:latin typeface="Impact"/>
            </a:endParaRPr>
          </a:p>
        </p:txBody>
      </p:sp>
      <p:sp>
        <p:nvSpPr>
          <p:cNvPr id="106" name="PlaceHolder 2"/>
          <p:cNvSpPr>
            <a:spLocks noGrp="1"/>
          </p:cNvSpPr>
          <p:nvPr>
            <p:ph/>
          </p:nvPr>
        </p:nvSpPr>
        <p:spPr>
          <a:xfrm>
            <a:off x="457200" y="990360"/>
            <a:ext cx="8153280" cy="5562360"/>
          </a:xfrm>
          <a:prstGeom prst="rect">
            <a:avLst/>
          </a:prstGeom>
          <a:noFill/>
          <a:ln w="0">
            <a:noFill/>
          </a:ln>
        </p:spPr>
        <p:txBody>
          <a:bodyPr lIns="90000" rIns="90000" tIns="46800" bIns="46800"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re-Streamlining Rules</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IUs must sample for all pollutants covered by the categorical standard, regardless of whether pollutant is present</a:t>
            </a: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Final Rule</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CIU can demonstrate a pollutant is not present in its process waste stream or is present only in background levels in intake water, the CA may authorize a sampling waiver for the pollutant</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least one representative process wastewater sample must be taken prior to treatment</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aiver valid for one term of control mechanism (like NPDES provision)</a:t>
            </a:r>
            <a:endParaRPr b="1" lang="en-US" sz="2000" spc="-1" strike="noStrike">
              <a:solidFill>
                <a:srgbClr val="000000"/>
              </a:solidFill>
              <a:latin typeface="Tahoma"/>
            </a:endParaRPr>
          </a:p>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Where to find rule changes?</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8(f)(2)(v)</a:t>
            </a:r>
            <a:endParaRPr b="1" lang="en-US" sz="2000" spc="-1" strike="noStrike">
              <a:solidFill>
                <a:srgbClr val="000000"/>
              </a:solidFill>
              <a:latin typeface="Tahoma"/>
            </a:endParaRPr>
          </a:p>
          <a:p>
            <a:pPr marL="434160" indent="-43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 CFR 403.12(e)(2)</a:t>
            </a:r>
            <a:endParaRPr b="1" lang="en-US" sz="2000" spc="-1" strike="noStrike">
              <a:solidFill>
                <a:srgbClr val="000000"/>
              </a:solidFill>
              <a:latin typeface="Tahoma"/>
            </a:endParaRPr>
          </a:p>
        </p:txBody>
      </p:sp>
      <p:sp>
        <p:nvSpPr>
          <p:cNvPr id="4" name="PlaceHolder 3"/>
          <p:cNvSpPr>
            <a:spLocks noGrp="1"/>
          </p:cNvSpPr>
          <p:nvPr>
            <p:ph type="sldNum" idx="3"/>
          </p:nvPr>
        </p:nvSpPr>
        <p:spPr/>
        <p:txBody>
          <a:bodyPr/>
          <a:p>
            <a:fld id="{688944D4-0AC2-4DF8-B447-9418BCAC1720}" type="slidenum">
              <a:t>9</a:t>
            </a:fld>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21:05:51Z</dcterms:created>
  <dc:creator>Alex Cristofaro</dc:creator>
  <dc:description/>
  <dc:language>en-US</dc:language>
  <cp:lastModifiedBy>AMSA</cp:lastModifiedBy>
  <cp:lastPrinted>2001-12-13T17:38:56Z</cp:lastPrinted>
  <dcterms:modified xsi:type="dcterms:W3CDTF">2005-11-16T17:13:58Z</dcterms:modified>
  <cp:revision>455</cp:revision>
  <dc:subject/>
  <dc:title>Issues on Phase II Intakes</dc:title>
</cp:coreProperties>
</file>