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016-1748-48AF-B993-757DED1C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FB6-D34D-4870-9BFC-0EC3A2C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B2D-FE9E-42F0-A106-A9A666FA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E61-0A47-4258-9E65-5A348984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4A9-F757-4B27-BCB4-313D1477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44F-71EE-4356-BD29-362DF79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81C-5621-4061-860C-9885400C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5BC-53AF-4FBD-A16C-1743AF29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EB5-7177-4C30-98F4-E77F4344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40B-80E9-4D15-8D39-3E88FAFD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A2A-042F-4190-9174-24EC82C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B75-474C-4685-ACF8-CBA150F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B29C-747E-42F4-A08C-EBA59B3AC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luequillangler.com/shopsite_sc/store/html/buzz-off-men.html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luequillangler.com/shopsite_sc/store/html/buzz-off-men.html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ages.google.com/imgres?imgurl=http://pics.drugstore.com/prodimg/13312/200.jpg&amp;imgrefurl=http://www.drugstore.com/qxp13312_333181_sespider/rid/lice_shampoo.htm&amp;h=200&amp;w=200&amp;sz=10&amp;tbnid=sfkf7A_nmfQJ:&amp;tbnh=99&amp;tbnw=99&amp;hl=en&amp;start=1&amp;prev=/images%3Fq%3Drid%2Blice%26svnum%3D10%26hl%3Den%26lr%3D%26rls%3DGGLD,GGLD:2004-30,GGLD:en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295280"/>
            <a:ext cx="9525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ling Emerging Pollutants Through Pretreatment and Pollution Preven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ul Martyn, Industrial Waste Section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itation Districts of Los Angeles Cou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5 Workman Mill Road, Whittier  CA  906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2/699-7411, x2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martyn@lacsd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2514600" y="5257800"/>
            <a:ext cx="5181480" cy="134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57913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NITATION DISTRICTS OF LOS ANGELES COUN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spitals/Medical Facil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76960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agency effort to prepare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 Department of Health Services,         CA Healthcare Association, Kaiser Permanente, CA legisl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HS and Tri-TAC issued guidance me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ized via widespread          distribution and talks at work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ies encouraged to reduce pharmaceutical discharges to the “extent feasib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371e8a22b2b937b5862569650073811c_Body_0_8c3460" descr=""/>
          <p:cNvPicPr/>
          <p:nvPr/>
        </p:nvPicPr>
        <p:blipFill>
          <a:blip r:embed="rId1"/>
          <a:stretch/>
        </p:blipFill>
        <p:spPr>
          <a:xfrm>
            <a:off x="7137360" y="1676520"/>
            <a:ext cx="3149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533880" y="304920"/>
            <a:ext cx="10820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commended Disposal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2819520" cy="2797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4706" t="11710" r="4706" b="5855"/>
          <a:stretch/>
        </p:blipFill>
        <p:spPr>
          <a:xfrm>
            <a:off x="3733920" y="3809880"/>
            <a:ext cx="2743200" cy="200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9101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A Hazardous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6019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447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A Hazard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1371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bags with salts/nutr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1447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13372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29600" y="220968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9092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harm%20waste%20container" descr=""/>
          <p:cNvPicPr/>
          <p:nvPr/>
        </p:nvPicPr>
        <p:blipFill>
          <a:blip r:embed="rId3"/>
          <a:srcRect l="18750" t="0" r="18750" b="0"/>
          <a:stretch/>
        </p:blipFill>
        <p:spPr>
          <a:xfrm>
            <a:off x="6934320" y="3124080"/>
            <a:ext cx="24796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posed Poli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LOGO1" descr=""/>
          <p:cNvPicPr/>
          <p:nvPr/>
        </p:nvPicPr>
        <p:blipFill>
          <a:blip r:embed="rId1"/>
          <a:stretch/>
        </p:blipFill>
        <p:spPr>
          <a:xfrm>
            <a:off x="380880" y="5748480"/>
            <a:ext cx="4267440" cy="1109520"/>
          </a:xfrm>
          <a:prstGeom prst="rect">
            <a:avLst/>
          </a:prstGeom>
          <a:ln w="0">
            <a:noFill/>
          </a:ln>
        </p:spPr>
      </p:pic>
      <p:pic>
        <p:nvPicPr>
          <p:cNvPr id="96" name="LA_seal" descr=""/>
          <p:cNvPicPr/>
          <p:nvPr/>
        </p:nvPicPr>
        <p:blipFill>
          <a:blip r:embed="rId2"/>
          <a:stretch/>
        </p:blipFill>
        <p:spPr>
          <a:xfrm>
            <a:off x="5029200" y="5638680"/>
            <a:ext cx="12193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8001000" y="5334120"/>
          <a:ext cx="13003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5334120"/>
                    <a:ext cx="13003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114300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user shall discharge pharmaceutical waste directly or indirectly to sewerage facilities except liquids contain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ine solution, lactate, nutrients such as glucose (e.g., D5W), vitamins, and added salts such as potassium and/or other electrolytes. The term “pharmaceutical” refers to both prescription and over-the-counter drug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posed Poli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629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004 meeting with hospitals, hospital trade assoc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a cost 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d to return with a counter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 further follow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ddress hospices, medical clinics, dentists, veterinarians, etc. once policy is establis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docpatient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946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idential Out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6400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hA, LACSD, City of LA, OCSD, other POT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ions of cards to be distributed with prescriptions at pharma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for more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xpected early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dles overcome – dispo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y is HHW roundup or solid was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pplicable in all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nodrugs" descr=""/>
          <p:cNvPicPr/>
          <p:nvPr/>
        </p:nvPicPr>
        <p:blipFill>
          <a:blip r:embed="rId1"/>
          <a:stretch/>
        </p:blipFill>
        <p:spPr>
          <a:xfrm>
            <a:off x="612144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idential Out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dles overcome - 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ntrolled substances at collection events without law enforcem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d by not accepting controlled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national polic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Stewardship Instit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dialo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issues being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nodrugs" descr=""/>
          <p:cNvPicPr/>
          <p:nvPr/>
        </p:nvPicPr>
        <p:blipFill>
          <a:blip r:embed="rId1"/>
          <a:stretch/>
        </p:blipFill>
        <p:spPr>
          <a:xfrm>
            <a:off x="612144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e Pesticides a Pretreatment Issue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ould NOT have to be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has a statutory obligation to ensure pesticide use doesn’t cause environmental ha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systematically reregistering pesticides and needs to adequately address wastewater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 is to submit comments on registrations, so we don’t have to do extensive source control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with NACWA on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esticide-diazinon-photo" descr=""/>
          <p:cNvPicPr/>
          <p:nvPr/>
        </p:nvPicPr>
        <p:blipFill>
          <a:blip r:embed="rId1"/>
          <a:stretch/>
        </p:blipFill>
        <p:spPr>
          <a:xfrm>
            <a:off x="7813800" y="1600200"/>
            <a:ext cx="2473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143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methr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spectrum pestic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spread conversion to pyrethroid pesticide family with chlorpyrifos and diazinon ban for urban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permethrin-impregnated clothing, pet shampoos, head lice shampoo, scabies c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did consider sewer pathway when doing risk assessments for rereg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second time 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was with lind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buzzoff-man" descr="BUZZ OFF INSECT REPELLENT CLOTHING FOR MEN">
            <a:hlinkClick r:id="rId1"/>
          </p:cNvPr>
          <p:cNvPicPr/>
          <p:nvPr/>
        </p:nvPicPr>
        <p:blipFill>
          <a:blip r:embed="rId2"/>
          <a:srcRect l="0" t="0" r="10746" b="7632"/>
          <a:stretch/>
        </p:blipFill>
        <p:spPr>
          <a:xfrm>
            <a:off x="7672320" y="0"/>
            <a:ext cx="2614680" cy="3809880"/>
          </a:xfrm>
          <a:prstGeom prst="rect">
            <a:avLst/>
          </a:prstGeom>
          <a:ln w="0">
            <a:noFill/>
          </a:ln>
        </p:spPr>
      </p:pic>
      <p:pic>
        <p:nvPicPr>
          <p:cNvPr id="115" name="buyinprivate_1849_37358725" descr=""/>
          <p:cNvPicPr/>
          <p:nvPr/>
        </p:nvPicPr>
        <p:blipFill>
          <a:blip r:embed="rId3"/>
          <a:stretch/>
        </p:blipFill>
        <p:spPr>
          <a:xfrm>
            <a:off x="8001000" y="3733920"/>
            <a:ext cx="213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143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methr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n’t consider effluent-dominated waterbodies or POTWs with no mixing zones or di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at potential environmental concentrations from the sewer pathway were up to 100 times the level of conc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propose any mitigation measures for sewer 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WA requested that EPA not allow registration of permethrin products with sewer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buzzoff-man" descr="BUZZ OFF INSECT REPELLENT CLOTHING FOR MEN">
            <a:hlinkClick r:id="rId1"/>
          </p:cNvPr>
          <p:cNvPicPr/>
          <p:nvPr/>
        </p:nvPicPr>
        <p:blipFill>
          <a:blip r:embed="rId2"/>
          <a:srcRect l="0" t="0" r="10746" b="7632"/>
          <a:stretch/>
        </p:blipFill>
        <p:spPr>
          <a:xfrm>
            <a:off x="7672320" y="0"/>
            <a:ext cx="26146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buyinprivate_1849_37358725" descr=""/>
          <p:cNvPicPr/>
          <p:nvPr/>
        </p:nvPicPr>
        <p:blipFill>
          <a:blip r:embed="rId3"/>
          <a:stretch/>
        </p:blipFill>
        <p:spPr>
          <a:xfrm>
            <a:off x="8001000" y="3733920"/>
            <a:ext cx="213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143360" y="-381240"/>
            <a:ext cx="10287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Pesticid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eth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version of permeth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include head lice shampoo and pet shamp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didn’t consider sewer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th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include head lice shamp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didn’t consider sewer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 so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rt ingredients in sewer root killer contains excessive NDMA, not considered by E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migant, safety of downstream sewer workers not adequately consid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vide" descr=""/>
          <p:cNvPicPr/>
          <p:nvPr/>
        </p:nvPicPr>
        <p:blipFill>
          <a:blip r:embed="rId1"/>
          <a:stretch/>
        </p:blipFill>
        <p:spPr>
          <a:xfrm>
            <a:off x="7861320" y="2209680"/>
            <a:ext cx="2425680" cy="2449800"/>
          </a:xfrm>
          <a:prstGeom prst="rect">
            <a:avLst/>
          </a:prstGeom>
          <a:ln w="0">
            <a:noFill/>
          </a:ln>
        </p:spPr>
      </p:pic>
      <p:pic>
        <p:nvPicPr>
          <p:cNvPr id="12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 County Sanitation Distri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003_23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4114800" cy="3197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1371600"/>
            <a:ext cx="5562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wastewater treatmen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5.5 million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40 SI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ve water re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groundwater re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ing waters include effluent-dominated water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81240"/>
            <a:ext cx="10287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neral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stici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Issu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1074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is revising data needed to register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pesticide manufacturers don’t run aquatic toxicity tests on same species as POT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for the tests to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is evaluating new pesticide registration review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for assessment of sewer pathways where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for adequate opportunities and time for public  com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them to be consistent with Office of Water on water quality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Pesticide Programs runs its own analysis to determine acceptable water quality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sures to Address Emerging Polluta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 Department of Health Serv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ance on indirect potable reuse of waste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for sourc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DES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public perception               problems  with existing reuse             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and potential drinking                 water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34040" y="2133720"/>
            <a:ext cx="325296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ng Beach WRP Barrier Proj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990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ion of recycled water into groundwater ba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Replenishment District of Southern Califor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7 MGD into Alamitos Seawater Bar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filtration/RO/UV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e pretreatment program and other source control programs in a manner to minimize the likelihood of contamination with toxic chem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y designate contaminants for inclusion in the pretreatmen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“proactive” program for maintaining an inventory of compounds discharged to the sewe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neral Action - Invento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with local fire department to gain access to their databases of hazardous chemic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d fact sheets on chemicals of conc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quality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1197" t="19202" r="31197" b="14402"/>
          <a:stretch/>
        </p:blipFill>
        <p:spPr>
          <a:xfrm>
            <a:off x="6172200" y="1295280"/>
            <a:ext cx="3740040" cy="4951440"/>
          </a:xfrm>
          <a:prstGeom prst="rect">
            <a:avLst/>
          </a:prstGeom>
          <a:ln w="255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e Pharmaceuticals Really a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treatment Issue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ly present in surface water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n impacts on aquatic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 about potential human health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osal may represent a sizable portion of drugs entering s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and prudent to act now to minimize dis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lls" descr=""/>
          <p:cNvPicPr/>
          <p:nvPr/>
        </p:nvPicPr>
        <p:blipFill>
          <a:blip r:embed="rId1"/>
          <a:stretch/>
        </p:blipFill>
        <p:spPr>
          <a:xfrm>
            <a:off x="7262640" y="1828800"/>
            <a:ext cx="30243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cretion Percentages – Top 10 US Pharmaceuticals in 20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10287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itor  - cholesterol reduction – &lt; 2% excre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cor – cholesterol reduction – &lt; 0.5% excre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cid – ulcers - &lt; 1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rit – anemia – &lt; 5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yprexa – antipsychotic – 7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ogen – anemia –  &lt; 5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ium – acid reflux - &lt; 1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loft – antidepressant – 14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ex – anti-imflammatory - &lt; 3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tin – antiseizure – 100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OTC drug: Ibuprofen – 10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grover-potty" descr=""/>
          <p:cNvPicPr/>
          <p:nvPr/>
        </p:nvPicPr>
        <p:blipFill>
          <a:blip r:embed="rId1"/>
          <a:stretch/>
        </p:blipFill>
        <p:spPr>
          <a:xfrm>
            <a:off x="8099280" y="228600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10287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ne Leaving LACSD Water Reclamation Pla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457200" y="1049400"/>
          <a:ext cx="11879280" cy="58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049400"/>
                    <a:ext cx="1187928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144000" y="2971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C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Limit, M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5680" y="380880"/>
            <a:ext cx="60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dane Source Contr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267080"/>
            <a:ext cx="8458200" cy="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19 p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chargers of Pharmaceutic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49177" r="0" b="0"/>
          <a:stretch/>
        </p:blipFill>
        <p:spPr>
          <a:xfrm>
            <a:off x="4038480" y="4495680"/>
            <a:ext cx="3124440" cy="2076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20000" b="0"/>
          <a:stretch/>
        </p:blipFill>
        <p:spPr>
          <a:xfrm>
            <a:off x="0" y="3429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home" descr=""/>
          <p:cNvPicPr/>
          <p:nvPr/>
        </p:nvPicPr>
        <p:blipFill>
          <a:blip r:embed="rId3"/>
          <a:stretch/>
        </p:blipFill>
        <p:spPr>
          <a:xfrm>
            <a:off x="7238880" y="16765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00400" y="968400"/>
            <a:ext cx="3276720" cy="232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5715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19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Term Care Fac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50292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Medical Fac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3581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7:16:50Z</dcterms:created>
  <dc:creator>Ann Terese Heil</dc:creator>
  <dc:description/>
  <dc:language>en-US</dc:language>
  <cp:lastModifiedBy>aheil</cp:lastModifiedBy>
  <cp:lastPrinted>2003-09-08T20:57:47Z</cp:lastPrinted>
  <dcterms:modified xsi:type="dcterms:W3CDTF">2005-11-04T20:51:21Z</dcterms:modified>
  <cp:revision>572</cp:revision>
  <dc:subject/>
  <dc:title>Title goes here</dc:title>
</cp:coreProperties>
</file>