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6012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AC8-AF2A-41C3-B039-F12FD1EB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20320" y="390204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B1F-340B-4C2E-AB25-3EA37F86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65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D7AE-7A82-4928-B628-7C88416E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400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768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2032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400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768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C4A7-74B8-4C95-9EDC-3BCC8582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60120" y="609480"/>
            <a:ext cx="77612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152-519F-45D9-83DC-2DB7D6E2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65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20320" y="390204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65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4400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6768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2032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4400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6768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DAFB-90F3-47BC-B850-6CDEA45D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0B89-1B97-4093-AA48-7CAF3ED5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90EA-5309-420B-AE27-5F8A1FA7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60120" y="609480"/>
            <a:ext cx="77612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2D0-6730-491E-B30B-A05359EC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C969-5F89-4F8F-A454-B25B7D6B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65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3A5-3659-42E1-B30E-CB907034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ADC-F1E9-46D2-AFEB-CBC1C366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83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00000" y="6400800"/>
            <a:ext cx="304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73d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73d9"/>
                </a:solidFill>
                <a:latin typeface="Arial"/>
              </a:rPr>
              <a:t>&lt;footer&gt;</a:t>
            </a:r>
            <a:r>
              <a:rPr b="1" lang="en-US" sz="1200" spc="-1" strike="noStrike">
                <a:solidFill>
                  <a:srgbClr val="6473d9"/>
                </a:solidFill>
                <a:latin typeface="Arial"/>
              </a:rPr>
              <a:t>ebmu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00600" y="6248520"/>
            <a:ext cx="63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F3CE-EEDF-48CB-AFC9-F07DD44BB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228564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79880" y="1604520"/>
            <a:ext cx="8640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83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83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/imgres?imgurl=http://memory.loc.gov/ammem/cbhtml/cbmaplrg.jpg&amp;imgrefurl=http://memory.loc.gov/ammem/cbhtml/cbhome.html&amp;h=1832&amp;w=1456&amp;sz=512&amp;tbnid=asUJBZSEU_sJ:&amp;tbnh=150&amp;tbnw=119&amp;hl=en&amp;start=98&amp;prev=/images%3Fq%3Dcalifornia%2Bmaps%26start%3D80%26svnum%3D10%26hl%3Den%26lr%3D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ritac.org/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www.calfog.org/" TargetMode="External"/><Relationship Id="rId5" Type="http://schemas.openxmlformats.org/officeDocument/2006/relationships/hyperlink" Target="http://calfog.org/index.html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0720" y="228564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440000" y="3886200"/>
            <a:ext cx="6721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720" y="1346040"/>
            <a:ext cx="815976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The California Fats, Oils, And Grease Work Group (Cal FO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0000" y="3048120"/>
            <a:ext cx="67212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2005 NACWA National Pretreatment and Pollution Prevention Workshop </a:t>
            </a:r>
            <a:br>
              <a:rPr sz="2400"/>
            </a:b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November 17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0360" y="3886200"/>
            <a:ext cx="2157480" cy="2719440"/>
          </a:xfrm>
          <a:prstGeom prst="rect">
            <a:avLst/>
          </a:prstGeom>
          <a:ln w="28440">
            <a:solidFill>
              <a:srgbClr val="183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Work Group Accomplishments (cont.)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20320" y="1295280"/>
            <a:ext cx="7759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Quarterly work group meeting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Presentations (success stories, regulations, green business)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Roundtable discussion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Guide to Developing and Implementing a FOG Control Program for Food Service Establishments” (found on Cal FOG website)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3D8E-41BD-4374-AC10-C82A450204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Legislative Advocacy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20320" y="1599840"/>
            <a:ext cx="77598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Review and comment on grease-related legislation and related regulation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urrently working on California Department of Food and Agriculture Regulations for the Transporters of Inedible Kitchen Grease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Manifesting system for hauler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Defines approved disposal location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894-BEAB-4CEF-9828-A8C864968E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Additional Work Group Focu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20320" y="1352520"/>
            <a:ext cx="7759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83f99"/>
                </a:solidFill>
                <a:uFillTx/>
                <a:latin typeface="Arial"/>
              </a:rPr>
              <a:t>Code changes – 2006 Uniform Plumbing Code</a:t>
            </a: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International Association of Plumbing and Mechanical Officials (IAPMO)  - voting members of FOG Task Group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Representation at national IAPMO conference for 2006 code chang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Provide educational outreach effort if code changes as anticipated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0B7-3342-436B-85F8-3BB814A221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Work Group Future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California statewide draft SSO permit - requirements include a FOG control program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Regulatory analysi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Additional training workshop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BMPs/kitchen inspection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Program development (ex: how to develop a FOG ordinance or permit)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CAE-4BC6-4CD1-914B-2B52CD18B0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8720" y="609120"/>
            <a:ext cx="7761240" cy="8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Presentation Overview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20320" y="1218960"/>
            <a:ext cx="7759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What is Cal FOG?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Why Cal FOG?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Accomplishment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Legislative advocacy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Additional work group focu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uture areas of interest/involvement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C5AB-5765-46E0-9A41-8742947A18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87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What is the Cal FOG Work Group?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20320" y="1314000"/>
            <a:ext cx="7759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A statewide work group formed in 2001 in response to an </a:t>
            </a: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increased focus on grease-related sanitary sewer overflows (SSOs) 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Formed to utilize collective resources to develop Fats, Oils, and Grease (FOG) control tools and to provide technical support and information to the work group member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A06C-7B8E-481C-B060-E20C87D5D6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What is the Work Group Structure?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Work group formed within Tri-TAC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Statewide regulatory advisory committee representing California municipal wastewater agencie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4259160" y="3233160"/>
            <a:ext cx="210024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  </a:t>
            </a:r>
            <a:r>
              <a:rPr b="0" lang="en-US" sz="61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               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3429000"/>
          <a:ext cx="6172200" cy="32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429000"/>
                    <a:ext cx="6172200" cy="32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26F9-5A3C-47A7-89A2-83083FCC63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Who are the members of Cal FOG?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20320" y="1599840"/>
            <a:ext cx="7759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Wastewater agency representatives – source control, collection system, public work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Regulators – State and EPA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California Restaurant Association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Consultant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246-D0E2-4355-BE86-187749EC8F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Why Cal FOG?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20320" y="1371240"/>
            <a:ext cx="7759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Wastewater agencies banded together to form a unified front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Regulation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tatewide regulation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Proposed legislation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California Restaurant Association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Research and technology information sharing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Study result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New equipment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Outreach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Statewide outreach material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Materials exchange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50A-3D7C-49E4-A8AD-994978D072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647640" y="1600200"/>
            <a:ext cx="3743280" cy="5257800"/>
            <a:chOff x="647640" y="1600200"/>
            <a:chExt cx="3743280" cy="5257800"/>
          </a:xfrm>
        </p:grpSpPr>
        <p:sp>
          <p:nvSpPr>
            <p:cNvPr id="98" name=""/>
            <p:cNvSpPr/>
            <p:nvPr/>
          </p:nvSpPr>
          <p:spPr>
            <a:xfrm>
              <a:off x="647640" y="1600200"/>
              <a:ext cx="3743280" cy="8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3f99"/>
                  </a:solidFill>
                  <a:latin typeface="Arial"/>
                </a:rPr>
                <a:t>Grease Interceptor Inspector Training Worksh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7640" y="3906720"/>
              <a:ext cx="374328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183f99"/>
                  </a:solidFill>
                  <a:uFillTx/>
                  <a:latin typeface="Arial"/>
                </a:rPr>
                <a:t>Sponsored b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3f99"/>
                  </a:solidFill>
                  <a:latin typeface="Arial"/>
                </a:rPr>
                <a:t>Cal FO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3f99"/>
                  </a:solidFill>
                  <a:latin typeface="Arial"/>
                </a:rPr>
                <a:t>(A special workgroup of Tri-TA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647640" y="2478240"/>
              <a:ext cx="3743280" cy="1428120"/>
              <a:chOff x="647640" y="2478240"/>
              <a:chExt cx="3743280" cy="142812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1226160" y="2478240"/>
                <a:ext cx="2639160" cy="1206720"/>
                <a:chOff x="1226160" y="2478240"/>
                <a:chExt cx="2639160" cy="12067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226160" y="2478240"/>
                  <a:ext cx="2639160" cy="1206720"/>
                </a:xfrm>
                <a:prstGeom prst="rect">
                  <a:avLst/>
                </a:prstGeom>
                <a:solidFill>
                  <a:srgbClr val="ffffff"/>
                </a:solidFill>
                <a:ln w="507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358280" y="2564640"/>
                  <a:ext cx="2374920" cy="101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84960" y="3088080"/>
                <a:ext cx="705960" cy="818280"/>
              </a:xfrm>
              <a:prstGeom prst="rect">
                <a:avLst/>
              </a:prstGeom>
              <a:ln w="50760">
                <a:solidFill>
                  <a:srgbClr val="ffff99"/>
                </a:solidFill>
                <a:miter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4"/>
              <a:srcRect l="22684" t="5082" r="11276" b="0"/>
              <a:stretch/>
            </p:blipFill>
            <p:spPr>
              <a:xfrm>
                <a:off x="647640" y="3245040"/>
                <a:ext cx="705960" cy="661320"/>
              </a:xfrm>
              <a:prstGeom prst="rect">
                <a:avLst/>
              </a:prstGeom>
              <a:ln w="50760">
                <a:solidFill>
                  <a:srgbClr val="ffff99"/>
                </a:solidFill>
                <a:miter/>
              </a:ln>
            </p:spPr>
          </p:pic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Work Group Accomplishments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6720" y="1371600"/>
            <a:ext cx="38037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83f99"/>
                </a:solidFill>
                <a:uFillTx/>
                <a:latin typeface="Arial"/>
              </a:rPr>
              <a:t>Grease interceptor inspector training workshop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ix workshops throughout state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ield (hands on) and classroom training on grease interceptor inspection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3f99"/>
                </a:solidFill>
                <a:latin typeface="Arial"/>
              </a:rPr>
              <a:t>Grease interceptor inspection (Core sampling)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3f99"/>
                </a:solidFill>
                <a:latin typeface="Arial"/>
              </a:rPr>
              <a:t>Grease interceptor pump out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Proposal to continue workshops at a statewide level 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3080" y="1371600"/>
            <a:ext cx="4228920" cy="0"/>
          </a:xfrm>
          <a:prstGeom prst="line">
            <a:avLst/>
          </a:prstGeom>
          <a:ln w="12600">
            <a:solidFill>
              <a:srgbClr val="183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371600"/>
            <a:ext cx="0" cy="4971960"/>
          </a:xfrm>
          <a:prstGeom prst="line">
            <a:avLst/>
          </a:prstGeom>
          <a:ln w="12600">
            <a:solidFill>
              <a:srgbClr val="183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3080" y="1371600"/>
            <a:ext cx="56880" cy="4971960"/>
          </a:xfrm>
          <a:prstGeom prst="line">
            <a:avLst/>
          </a:prstGeom>
          <a:ln w="12600">
            <a:solidFill>
              <a:srgbClr val="183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2280" y="6343560"/>
            <a:ext cx="4149720" cy="0"/>
          </a:xfrm>
          <a:prstGeom prst="line">
            <a:avLst/>
          </a:prstGeom>
          <a:ln w="12600">
            <a:solidFill>
              <a:srgbClr val="183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4F8E-BFBC-41FA-9DF7-32BDDEA7E6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6012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Work Group Accomplishments (cont.)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9240" y="1352520"/>
            <a:ext cx="4344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tatewide Best Management Practices poster for commercial food service establishment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Translated into Chinese, Spanish, Korean and Vietnames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76720" y="1752480"/>
            <a:ext cx="380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430960" y="1352520"/>
            <a:ext cx="3281400" cy="5270400"/>
          </a:xfrm>
          <a:prstGeom prst="rect">
            <a:avLst/>
          </a:prstGeom>
          <a:ln w="19080">
            <a:solidFill>
              <a:srgbClr val="183f99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B2B-45CE-4376-99CE-CF9E28857F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374840" y="1257480"/>
            <a:ext cx="628632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1374840" y="1677960"/>
          <a:ext cx="9874080" cy="1768680"/>
        </p:xfrm>
        <a:graphic>
          <a:graphicData uri="http://schemas.openxmlformats.org/drawingml/2006/table">
            <a:tbl>
              <a:tblPr/>
              <a:tblGrid>
                <a:gridCol w="6321240"/>
                <a:gridCol w="355284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br>
                        <a:rPr sz="16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eeping Your Sewers Safe From Fats, Oils, and G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1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        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374840" y="1652760"/>
            <a:ext cx="6319800" cy="8492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514440"/>
            <a:ext cx="96012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Work Group Accomplishments (cont.)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12840" y="4140360"/>
            <a:ext cx="897408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Cal FOG website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alFOG.org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Clearing house for FOG program information throughout the state, ordinances, legislative updates, outreach, etc.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pic>
        <p:nvPicPr>
          <p:cNvPr id="121" name="" descr="CalFO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48680" y="1897200"/>
            <a:ext cx="816120" cy="85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7E7-09D2-4CFA-BDA1-3EF4A53309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19:57:55Z</dcterms:created>
  <dc:creator>Mary Orr</dc:creator>
  <dc:description/>
  <dc:language>en-US</dc:language>
  <cp:lastModifiedBy>Trish Maguire</cp:lastModifiedBy>
  <cp:lastPrinted>2002-01-07T18:21:09Z</cp:lastPrinted>
  <dcterms:modified xsi:type="dcterms:W3CDTF">2005-11-15T21:30:59Z</dcterms:modified>
  <cp:revision>174</cp:revision>
  <dc:subject/>
  <dc:title>EBMUD PowerPoint Template 11- 01</dc:title>
</cp:coreProperties>
</file>