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F3F2-2045-494D-B8FB-14B2E298F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name is Martie Groome.  I supervise the City of Greensboro Laboratory and Industrial Waste Section.  I am also the compliance officer for Greensboro’s two NPDES permits.  Greensboro is a city of about 220,000 located in the center of North Carolina.  We have two POTWs with a combined design capacity of 56 MGD and we currently have 36 SIUs.  I have been with the City of Greensboro for almost 30 years and have supervised the Industrial Waste Program for 27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been in one place dealing with the same folks for that many years you are bound to need some “innovative” or “creative” enforcement tools along the w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tic fed large air scrubber system for chemical blending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luent pH meter had been malfunctioning for last 3 weeks.  pH meter would peg out at 13 or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H of 9.6 tha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84.5/39.6/11.30/4.72/3.07 = 28.64 mg/l  [WA limit = 33.0]   MA = 10.95  [MA limit = 2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 98.0/47.6/18.7/9.40/8.60  WA=36.46 [WA limit = 45.0] MA = 15.03 [MA limit = 3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N 15.4/6.68/6.99/1.31/0.14       MA=1.34     [MA limit=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cal 91,800 that Frida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during an enforcement action for a serious violation, we must keep in mind that after the dust settles we still have to maintain a good working relationship with that industry and that environmental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a sign in my office that I try to live by…..TAKE CARE:  The toes that you step on today may be connected to the fanny you have to kiss tomorrow…..A city in NC  hired an engineer from one of their SIUs to be the Water Resources Dire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know of a large industry in another state who is located in a rather large city… and let’s just say there was some friction between the POTW and the SIU environmental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and behold, the industry created an Environmental Manager position and guess who got the job….YEP the powers that be hired the City PT coordinator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al of the story: Be nice to your professional PT Coordinator….Your company or city may hire them and make them your bo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don’t misunderstand me.  It can’t always be Southern Hospitality day in Pretreatment Land. My favorite movie line is  from the film “Roadhouse” with Patrick Swayze….”Be  nice….Be nice..until it’s time to </a:t>
            </a:r>
            <a:r>
              <a:rPr b="0" lang="en-US" sz="1000" spc="-1" strike="noStrike" u="sng">
                <a:solidFill>
                  <a:srgbClr val="000000"/>
                </a:solidFill>
                <a:uFillTx/>
                <a:latin typeface="Arial"/>
              </a:rPr>
              <a:t>not</a:t>
            </a:r>
            <a:r>
              <a:rPr b="0" lang="en-US" sz="1000" spc="-1" strike="noStrike">
                <a:solidFill>
                  <a:srgbClr val="000000"/>
                </a:solidFill>
                <a:latin typeface="Arial"/>
              </a:rPr>
              <a:t> be nice..”  Y’all are good  PT Coordinators.  You’ll  know when the time’s c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fair…Don’t make it  a personal vendetta…Be professional…and when the circumstances call for it… be innova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required some training as part of enforcement actions, just as I’m sure many of you have done.  These actions are usually required when non-compliance is a result of employees not being aware of the permit and/or SUO conditions, particularly in relation to spill control or process change notification.  The training would include signature documentation of all employees that attended each s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past in Greensboro this “enforcement” training has inclu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the signatory official of the SIU conduct the training for all employees.  The Greensboro Industrial Waste Section would review and approve the training materials prior to the date of the training session.  I have even attended some of these sessions.  Since the signatory official is often an officer in the company, this ensures that THEY are knowledgeable of the regulations and requirements and by having the signatory official conduct the session, the other employees realize the importance of compliance with the requir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a North Carolina Pretreatment Coordinators organization and this not for profit corporation has held training sessions on various topics.  Greensboro has required several SIUs to attend these sessions as part of an enforcement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n last but not least is a mandatory training session for all employees that was taught by </a:t>
            </a:r>
            <a:r>
              <a:rPr b="0" lang="en-US" sz="1000" spc="-1" strike="noStrike" u="sng">
                <a:solidFill>
                  <a:srgbClr val="000000"/>
                </a:solidFill>
                <a:uFillTx/>
                <a:latin typeface="Arial"/>
              </a:rPr>
              <a:t>me</a:t>
            </a:r>
            <a:r>
              <a:rPr b="0" lang="en-US" sz="1000" spc="-1" strike="noStrike">
                <a:solidFill>
                  <a:srgbClr val="000000"/>
                </a:solidFill>
                <a:latin typeface="Arial"/>
              </a:rPr>
              <a:t>…This type of enforcement meeting is often </a:t>
            </a:r>
            <a:r>
              <a:rPr b="0" i="1" lang="en-US" sz="1000" spc="-1" strike="noStrike">
                <a:solidFill>
                  <a:srgbClr val="000000"/>
                </a:solidFill>
                <a:latin typeface="Arial"/>
              </a:rPr>
              <a:t>affectionately</a:t>
            </a:r>
            <a:r>
              <a:rPr b="0" lang="en-US" sz="1000" spc="-1" strike="noStrike">
                <a:solidFill>
                  <a:srgbClr val="000000"/>
                </a:solidFill>
                <a:latin typeface="Arial"/>
              </a:rPr>
              <a:t> known by my SIUs as a CTJM…..“come to Jesus meet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AF6DF-236D-48A9-857E-6858CF63D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A3314-E00E-49B8-AC2B-59A465D70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E7F5A-1651-436D-B2ED-8F94B7308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9DB7D-2A58-49C2-934A-50E38DE8D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E7FD2-940B-44C7-B65D-F750D2FD1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BC241-40FF-4684-A3B9-C94A5967F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85260-CE6A-44D8-B36B-6FBDA23AC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69226-7B1F-486E-988D-F71E571D4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B0BE7-74C4-460C-8B02-A92451770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D5B1A-DC0A-4C5B-8DFE-C848CC49D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92FC3-94DA-49C3-A4DA-0C3DB9F59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FF48-704F-4E37-ADD5-FAC8E8DBD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F9100-5EB5-4016-B3DC-B799D1C55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29DA8-9386-403C-A5E7-27E3C4B16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0E8EF-A4E7-4D13-8FAC-A5AF87C87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3064C-0B32-4DF6-B20C-2CC40E887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62F4C-3379-477D-B001-0139C8E15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56DA-EF64-416F-8F50-4881E3E9F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C569A-4539-406E-B414-7BB970818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9B26-A3E4-4D2E-A06A-A0C183AF4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2DFA0-C8E6-4333-AAF2-1A104A4BB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ED86-0E2C-416E-AC55-978706BF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DD3C-6BF0-4521-BFB6-A86B0691A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9EFC-AE31-42DA-AC10-59DDEE226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73D0-CBF1-46EC-ACF7-4E27C8EA736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C7A2-42DA-4540-9B8F-B31956EA00E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NOVATIVE ENFORCEMENT ALTERNATIVES</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tie Groom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y of Greensboro, N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A CASE STUDY</a:t>
            </a:r>
            <a:endParaRPr b="0" lang="en-US" sz="3800" spc="-1" strike="noStrike">
              <a:solidFill>
                <a:srgbClr val="000000"/>
              </a:solidFill>
              <a:latin typeface="Verdana"/>
            </a:endParaRPr>
          </a:p>
        </p:txBody>
      </p:sp>
      <p:sp>
        <p:nvSpPr>
          <p:cNvPr id="117"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rbal Cease and Desist Order Issued</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ut Down until cause identified (3 day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0,000 gallons of 50% NaOH to sewe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rphy’s Law at its finest…</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H meter malfunction for previous 2-3 wk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ssumptions” by operations staff</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aOH into POTW via air scrubber tower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ank/valve did not fail</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trol system failure</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A CASE STUDY</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ny President sent SIU technical staff to POTW to work for 3-4 day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ffluent titrations every 15 minutes X 3 days for neutralization operation</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nkers of H</a:t>
            </a:r>
            <a:r>
              <a:rPr b="0" lang="en-US" sz="2100" spc="-1" strike="noStrike" baseline="-25000">
                <a:solidFill>
                  <a:srgbClr val="000000"/>
                </a:solidFill>
                <a:latin typeface="Verdana"/>
              </a:rPr>
              <a:t>2</a:t>
            </a:r>
            <a:r>
              <a:rPr b="0" lang="en-US" sz="2100" spc="-1" strike="noStrike">
                <a:solidFill>
                  <a:srgbClr val="000000"/>
                </a:solidFill>
                <a:latin typeface="Verdana"/>
              </a:rPr>
              <a:t>SO</a:t>
            </a:r>
            <a:r>
              <a:rPr b="0" lang="en-US" sz="2100" spc="-1" strike="noStrike" baseline="-25000">
                <a:solidFill>
                  <a:srgbClr val="000000"/>
                </a:solidFill>
                <a:latin typeface="Verdana"/>
              </a:rPr>
              <a:t>4</a:t>
            </a:r>
            <a:r>
              <a:rPr b="0" lang="en-US" sz="2100" spc="-1" strike="noStrike">
                <a:solidFill>
                  <a:srgbClr val="000000"/>
                </a:solidFill>
                <a:latin typeface="Verdana"/>
              </a:rPr>
              <a:t> from another IU</a:t>
            </a:r>
            <a:endParaRPr b="0" lang="en-US" sz="21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tal kill of biomas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sh kill for 3 miles downstream…due to low D.O. NOT pH…</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stigated polymer addition for loss of biosolids to efflu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HAPPENED AT POTW?</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1 pH violation for that Friday</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4 Hour Retention Time at POTW</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MG EQ Tank used to divert part of slug</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utralization of rest of POTW effluent</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other violation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soon as “slug” passed through POTW, we began “reseeding” from waste activated sludge pipeline connected to other Greensboro POTW</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 Monthly and weekly average limits for BOD, TSS and ammonia nitrog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Y AN ENFORCEMENT CONSENT AGREEMENT?</a:t>
            </a:r>
            <a:endParaRPr b="0" lang="en-US" sz="3400" spc="-1" strike="noStrike">
              <a:solidFill>
                <a:srgbClr val="000000"/>
              </a:solidFill>
              <a:latin typeface="Verdana"/>
            </a:endParaRPr>
          </a:p>
        </p:txBody>
      </p:sp>
      <p:sp>
        <p:nvSpPr>
          <p:cNvPr id="123" name="PlaceHolder 2"/>
          <p:cNvSpPr>
            <a:spLocks noGrp="1"/>
          </p:cNvSpPr>
          <p:nvPr>
            <p:ph/>
          </p:nvPr>
        </p:nvSpPr>
        <p:spPr>
          <a:xfrm>
            <a:off x="304920" y="1752120"/>
            <a:ext cx="8534160" cy="44960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ertain Facts Not Usually Included in an NOV Needed to be Documented</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Ultimate</a:t>
            </a:r>
            <a:r>
              <a:rPr b="0" lang="en-US" sz="2600" spc="-1" strike="noStrike">
                <a:solidFill>
                  <a:srgbClr val="000000"/>
                </a:solidFill>
                <a:latin typeface="Verdana"/>
              </a:rPr>
              <a:t> in cooperation by SIU</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U Shut Down cost SIU ~$400,000</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rphy’s Law</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Vs/$21,514</a:t>
            </a:r>
            <a:r>
              <a:rPr b="0" lang="en-US" sz="2600" spc="-1" strike="noStrike">
                <a:solidFill>
                  <a:srgbClr val="cc0000"/>
                </a:solidFill>
                <a:latin typeface="Verdana"/>
              </a:rPr>
              <a:t> </a:t>
            </a:r>
            <a:r>
              <a:rPr b="0" lang="en-US" sz="2600" spc="-1" strike="noStrike">
                <a:solidFill>
                  <a:srgbClr val="000000"/>
                </a:solidFill>
                <a:latin typeface="Verdana"/>
              </a:rPr>
              <a:t>Civil Penalty in document</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PJ Decision by PT Staff</a:t>
            </a: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e did NOT issue civil penalty to COG</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sh replacement costs only [paid by SIU]</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NFORCEMENT CONSENT AGREEMENT</a:t>
            </a:r>
            <a:endParaRPr b="0" lang="en-US" sz="3800" spc="-1" strike="noStrike">
              <a:solidFill>
                <a:srgbClr val="000000"/>
              </a:solidFill>
              <a:latin typeface="Verdana"/>
            </a:endParaRPr>
          </a:p>
        </p:txBody>
      </p:sp>
      <p:sp>
        <p:nvSpPr>
          <p:cNvPr id="125"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ve used it 3 other times </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for large Civil Penaltie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icable, quick technical settlement</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cc0000"/>
                </a:solidFill>
                <a:uFillTx/>
                <a:latin typeface="Verdana"/>
              </a:rPr>
              <a:t>No lawyers!   </a:t>
            </a:r>
            <a:endParaRPr b="0" lang="en-US" sz="23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ied to use it another time but SIU corporate headquarters lawyers insisted on being involved, so I rescinded offer….</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ny later regretted decision</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EN IN ENFORCEMENT….</a:t>
            </a:r>
            <a:endParaRPr b="0" lang="en-US" sz="4000" spc="-1" strike="noStrike">
              <a:solidFill>
                <a:srgbClr val="000000"/>
              </a:solidFill>
              <a:latin typeface="Verdana"/>
            </a:endParaRPr>
          </a:p>
        </p:txBody>
      </p:sp>
      <p:sp>
        <p:nvSpPr>
          <p:cNvPr id="127" name="PlaceHolder 2"/>
          <p:cNvSpPr>
            <a:spLocks noGrp="1"/>
          </p:cNvSpPr>
          <p:nvPr>
            <p:ph/>
          </p:nvPr>
        </p:nvSpPr>
        <p:spPr>
          <a:xfrm>
            <a:off x="566280" y="1752480"/>
            <a:ext cx="4614840" cy="4267440"/>
          </a:xfrm>
          <a:prstGeom prst="rect">
            <a:avLst/>
          </a:prstGeom>
          <a:noFill/>
          <a:ln w="0">
            <a:noFill/>
          </a:ln>
        </p:spPr>
        <p:txBody>
          <a:bodyPr lIns="90000" rIns="90000" tIns="46800" bIns="46800" anchor="t">
            <a:normAutofit/>
          </a:bodyPr>
          <a:p>
            <a:pPr marL="469800" indent="-469800">
              <a:spcBef>
                <a:spcPts val="11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Remember: “The Toes”</a:t>
            </a:r>
            <a:endParaRPr b="0" lang="en-US" sz="4800" spc="-1" strike="noStrike">
              <a:solidFill>
                <a:srgbClr val="000000"/>
              </a:solidFill>
              <a:latin typeface="Verdana"/>
            </a:endParaRPr>
          </a:p>
        </p:txBody>
      </p:sp>
      <p:pic>
        <p:nvPicPr>
          <p:cNvPr id="128" name="" descr=""/>
          <p:cNvPicPr/>
          <p:nvPr/>
        </p:nvPicPr>
        <p:blipFill>
          <a:blip r:embed="rId2"/>
          <a:stretch/>
        </p:blipFill>
        <p:spPr>
          <a:xfrm>
            <a:off x="4838760" y="2890800"/>
            <a:ext cx="3924360" cy="27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ve </a:t>
            </a:r>
            <a:br>
              <a:rPr sz="3400"/>
            </a:br>
            <a:r>
              <a:rPr b="0" lang="en-US" sz="3400" spc="-1" strike="noStrike">
                <a:solidFill>
                  <a:srgbClr val="000000"/>
                </a:solidFill>
                <a:latin typeface="Verdana"/>
              </a:rPr>
              <a:t>Enforcement Actions</a:t>
            </a:r>
            <a:endParaRPr b="0" lang="en-US" sz="3400" spc="-1" strike="noStrike">
              <a:solidFill>
                <a:srgbClr val="000000"/>
              </a:solidFill>
              <a:latin typeface="Verdana"/>
            </a:endParaRPr>
          </a:p>
        </p:txBody>
      </p:sp>
      <p:sp>
        <p:nvSpPr>
          <p:cNvPr id="95" name="PlaceHolder 2"/>
          <p:cNvSpPr>
            <a:spLocks noGrp="1"/>
          </p:cNvSpPr>
          <p:nvPr>
            <p:ph/>
          </p:nvPr>
        </p:nvSpPr>
        <p:spPr>
          <a:xfrm>
            <a:off x="609480" y="1981080"/>
            <a:ext cx="8196480" cy="4267440"/>
          </a:xfrm>
          <a:prstGeom prst="rect">
            <a:avLst/>
          </a:prstGeom>
          <a:noFill/>
          <a:ln w="0">
            <a:noFill/>
          </a:ln>
        </p:spPr>
        <p:txBody>
          <a:bodyPr lIns="90000" rIns="90000" tIns="46800" bIns="46800" anchor="t">
            <a:normAutofit/>
          </a:bodyPr>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d PT Training Conducted             by SIU Signatory Official for all Employees</a:t>
            </a:r>
            <a:endParaRPr b="0" lang="en-US" sz="3000" spc="-1" strike="noStrike">
              <a:solidFill>
                <a:srgbClr val="000000"/>
              </a:solidFill>
              <a:latin typeface="Verdana"/>
            </a:endParaRPr>
          </a:p>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d Attendance By SIU Officials at Training Seminars</a:t>
            </a:r>
            <a:endParaRPr b="0" lang="en-US" sz="3000" spc="-1" strike="noStrike">
              <a:solidFill>
                <a:srgbClr val="000000"/>
              </a:solidFill>
              <a:latin typeface="Verdana"/>
            </a:endParaRPr>
          </a:p>
          <a:p>
            <a:pPr lvl="1" marL="907920" indent="-43632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C Pretreatment Consortium Industrial User Training Workshops </a:t>
            </a:r>
            <a:endParaRPr b="0" lang="en-US" sz="2800" spc="-1" strike="noStrike">
              <a:solidFill>
                <a:srgbClr val="000000"/>
              </a:solidFill>
              <a:latin typeface="Verdana"/>
            </a:endParaRPr>
          </a:p>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d Attendance at Seminar/ Lecture/CTJM by Greensboro Industrial Waste Section!</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7318440" y="152280"/>
            <a:ext cx="1596960" cy="2819520"/>
          </a:xfrm>
          <a:prstGeom prst="rect">
            <a:avLst/>
          </a:prstGeom>
          <a:ln w="0">
            <a:noFill/>
          </a:ln>
        </p:spPr>
      </p:pic>
      <p:sp>
        <p:nvSpPr>
          <p:cNvPr id="97" name=""/>
          <p:cNvSpPr/>
          <p:nvPr/>
        </p:nvSpPr>
        <p:spPr>
          <a:xfrm>
            <a:off x="7543800" y="533520"/>
            <a:ext cx="1143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TJ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novative </a:t>
            </a:r>
            <a:br>
              <a:rPr sz="3800"/>
            </a:br>
            <a:r>
              <a:rPr b="0" lang="en-US" sz="3800" spc="-1" strike="noStrike">
                <a:solidFill>
                  <a:srgbClr val="000000"/>
                </a:solidFill>
                <a:latin typeface="Verdana"/>
              </a:rPr>
              <a:t>Civil Penalties</a:t>
            </a:r>
            <a:endParaRPr b="0" lang="en-US" sz="3800" spc="-1" strike="noStrike">
              <a:solidFill>
                <a:srgbClr val="000000"/>
              </a:solidFill>
              <a:latin typeface="Verdana"/>
            </a:endParaRPr>
          </a:p>
        </p:txBody>
      </p:sp>
      <p:sp>
        <p:nvSpPr>
          <p:cNvPr id="99" name="PlaceHolder 2"/>
          <p:cNvSpPr>
            <a:spLocks noGrp="1"/>
          </p:cNvSpPr>
          <p:nvPr>
            <p:ph/>
          </p:nvPr>
        </p:nvSpPr>
        <p:spPr>
          <a:xfrm>
            <a:off x="566280" y="1904760"/>
            <a:ext cx="7967880" cy="4267080"/>
          </a:xfrm>
          <a:prstGeom prst="rect">
            <a:avLst/>
          </a:prstGeom>
          <a:noFill/>
          <a:ln w="0">
            <a:noFill/>
          </a:ln>
        </p:spPr>
        <p:txBody>
          <a:bodyPr lIns="90000" rIns="90000" tIns="46800" bIns="46800" anchor="t">
            <a:normAutofit/>
          </a:bodyPr>
          <a:p>
            <a:pPr marL="469800" indent="-469800">
              <a:lnSpc>
                <a:spcPct val="90000"/>
              </a:lnSpc>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ercentage of Civil Penalties Held in Abeyance and Returned </a:t>
            </a:r>
            <a:r>
              <a:rPr b="0" i="1" lang="en-US" sz="3400" spc="-1" strike="noStrike" u="sng">
                <a:solidFill>
                  <a:srgbClr val="000000"/>
                </a:solidFill>
                <a:uFillTx/>
                <a:latin typeface="Verdana"/>
              </a:rPr>
              <a:t>IF</a:t>
            </a:r>
            <a:r>
              <a:rPr b="0" lang="en-US" sz="3400" spc="-1" strike="noStrike">
                <a:solidFill>
                  <a:srgbClr val="000000"/>
                </a:solidFill>
                <a:latin typeface="Verdana"/>
              </a:rPr>
              <a:t>:</a:t>
            </a:r>
            <a:endParaRPr b="0" lang="en-US" sz="3400" spc="-1" strike="noStrike">
              <a:solidFill>
                <a:srgbClr val="000000"/>
              </a:solidFill>
              <a:latin typeface="Verdana"/>
            </a:endParaRPr>
          </a:p>
          <a:p>
            <a:pPr lvl="1" marL="907920" indent="-436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for Additional PT/PP Processes/Equipment</a:t>
            </a:r>
            <a:endParaRPr b="0" lang="en-US" sz="3000" spc="-1" strike="noStrike">
              <a:solidFill>
                <a:srgbClr val="000000"/>
              </a:solidFill>
              <a:latin typeface="Verdana"/>
            </a:endParaRPr>
          </a:p>
          <a:p>
            <a:pPr lvl="1" marL="907920" indent="-436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for Installation of Permanent Sampling and Monitoring Equipment </a:t>
            </a:r>
            <a:endParaRPr b="0" lang="en-US" sz="3000" spc="-1" strike="noStrike">
              <a:solidFill>
                <a:srgbClr val="000000"/>
              </a:solidFill>
              <a:latin typeface="Verdana"/>
            </a:endParaRPr>
          </a:p>
          <a:p>
            <a:pPr lvl="1" marL="907920" indent="-436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Verdana"/>
              </a:rPr>
              <a:t>AND</a:t>
            </a:r>
            <a:r>
              <a:rPr b="0" lang="en-US" sz="3000" spc="-1" strike="noStrike">
                <a:solidFill>
                  <a:srgbClr val="000000"/>
                </a:solidFill>
                <a:latin typeface="Verdana"/>
              </a:rPr>
              <a:t> Activities completed within required time frame</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0" name="" descr=""/>
          <p:cNvPicPr/>
          <p:nvPr/>
        </p:nvPicPr>
        <p:blipFill>
          <a:blip r:embed="rId2"/>
          <a:stretch/>
        </p:blipFill>
        <p:spPr>
          <a:xfrm>
            <a:off x="6477120" y="304920"/>
            <a:ext cx="2166840" cy="153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ENFORCEMENT              CONSENT AGREEMENT</a:t>
            </a:r>
            <a:endParaRPr b="0" lang="en-US" sz="4200" spc="-1" strike="noStrike">
              <a:solidFill>
                <a:srgbClr val="000000"/>
              </a:solidFill>
              <a:latin typeface="Verdana"/>
            </a:endParaRPr>
          </a:p>
        </p:txBody>
      </p:sp>
      <p:sp>
        <p:nvSpPr>
          <p:cNvPr id="102" name="PlaceHolder 2"/>
          <p:cNvSpPr>
            <a:spLocks noGrp="1"/>
          </p:cNvSpPr>
          <p:nvPr>
            <p:ph/>
          </p:nvPr>
        </p:nvSpPr>
        <p:spPr>
          <a:xfrm>
            <a:off x="566640" y="1752120"/>
            <a:ext cx="8120160" cy="43434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reement Between POTW and SIU Concerning Enforcement Actions for SIU Permit/SUO Violation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urpos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th parties agree to “keep the lawyers out” of the enforcement process</a:t>
            </a:r>
            <a:endParaRPr b="0" lang="en-US" sz="2600" spc="-1" strike="noStrike">
              <a:solidFill>
                <a:srgbClr val="000000"/>
              </a:solidFill>
              <a:latin typeface="Verdana"/>
            </a:endParaRPr>
          </a:p>
          <a:p>
            <a:pPr lvl="2" marL="1305000" indent="-395280">
              <a:lnSpc>
                <a:spcPct val="90000"/>
              </a:lnSpc>
              <a:spcBef>
                <a:spcPts val="6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conomical and amicable settlement</a:t>
            </a:r>
            <a:endParaRPr b="0" lang="en-US" sz="25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imely/Streamlined enforcement action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c Document that includes all aspects of the situation, both bad </a:t>
            </a:r>
            <a:r>
              <a:rPr b="0" i="1" lang="en-US" sz="2600" spc="-1" strike="noStrike">
                <a:solidFill>
                  <a:srgbClr val="000000"/>
                </a:solidFill>
                <a:latin typeface="Verdana"/>
              </a:rPr>
              <a:t>and good</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03" name="" descr=""/>
          <p:cNvPicPr/>
          <p:nvPr/>
        </p:nvPicPr>
        <p:blipFill>
          <a:blip r:embed="rId2"/>
          <a:stretch/>
        </p:blipFill>
        <p:spPr>
          <a:xfrm>
            <a:off x="7081920" y="152280"/>
            <a:ext cx="152856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ENFORCEMENT              CONSENT AGREEMENT</a:t>
            </a:r>
            <a:endParaRPr b="0" lang="en-US" sz="4200" spc="-1" strike="noStrike">
              <a:solidFill>
                <a:srgbClr val="000000"/>
              </a:solidFill>
              <a:latin typeface="Verdana"/>
            </a:endParaRPr>
          </a:p>
        </p:txBody>
      </p:sp>
      <p:sp>
        <p:nvSpPr>
          <p:cNvPr id="105"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is NOT an A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rictly an enforcement tool implemented after the fact, not to bring SIU back into complianc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al circumstances involv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 for run-of-the-mill violations</a:t>
            </a: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negotiation between POTW/SIU</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statements will be included in documen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06" name="" descr=""/>
          <p:cNvPicPr/>
          <p:nvPr/>
        </p:nvPicPr>
        <p:blipFill>
          <a:blip r:embed="rId2"/>
          <a:stretch/>
        </p:blipFill>
        <p:spPr>
          <a:xfrm>
            <a:off x="5943600" y="76320"/>
            <a:ext cx="2914560" cy="212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ENFORCEMENT CONSENT AGREEMENT CONTENTS</a:t>
            </a:r>
            <a:endParaRPr b="0" lang="en-US" sz="4200" spc="-1" strike="noStrike">
              <a:solidFill>
                <a:srgbClr val="000000"/>
              </a:solidFill>
              <a:latin typeface="Verdana"/>
            </a:endParaRPr>
          </a:p>
        </p:txBody>
      </p:sp>
      <p:sp>
        <p:nvSpPr>
          <p:cNvPr id="108"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ipulated Fact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ipulated Violation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al Circumstance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ivil Penalties</a:t>
            </a:r>
            <a:endParaRPr b="0" lang="en-US" sz="30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lculation of Maximum Potential $$$</a:t>
            </a:r>
            <a:endParaRPr b="0" lang="en-US" sz="26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lculation of Actual Civil Penalty Issued</a:t>
            </a:r>
            <a:endParaRPr b="0" lang="en-US" sz="26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rective to Pay Civil Penalty</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nal Settlement of Issue</a:t>
            </a:r>
            <a:endParaRPr b="0" lang="en-US" sz="3000" spc="-1" strike="noStrike">
              <a:solidFill>
                <a:srgbClr val="000000"/>
              </a:solidFill>
              <a:latin typeface="Verdana"/>
            </a:endParaRPr>
          </a:p>
        </p:txBody>
      </p:sp>
      <p:pic>
        <p:nvPicPr>
          <p:cNvPr id="109" name="" descr=""/>
          <p:cNvPicPr/>
          <p:nvPr/>
        </p:nvPicPr>
        <p:blipFill>
          <a:blip r:embed="rId2"/>
          <a:stretch/>
        </p:blipFill>
        <p:spPr>
          <a:xfrm>
            <a:off x="6659640" y="1752480"/>
            <a:ext cx="1663560" cy="207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ENFORCEMENT CONSENT AGREEMENT</a:t>
            </a:r>
            <a:endParaRPr b="0" lang="en-US" sz="42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eeps a “technical” issue out of the  “legal” realm [abys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motes future relationship with SI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s good relationship (trust) prior to inciden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T Program continuity important</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s “BPJ” enforcement decision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FORCEMENT CONSENT AGREEMENT</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The agreements, statements, stipulations, findings and actions taken herein are made for the purpose of settling this enforcement matter economically and amicably and they shall not be used for any other purpose, except for any proceedings to enforce the provisions of this enforcement consent agreem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A CASE STUDY</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7967880" cy="4267440"/>
          </a:xfrm>
          <a:prstGeom prst="rect">
            <a:avLst/>
          </a:prstGeom>
          <a:noFill/>
          <a:ln w="0">
            <a:noFill/>
          </a:ln>
        </p:spPr>
        <p:txBody>
          <a:bodyPr lIns="90000" rIns="90000" tIns="46800" bIns="46800" anchor="t">
            <a:normAutofit/>
          </a:bodyPr>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iday, March 27, 1992 [it had to be a Friday, of cours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TW Influent pH = 13.0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T staff traced problem through collection system trunkline monitoring</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ced to chemical blending company</a:t>
            </a:r>
            <a:endParaRPr b="0" lang="en-US" sz="2600" spc="-1" strike="noStrike">
              <a:solidFill>
                <a:srgbClr val="000000"/>
              </a:solidFill>
              <a:latin typeface="Verdana"/>
            </a:endParaRPr>
          </a:p>
          <a:p>
            <a:pPr lvl="2" marL="1305000" indent="-395280">
              <a:spcBef>
                <a:spcPts val="6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ventory engineer near collapse!</a:t>
            </a:r>
            <a:endParaRPr b="0" lang="en-US" sz="2500" spc="-1" strike="noStrike">
              <a:solidFill>
                <a:srgbClr val="000000"/>
              </a:solidFill>
              <a:latin typeface="Verdana"/>
            </a:endParaRPr>
          </a:p>
          <a:p>
            <a:pPr lvl="2" marL="1305000" indent="-395280">
              <a:spcBef>
                <a:spcPts val="6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But the tank was full at 5:00 last night…”</a:t>
            </a:r>
            <a:endParaRPr b="0" lang="en-US" sz="25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20:53:18Z</dcterms:created>
  <dc:creator>City of</dc:creator>
  <dc:description/>
  <dc:language>en-US</dc:language>
  <cp:lastModifiedBy>City of</cp:lastModifiedBy>
  <dcterms:modified xsi:type="dcterms:W3CDTF">2005-11-14T17:17:27Z</dcterms:modified>
  <cp:revision>17</cp:revision>
  <dc:subject/>
  <dc:title>CREATIVE ENFORCEMENT ALTERNATIVES</dc:title>
</cp:coreProperties>
</file>