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5C364-5803-4DB8-B47A-91471BA8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DF4D7-0A85-4380-91C0-32D723F6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AD3D0-702E-40A3-A8F0-603F70C1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279E1-EC7E-4469-8F7D-138E8CDB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2CC3-6380-4C86-A4DD-A12E7284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4D77-C36A-44AA-B4EA-EA13AABE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0D30-9B54-4BFF-8D1F-508289B1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F807-9612-401C-8B5E-4CFE96C3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5372-BB69-4ADA-8BEF-8716789A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EAA2-E37C-451A-8F21-FD456AD1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7D6D-3BB4-4C5B-940E-2E848074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7B8AF-4987-4D2F-B523-7CC5A67C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404F-C376-474F-8BDD-EE21A01A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DFCB-A034-4065-B273-16331BB2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B5F6-B81E-48F9-AA07-386AE9CC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CDAF-7E10-4FED-9DC9-7C23575B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C3EE-3653-4753-863C-6676021D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AB26-BABD-4D74-A066-D689A7D9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3BBF-E94B-4EB2-8239-F7A2487F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5DDC4-F2AD-4010-A223-D4C45B59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3D352-C33C-4817-8E32-CDDE601E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2E003-E9A5-4EA1-88B7-21E98525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1764C-E914-4FB0-9F68-DBE3C26B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20F8-6879-4192-B656-A4B09B5E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E477-38E0-4C76-A617-55DA9FB185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4B38-EEB1-4AAA-B58C-7E8ED43B5B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ddunlap@utsa.com" TargetMode="External"/><Relationship Id="rId2" Type="http://schemas.openxmlformats.org/officeDocument/2006/relationships/hyperlink" Target="http://www.utsa.com/" TargetMode="External"/><Relationship Id="rId3" Type="http://schemas.openxmlformats.org/officeDocument/2006/relationships/hyperlink" Target="mailto:blosey@regnet.com" TargetMode="External"/><Relationship Id="rId4" Type="http://schemas.openxmlformats.org/officeDocument/2006/relationships/hyperlink" Target="http://www.aperc.org/" TargetMode="External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NPEs and the Pretreatment Program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46483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avid Dunla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Uniform &amp; Textile Service Assoc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ir. Government &amp; Environmental Affai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2819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2005 Pretreatment &amp; Pollution Prevention Worksh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Kansas City, 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November, 18,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  <a:ea typeface="Times New Roman"/>
              </a:rPr>
              <a:t>State of the Science</a:t>
            </a:r>
            <a:br>
              <a:rPr sz="4000"/>
            </a:br>
            <a:r>
              <a:rPr b="1" lang="en-US" sz="4000" spc="-1" strike="noStrike">
                <a:solidFill>
                  <a:srgbClr val="dfdef6"/>
                </a:solidFill>
                <a:latin typeface="Arial"/>
                <a:ea typeface="Times New Roman"/>
              </a:rPr>
              <a:t>Human Healt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P exhibits weak estrogenic activ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10,000  to 1,000,000 times less potent than human estrog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PEs used in laundry detergents are not estroge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ormones from human waste are the primary source of estrogenic activity in wastewater and the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State of the Science</a:t>
            </a:r>
            <a:br>
              <a:rPr sz="4000"/>
            </a:b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Human Healt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, EU and Canadian Risk Assessments - conclusions concu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ormal exposure to NP and NPE does not pose a significant risk to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uman health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ink between NP exposure and endocrine disruption in hum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State of the Science</a:t>
            </a:r>
            <a:br>
              <a:rPr sz="4000"/>
            </a:b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Aquatic Impact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erous aquatic NP/NPE studies with dozens of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ocrine issue is well underst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 levels for chronic toxicity are lower than those for endocrine related eff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quatic toxicity, not endocrine issues, drive risk assessment 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State of the Science</a:t>
            </a:r>
            <a:br>
              <a:rPr sz="4000"/>
            </a:b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Biodegradat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P is a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in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duct of NPE biodegra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P/NPE are inherently biodegrad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omatic ring breaks down during biodegra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rcRect l="13580" t="7395" r="20835" b="31485"/>
          <a:stretch/>
        </p:blipFill>
        <p:spPr>
          <a:xfrm>
            <a:off x="1676520" y="0"/>
            <a:ext cx="568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State of the Science</a:t>
            </a:r>
            <a:br>
              <a:rPr sz="4000"/>
            </a:b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Bioaccumulat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NP/NPEs are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t considered bioaccumulative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in accordance with established national and international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NP/NPEs are rapidly metabolized and excreted by fish and hum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4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NPEs are not estrogen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4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P is a minor degradation product of NPE -  anaerobic degradation intermedi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4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quatic toxicity of NP not endocrine issues drive risk assessment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4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P/NPEs are not PBT chemic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4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Governmental risk assessments have concluded that environmental exposure to NP/NPEs does not present a risk to hum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3080" y="380880"/>
            <a:ext cx="59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dfdef6"/>
                </a:solidFill>
                <a:latin typeface="Times New Roman"/>
              </a:rPr>
              <a:t>Scientific Summary </a:t>
            </a:r>
            <a:r>
              <a:rPr b="1" lang="en-US" sz="4800" spc="-1" strike="noStrike">
                <a:solidFill>
                  <a:srgbClr val="dfdef6"/>
                </a:solidFill>
                <a:latin typeface="Times New Roman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Arial"/>
              </a:rPr>
              <a:t>What Is The Regulatory Status of NP/NPEs in the US?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4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Proposed EPA </a:t>
            </a:r>
            <a:br>
              <a:rPr sz="4000"/>
            </a:b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Water Quality Criteria for NP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229600" cy="31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onic Freshwater:  5.9 µg/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ute Freshwater:  27.9 µg/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onic Saltwater:  1.4 µg/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ute Saltwater:  6.7 µg/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Aquatic Levels of NP/NPE in the United Stat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 30 Rivers Study (Weeks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 al.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1996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oordination with US EP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 median = 0.1 µg/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tional Reconnaissance Survey (Kolpin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200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nsored by the US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 median = 0.8 µg/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ery few values exceed the WQ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ef6"/>
                </a:solidFill>
                <a:latin typeface="Arial"/>
              </a:rPr>
              <a:t>Today’s Question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are NPs, NPEs and APEs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is the state of NP science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is the regulatory status of NP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should one consider with regard to local NP pretreatment issues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Arial"/>
              </a:rPr>
              <a:t>NP/NPE</a:t>
            </a:r>
            <a:br>
              <a:rPr sz="5400"/>
            </a:br>
            <a:r>
              <a:rPr b="1" lang="en-US" sz="5400" spc="-1" strike="noStrike">
                <a:solidFill>
                  <a:srgbClr val="dfdef6"/>
                </a:solidFill>
                <a:latin typeface="Arial"/>
              </a:rPr>
              <a:t>Pretreatment Considerations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re is a difference between NP and N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 is not the predominant degradation product of N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P/NPE are both effectively (95%) removed  from effluent in well-functioning secondary sewage treatment pl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Pretreatment</a:t>
            </a:r>
            <a:br>
              <a:rPr sz="4400"/>
            </a:b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Know the Fac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A has created a clear bright line with the NP WQ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 aquatic environment is protected by the WQ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04920" y="304920"/>
            <a:ext cx="8534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Pretreatment</a:t>
            </a:r>
            <a:br>
              <a:rPr sz="4400"/>
            </a:b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WQC Establish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jority of POTWs will not have an issue with N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 – weigh relative risk - e.g.  NPEs vs. Pharmaceutic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 - domestic vs. industrial / uncontrollable vs. control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ct of alternatives (toxicity, BOD load, biodegradability, pass throug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04920" y="304920"/>
            <a:ext cx="8534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Pretreatment</a:t>
            </a:r>
            <a:br>
              <a:rPr sz="4400"/>
            </a:b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Do Your Due Dilig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ntification vs. Impact - Does the POTW or receiving stream have a proble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fety fac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HL al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lity che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und science not emotion or poli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4920" y="304920"/>
            <a:ext cx="8534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Pretreatment</a:t>
            </a:r>
            <a:br>
              <a:rPr sz="4400"/>
            </a:b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Local Limit Develo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1295280" y="68580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Dunl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form &amp; Textile Service Assoc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ddunlap@utsa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www.utsa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Los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ylphenols &amp; Ethoxylates Research Counci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3"/>
              </a:rPr>
              <a:t>blosey@regnet.com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4"/>
              </a:rPr>
              <a:t>www.aperc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028960"/>
            <a:ext cx="77724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Arial"/>
              </a:rPr>
              <a:t>What are NP, NPEs and APEs?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ef6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 = Nonylphen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E = Nonylphenol Ethoxy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E = Alkylphenol Ethoxy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E is a subset of 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ef6"/>
                </a:solidFill>
                <a:latin typeface="Arial"/>
              </a:rPr>
              <a:t>Nonylphenol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1981800"/>
            <a:ext cx="9144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of the major isom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1143000" y="3078360"/>
            <a:ext cx="6634080" cy="1888920"/>
            <a:chOff x="1143000" y="3078360"/>
            <a:chExt cx="6634080" cy="1888920"/>
          </a:xfrm>
        </p:grpSpPr>
        <p:sp>
          <p:nvSpPr>
            <p:cNvPr id="525" name=""/>
            <p:cNvSpPr/>
            <p:nvPr/>
          </p:nvSpPr>
          <p:spPr>
            <a:xfrm>
              <a:off x="4818960" y="3802680"/>
              <a:ext cx="42084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048120" y="3802680"/>
              <a:ext cx="6598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094840" y="3747960"/>
              <a:ext cx="766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22120" y="3084480"/>
              <a:ext cx="766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825080" y="3078360"/>
              <a:ext cx="766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143000" y="3746520"/>
              <a:ext cx="8524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875760" y="3743280"/>
              <a:ext cx="766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38400" y="4427640"/>
              <a:ext cx="8524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19680" y="4422960"/>
              <a:ext cx="8524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14960" y="3784680"/>
              <a:ext cx="7621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5637240" y="3666960"/>
              <a:ext cx="1066320" cy="982800"/>
              <a:chOff x="5637240" y="3666960"/>
              <a:chExt cx="1066320" cy="982800"/>
            </a:xfrm>
          </p:grpSpPr>
          <p:sp>
            <p:nvSpPr>
              <p:cNvPr id="536" name=""/>
              <p:cNvSpPr/>
              <p:nvPr/>
            </p:nvSpPr>
            <p:spPr>
              <a:xfrm>
                <a:off x="5637240" y="4155840"/>
                <a:ext cx="804600" cy="493920"/>
              </a:xfrm>
              <a:custGeom>
                <a:avLst/>
                <a:gdLst/>
                <a:ahLst/>
                <a:rect l="l" t="t" r="r" b="b"/>
                <a:pathLst>
                  <a:path w="507" h="311">
                    <a:moveTo>
                      <a:pt x="0" y="0"/>
                    </a:moveTo>
                    <a:lnTo>
                      <a:pt x="168" y="310"/>
                    </a:lnTo>
                    <a:lnTo>
                      <a:pt x="506" y="310"/>
                    </a:lnTo>
                  </a:path>
                </a:pathLst>
              </a:cu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26040" y="4511520"/>
                <a:ext cx="29160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433920" y="3666960"/>
                <a:ext cx="269640" cy="982800"/>
              </a:xfrm>
              <a:custGeom>
                <a:avLst/>
                <a:gdLst/>
                <a:ahLst/>
                <a:rect l="l" t="t" r="r" b="b"/>
                <a:pathLst>
                  <a:path w="170" h="619">
                    <a:moveTo>
                      <a:pt x="4" y="618"/>
                    </a:moveTo>
                    <a:lnTo>
                      <a:pt x="169" y="30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 flipV="1">
                <a:off x="6345000" y="3803400"/>
                <a:ext cx="221760" cy="3621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637240" y="3666960"/>
                <a:ext cx="798120" cy="490680"/>
              </a:xfrm>
              <a:custGeom>
                <a:avLst/>
                <a:gdLst/>
                <a:ahLst/>
                <a:rect l="l" t="t" r="r" b="b"/>
                <a:pathLst>
                  <a:path w="503" h="309">
                    <a:moveTo>
                      <a:pt x="502" y="0"/>
                    </a:moveTo>
                    <a:lnTo>
                      <a:pt x="165" y="0"/>
                    </a:lnTo>
                    <a:lnTo>
                      <a:pt x="0" y="308"/>
                    </a:lnTo>
                  </a:path>
                </a:pathLst>
              </a:cu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5768640" y="3848040"/>
                <a:ext cx="217440" cy="26028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1909800" y="4076640"/>
              <a:ext cx="1522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900160" y="4076640"/>
              <a:ext cx="1526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38600" y="4076640"/>
              <a:ext cx="1522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653000" y="4076640"/>
              <a:ext cx="1522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86360" y="4076640"/>
              <a:ext cx="1526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38800" y="4076640"/>
              <a:ext cx="1522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653000" y="3390840"/>
              <a:ext cx="1522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357360" y="4305240"/>
              <a:ext cx="0" cy="152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33880" y="4305240"/>
              <a:ext cx="0" cy="152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033880" y="3619440"/>
              <a:ext cx="0" cy="152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ef6"/>
                </a:solidFill>
                <a:latin typeface="Arial"/>
              </a:rPr>
              <a:t>What is NP?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w material used in the synthesis of NP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mediate in the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anaerobic biodegrada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NP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ef6"/>
                </a:solidFill>
                <a:latin typeface="Arial"/>
              </a:rPr>
              <a:t>Nonylphenol Ethoxylat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1676880"/>
            <a:ext cx="9144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of the major isom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23920" y="2659320"/>
            <a:ext cx="8786160" cy="2733480"/>
            <a:chOff x="223920" y="2659320"/>
            <a:chExt cx="8786160" cy="2733480"/>
          </a:xfrm>
        </p:grpSpPr>
        <p:sp>
          <p:nvSpPr>
            <p:cNvPr id="557" name=""/>
            <p:cNvSpPr/>
            <p:nvPr/>
          </p:nvSpPr>
          <p:spPr>
            <a:xfrm>
              <a:off x="3899880" y="3383640"/>
              <a:ext cx="42084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29040" y="3383640"/>
              <a:ext cx="6598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175760" y="3328920"/>
              <a:ext cx="766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03040" y="2665440"/>
              <a:ext cx="766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06000" y="2659320"/>
              <a:ext cx="766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3920" y="3327480"/>
              <a:ext cx="8524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956680" y="3324240"/>
              <a:ext cx="766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119320" y="4008600"/>
              <a:ext cx="8524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900600" y="4003920"/>
              <a:ext cx="8524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095880" y="3365640"/>
              <a:ext cx="533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4718160" y="3247920"/>
              <a:ext cx="1066320" cy="982800"/>
              <a:chOff x="4718160" y="3247920"/>
              <a:chExt cx="1066320" cy="982800"/>
            </a:xfrm>
          </p:grpSpPr>
          <p:sp>
            <p:nvSpPr>
              <p:cNvPr id="568" name=""/>
              <p:cNvSpPr/>
              <p:nvPr/>
            </p:nvSpPr>
            <p:spPr>
              <a:xfrm>
                <a:off x="4718160" y="3736800"/>
                <a:ext cx="804600" cy="493920"/>
              </a:xfrm>
              <a:custGeom>
                <a:avLst/>
                <a:gdLst/>
                <a:ahLst/>
                <a:rect l="l" t="t" r="r" b="b"/>
                <a:pathLst>
                  <a:path w="507" h="311">
                    <a:moveTo>
                      <a:pt x="0" y="0"/>
                    </a:moveTo>
                    <a:lnTo>
                      <a:pt x="168" y="310"/>
                    </a:lnTo>
                    <a:lnTo>
                      <a:pt x="506" y="310"/>
                    </a:lnTo>
                  </a:path>
                </a:pathLst>
              </a:cu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106960" y="4092480"/>
                <a:ext cx="29160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514840" y="3247920"/>
                <a:ext cx="269640" cy="982800"/>
              </a:xfrm>
              <a:custGeom>
                <a:avLst/>
                <a:gdLst/>
                <a:ahLst/>
                <a:rect l="l" t="t" r="r" b="b"/>
                <a:pathLst>
                  <a:path w="170" h="619">
                    <a:moveTo>
                      <a:pt x="4" y="618"/>
                    </a:moveTo>
                    <a:lnTo>
                      <a:pt x="169" y="30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 flipV="1">
                <a:off x="5425920" y="3384360"/>
                <a:ext cx="221760" cy="3621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718160" y="3247920"/>
                <a:ext cx="798120" cy="490680"/>
              </a:xfrm>
              <a:custGeom>
                <a:avLst/>
                <a:gdLst/>
                <a:ahLst/>
                <a:rect l="l" t="t" r="r" b="b"/>
                <a:pathLst>
                  <a:path w="503" h="309">
                    <a:moveTo>
                      <a:pt x="502" y="0"/>
                    </a:moveTo>
                    <a:lnTo>
                      <a:pt x="165" y="0"/>
                    </a:lnTo>
                    <a:lnTo>
                      <a:pt x="0" y="308"/>
                    </a:lnTo>
                  </a:path>
                </a:pathLst>
              </a:cu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4849560" y="3429000"/>
                <a:ext cx="217440" cy="26028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990720" y="3657600"/>
              <a:ext cx="1522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3657600"/>
              <a:ext cx="1526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819520" y="3657600"/>
              <a:ext cx="1522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733920" y="3657600"/>
              <a:ext cx="1522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867280" y="3657600"/>
              <a:ext cx="1526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19720" y="3657600"/>
              <a:ext cx="1522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733920" y="2971800"/>
              <a:ext cx="1522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438280" y="3886200"/>
              <a:ext cx="0" cy="152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14800" y="3886200"/>
              <a:ext cx="0" cy="152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114800" y="3200400"/>
              <a:ext cx="0" cy="152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558480" y="3200400"/>
              <a:ext cx="245160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  H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458200" y="3581280"/>
              <a:ext cx="1522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19360" y="4877280"/>
              <a:ext cx="1912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n = 1 - 1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What are </a:t>
            </a:r>
            <a:r>
              <a:rPr b="1" lang="en-US" sz="4800" spc="-1" strike="noStrike">
                <a:solidFill>
                  <a:srgbClr val="dfdef6"/>
                </a:solidFill>
                <a:latin typeface="Arial"/>
              </a:rPr>
              <a:t>NPEs</a:t>
            </a: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gh performance, cost-effective, “workhorse” surfact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cellent wetting agents, emulsifiers and dispers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028960"/>
            <a:ext cx="77724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Arial"/>
              </a:rPr>
              <a:t>What Does the Science Say about NP/NPEs ?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20:58:01Z</dcterms:created>
  <dc:creator>Barbara Losey</dc:creator>
  <dc:description/>
  <dc:language>en-US</dc:language>
  <cp:lastModifiedBy>David D. Dunlap</cp:lastModifiedBy>
  <dcterms:modified xsi:type="dcterms:W3CDTF">2005-11-29T14:54:33Z</dcterms:modified>
  <cp:revision>157</cp:revision>
  <dc:subject/>
  <dc:title>Slide 1</dc:title>
</cp:coreProperties>
</file>