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9977-FFD1-4375-90C7-6134CE47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2423-156B-4962-AB16-9EB34A8F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0349-A381-4AF5-A4C9-6667B580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B860-372E-4791-AD54-DD365381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2F6-238B-4B34-9B6F-8202457A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2B47-01D9-49DA-8910-EF439A9C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741E-8654-4DEA-86DB-A96F83E7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24F1-57C7-4542-ADA4-12FB2745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7EE7-2C0A-4E44-A3E5-74C549E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1ED6-0C1F-43DE-8156-14C56CA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A393-ABAD-4545-9E3F-8F3068E6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C3BA-4260-47A7-A53C-133F8F3C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F9C5-AF02-4F57-A263-5E43E5D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B65D-9A73-4DEF-9A93-7D8E9E4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542-E1AE-45BE-9F18-891AEC3E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D1F5-8907-459E-A168-604A0889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0070-26FF-48FF-9583-24872986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CA37-5E92-409E-BF57-2CACDCD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B842-4B94-4880-81B4-0BCF3933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7965-4C59-41B2-86FC-75E052F7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DA50-A94C-4B10-8684-FD0A7680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4A6E-5E3B-4A63-935F-4F2F7C95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C9E3-D80C-438C-AA18-D11CDCE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0CA3-4601-4543-A0CC-69B2EB5E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5CC-F473-4938-95B3-5A18450F7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15B-F619-413D-B3CD-713272E31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ddunlap@utsa.com" TargetMode="External"/><Relationship Id="rId2" Type="http://schemas.openxmlformats.org/officeDocument/2006/relationships/hyperlink" Target="http://www.utsa.com/" TargetMode="External"/><Relationship Id="rId3" Type="http://schemas.openxmlformats.org/officeDocument/2006/relationships/hyperlink" Target="mailto:blosey@regnet.com" TargetMode="External"/><Relationship Id="rId4" Type="http://schemas.openxmlformats.org/officeDocument/2006/relationships/hyperlink" Target="http://www.aperc.org/" TargetMode="External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NPEs and the Pretreatment Program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avid Dunla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niform &amp; Textile Service Assoc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ir. Government &amp; Environmental Affai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2819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2005 Pretreatment &amp; Pollution Prevention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Kansas City,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November, 18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  <a:ea typeface="Times New Roman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  <a:ea typeface="Times New Roman"/>
              </a:rPr>
              <a:t>Human Healt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P exhibits weak estrogenic a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,000  to 1,000,000 times less potent than human estr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PEs used in laundry detergents are not estrog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ormones from human waste are the primary source of estrogenic activity in wastewater and th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Human Healt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, EU and Canadian Risk Assessments - conclusions conc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rmal exposure to NP and NPE does not pose a significant risk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uman health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ink between NP exposure and endocrine disruption in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atic Impac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erous aquatic NP/NPE studies with dozens of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crine issue is well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 levels for chronic toxicity are lower than those for endocrine related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quatic toxicity, not endocrine issues, drive risk assessment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Biodegrad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 is 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in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t of NPE bio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/NPE are inherently biodegra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omatic ring breaks down during bio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rcRect l="13580" t="7395" r="20835" b="31485"/>
          <a:stretch/>
        </p:blipFill>
        <p:spPr>
          <a:xfrm>
            <a:off x="1676520" y="0"/>
            <a:ext cx="56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tate of the Science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Bioaccumul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NP/NPEs are </a:t>
            </a:r>
            <a:r>
              <a:rPr b="0" lang="en-CA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 considered bioaccumulative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in accordance with established national and international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NP/NPEs are rapidly metabolized and excreted by fish and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NPEs are not estrogen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 is a minor degradation product of NPE -  anaerobic degradation intermed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quatic toxicity of NP not endocrine issues drive risk assessment 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/NPEs are not PBT chemic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4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Governmental risk assessments have concluded that environmental exposure to NP/NPEs does not present a risk to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3080" y="380880"/>
            <a:ext cx="59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fdef6"/>
                </a:solidFill>
                <a:latin typeface="Times New Roman"/>
              </a:rPr>
              <a:t>Scientific Summary </a:t>
            </a:r>
            <a:r>
              <a:rPr b="1" lang="en-US" sz="4800" spc="-1" strike="noStrike">
                <a:solidFill>
                  <a:srgbClr val="dfdef6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What Is The Regulatory Status of NP/NPEs in the US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Proposed EPA 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Water Quality Criteria for NP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onic Freshwater:  5.9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ute Freshwater:  27.9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onic Saltwater:  1.4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ute Saltwater:  6.7 µg/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atic Levels of NP/NPE in the United Stat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 30 Rivers Study (Week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 al.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199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ordination with US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median = 0.1 µ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ional Reconnaissance Survey (Kolpin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200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sored by the US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median = 0.8 µ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y few values exceed the WQ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Today’s Question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are NPs, NPEs and AP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state of NP scien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is the regulatory status of NP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should one consider with regard to local NP pretreatment issu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NP/NPE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Pretreatment Considerations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is a difference between NP and N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is not the predominant degradation product of N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P/NPE are both effectively (95%) removed  from effluent in well-functioning secondary sewage treatment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Know the Fa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has created a clear bright line with the NP WQ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quatic environment is protected by the WQ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3049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WQC Establish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 of POTWs will not have an issue with N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 – weigh relative risk - e.g.  NPEs vs. Pharmaceut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 - domestic vs. industrial / uncontrollable vs. control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f alternatives (toxicity, BOD load, biodegradability, pass throug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3049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Do Your Due Di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ication vs. Impact - Does the POTW or receiving stream have a probl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 fac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HL al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lity che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science not emotion or poli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3049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Pretreatment</a:t>
            </a:r>
            <a:br>
              <a:rPr sz="4400"/>
            </a:b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Local Limit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Dun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&amp; Textile Service Asso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ddunlap@uts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www.uts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Los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ylphenols &amp; Ethoxylates Research Counc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blosey@regnet.co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www.aperc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028960"/>
            <a:ext cx="77724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What are NP, NPEs and APEs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 = Nonylphe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E = Nonylphenol Ethoxy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E = Alkylphenol Ethoxy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E is a subset of 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Nonylphenol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198180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of the major is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143000" y="3078360"/>
            <a:ext cx="6634080" cy="1888920"/>
            <a:chOff x="1143000" y="3078360"/>
            <a:chExt cx="6634080" cy="1888920"/>
          </a:xfrm>
        </p:grpSpPr>
        <p:sp>
          <p:nvSpPr>
            <p:cNvPr id="525" name=""/>
            <p:cNvSpPr/>
            <p:nvPr/>
          </p:nvSpPr>
          <p:spPr>
            <a:xfrm>
              <a:off x="4818960" y="3802680"/>
              <a:ext cx="4208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120" y="3802680"/>
              <a:ext cx="659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94840" y="374796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22120" y="308448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25080" y="307836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43000" y="374652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75760" y="374328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38400" y="442764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19680" y="442296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14960" y="3784680"/>
              <a:ext cx="762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5637240" y="3666960"/>
              <a:ext cx="1066320" cy="982800"/>
              <a:chOff x="5637240" y="3666960"/>
              <a:chExt cx="1066320" cy="982800"/>
            </a:xfrm>
          </p:grpSpPr>
          <p:sp>
            <p:nvSpPr>
              <p:cNvPr id="536" name=""/>
              <p:cNvSpPr/>
              <p:nvPr/>
            </p:nvSpPr>
            <p:spPr>
              <a:xfrm>
                <a:off x="5637240" y="4155840"/>
                <a:ext cx="804600" cy="493920"/>
              </a:xfrm>
              <a:custGeom>
                <a:avLst/>
                <a:gdLst/>
                <a:ahLst/>
                <a:rect l="l" t="t" r="r" b="b"/>
                <a:pathLst>
                  <a:path w="507" h="311">
                    <a:moveTo>
                      <a:pt x="0" y="0"/>
                    </a:moveTo>
                    <a:lnTo>
                      <a:pt x="168" y="310"/>
                    </a:lnTo>
                    <a:lnTo>
                      <a:pt x="506" y="31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26040" y="4511520"/>
                <a:ext cx="2916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33920" y="3666960"/>
                <a:ext cx="269640" cy="982800"/>
              </a:xfrm>
              <a:custGeom>
                <a:avLst/>
                <a:gdLst/>
                <a:ahLst/>
                <a:rect l="l" t="t" r="r" b="b"/>
                <a:pathLst>
                  <a:path w="170" h="619">
                    <a:moveTo>
                      <a:pt x="4" y="618"/>
                    </a:moveTo>
                    <a:lnTo>
                      <a:pt x="169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345000" y="3803400"/>
                <a:ext cx="221760" cy="362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637240" y="3666960"/>
                <a:ext cx="798120" cy="490680"/>
              </a:xfrm>
              <a:custGeom>
                <a:avLst/>
                <a:gdLst/>
                <a:ahLst/>
                <a:rect l="l" t="t" r="r" b="b"/>
                <a:pathLst>
                  <a:path w="503" h="309">
                    <a:moveTo>
                      <a:pt x="502" y="0"/>
                    </a:moveTo>
                    <a:lnTo>
                      <a:pt x="165" y="0"/>
                    </a:lnTo>
                    <a:lnTo>
                      <a:pt x="0" y="308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768640" y="3848040"/>
                <a:ext cx="217440" cy="260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19098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00160" y="407664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386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30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6360" y="407664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8800" y="40766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53000" y="339084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7360" y="430524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33880" y="430524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33880" y="361944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What is NP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w material used in the synthesis of N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mediate in the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naerobic biodegrad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N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Nonylphenol Ethoxylat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167688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of the major is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23920" y="2659320"/>
            <a:ext cx="8786160" cy="2733480"/>
            <a:chOff x="223920" y="2659320"/>
            <a:chExt cx="8786160" cy="2733480"/>
          </a:xfrm>
        </p:grpSpPr>
        <p:sp>
          <p:nvSpPr>
            <p:cNvPr id="557" name=""/>
            <p:cNvSpPr/>
            <p:nvPr/>
          </p:nvSpPr>
          <p:spPr>
            <a:xfrm>
              <a:off x="3899880" y="3383640"/>
              <a:ext cx="4208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29040" y="3383640"/>
              <a:ext cx="659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75760" y="332892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03040" y="266544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06000" y="265932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3920" y="332748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56680" y="3324240"/>
              <a:ext cx="766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19320" y="400860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00600" y="4003920"/>
              <a:ext cx="8524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5880" y="3365640"/>
              <a:ext cx="533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718160" y="3247920"/>
              <a:ext cx="1066320" cy="982800"/>
              <a:chOff x="4718160" y="3247920"/>
              <a:chExt cx="1066320" cy="982800"/>
            </a:xfrm>
          </p:grpSpPr>
          <p:sp>
            <p:nvSpPr>
              <p:cNvPr id="568" name=""/>
              <p:cNvSpPr/>
              <p:nvPr/>
            </p:nvSpPr>
            <p:spPr>
              <a:xfrm>
                <a:off x="4718160" y="3736800"/>
                <a:ext cx="804600" cy="493920"/>
              </a:xfrm>
              <a:custGeom>
                <a:avLst/>
                <a:gdLst/>
                <a:ahLst/>
                <a:rect l="l" t="t" r="r" b="b"/>
                <a:pathLst>
                  <a:path w="507" h="311">
                    <a:moveTo>
                      <a:pt x="0" y="0"/>
                    </a:moveTo>
                    <a:lnTo>
                      <a:pt x="168" y="310"/>
                    </a:lnTo>
                    <a:lnTo>
                      <a:pt x="506" y="31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06960" y="4092480"/>
                <a:ext cx="2916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14840" y="3247920"/>
                <a:ext cx="269640" cy="982800"/>
              </a:xfrm>
              <a:custGeom>
                <a:avLst/>
                <a:gdLst/>
                <a:ahLst/>
                <a:rect l="l" t="t" r="r" b="b"/>
                <a:pathLst>
                  <a:path w="170" h="619">
                    <a:moveTo>
                      <a:pt x="4" y="618"/>
                    </a:moveTo>
                    <a:lnTo>
                      <a:pt x="169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flipV="1">
                <a:off x="5425920" y="3384360"/>
                <a:ext cx="221760" cy="362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718160" y="3247920"/>
                <a:ext cx="798120" cy="490680"/>
              </a:xfrm>
              <a:custGeom>
                <a:avLst/>
                <a:gdLst/>
                <a:ahLst/>
                <a:rect l="l" t="t" r="r" b="b"/>
                <a:pathLst>
                  <a:path w="503" h="309">
                    <a:moveTo>
                      <a:pt x="502" y="0"/>
                    </a:moveTo>
                    <a:lnTo>
                      <a:pt x="165" y="0"/>
                    </a:lnTo>
                    <a:lnTo>
                      <a:pt x="0" y="308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4849560" y="3429000"/>
                <a:ext cx="217440" cy="260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9907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365760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195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339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67280" y="3657600"/>
              <a:ext cx="152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19720" y="36576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33920" y="297180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38280" y="388620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14800" y="388620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14800" y="3200400"/>
              <a:ext cx="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58480" y="3200400"/>
              <a:ext cx="24516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lang="en-US" sz="2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H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58200" y="3581280"/>
              <a:ext cx="152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19360" y="4877280"/>
              <a:ext cx="1912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= 1 - 1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What are </a:t>
            </a: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NPEs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 performance, cost-effective, “workhorse” surfact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t wetting agents, emulsifiers and dispers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028960"/>
            <a:ext cx="777240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What Does the Science Say about NP/NPEs 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58:01Z</dcterms:created>
  <dc:creator>Barbara Losey</dc:creator>
  <dc:description/>
  <dc:language>en-US</dc:language>
  <cp:lastModifiedBy>David D. Dunlap</cp:lastModifiedBy>
  <dcterms:modified xsi:type="dcterms:W3CDTF">2005-11-29T14:54:33Z</dcterms:modified>
  <cp:revision>157</cp:revision>
  <dc:subject/>
  <dc:title>Slide 1</dc:title>
</cp:coreProperties>
</file>