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4B7-EC3F-4746-B16F-0EE9FC73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CDC-6A3F-420C-8B63-A82D9D23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D52-37AA-4C36-A3CA-1B5CCB31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5ED-FE36-4B1A-9E78-20696FC1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1A00-CECE-4CD5-8B67-3B6A5367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7EE3-A144-4794-9E6A-09B4DD24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E3F-8A31-4CA2-A36B-A7FAD07B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7105-6262-438C-A2F7-742CC1E3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EB08-53C6-4A7D-9B9F-37192BE3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2681-287B-42F1-809E-8B3BFC07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97D9-009E-44CD-BE50-50E0C2AC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09D-B159-4188-A0AD-11845C9F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ACA7-D992-4E73-8ABF-F735F3C3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F069-8254-4052-B3C0-B9C63ADA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5AF6-918B-4F24-9D40-63BB8C03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CE83-CAF7-4614-803F-6DC74E0E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815-7FEB-4D3B-AD14-CB44C0CC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826-4BA2-499E-8C17-26BBB9B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79C-444A-4189-A181-978999D7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9C7-5F39-4809-9D1B-0DCB7470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639-EE8B-4863-9C40-FCFE28CC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1AF-D487-42C8-9FC9-A51EF3D8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0FD-F353-4DC0-8824-8D70591B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066-9E45-45D3-9FE5-2FE00337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4C40-5053-4AB0-88B2-1832C80D3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006A-F324-45BF-B675-40EBEFB4B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SO STANDARDS FOR THE MANAGEMENT AND ASSESSMENT OF DRINKING WATER AND WASTEWATER SERVIC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ion of Metropolitan Sewerage Agenc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F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6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urpose of ISO 24500 Ser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Achieve an ongoing dialog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users and service provid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Develop a mutual understan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local objectives and quality assessment criter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Improve operation and manag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ssets via a management system approach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Promote performance indic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enable measurement of servi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Promote continual improvement cyc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service and facilitate monitoring of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ill ISO standards look lik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ly to be 3 separate standards in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tility can follow one or combination of two or three of the standards (still under deb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hird-party certificati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with other ISO standards, these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nagement System Approa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management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appropriate service quality criteria that parallel the management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performance indicators and targets to measure effectiveness of servic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ewater as a percent of family 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flows per length of s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anagement actions to meet tar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ey Relationships Contained i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raft Standar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676520"/>
            <a:ext cx="3276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514600"/>
            <a:ext cx="32767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3886200"/>
            <a:ext cx="3276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5029200"/>
            <a:ext cx="3276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2133720"/>
            <a:ext cx="762120" cy="761760"/>
          </a:xfrm>
          <a:custGeom>
            <a:avLst/>
            <a:gdLst>
              <a:gd name="textAreaLeft" fmla="*/ 101880 w 762120"/>
              <a:gd name="textAreaRight" fmla="*/ 660240 w 762120"/>
              <a:gd name="textAreaTop" fmla="*/ 140040 h 761760"/>
              <a:gd name="textAreaBottom" fmla="*/ 5187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43" stAng="-5400000" swAng="-5400000"/>
                <a:lnTo>
                  <a:pt x="0" y="10733"/>
                </a:lnTo>
                <a:arcTo wR="21600" hR="7943" stAng="10800000" swAng="-2767458"/>
                <a:lnTo>
                  <a:pt x="14400" y="21146"/>
                </a:lnTo>
                <a:lnTo>
                  <a:pt x="21600" y="17280"/>
                </a:lnTo>
                <a:lnTo>
                  <a:pt x="14400" y="12506"/>
                </a:lnTo>
                <a:lnTo>
                  <a:pt x="14400" y="15431"/>
                </a:lnTo>
                <a:arcTo wR="21600" hR="7943" stAng="8032542" swAng="2542254"/>
                <a:lnTo>
                  <a:pt x="336" y="9337"/>
                </a:lnTo>
                <a:arcTo wR="21600" hR="7943" stAng="-10574796" swAng="5174796"/>
                <a:close/>
              </a:path>
              <a:path fill="darkenLess" w="21600" h="21600">
                <a:moveTo>
                  <a:pt x="21600" y="0"/>
                </a:moveTo>
                <a:arcTo wR="21600" hR="7943" stAng="-5400000" swAng="-5400000"/>
                <a:lnTo>
                  <a:pt x="0" y="7943"/>
                </a:lnTo>
                <a:arcTo wR="21600" hR="7943" stAng="10800000" swAng="-225204"/>
                <a:lnTo>
                  <a:pt x="336" y="9337"/>
                </a:lnTo>
                <a:arcTo wR="21600" hR="7943" stAng="-10574796" swAng="5174796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26668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Assess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962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1752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5257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358128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472428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709560" cy="5443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172200" y="4648320"/>
            <a:ext cx="709560" cy="5443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172200" y="2133720"/>
            <a:ext cx="787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bjectives, Assessment  Criteria and Performance Indicato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9480" y="1752480"/>
          <a:ext cx="8001000" cy="4572000"/>
        </p:xfrm>
        <a:graphic>
          <a:graphicData uri="http://schemas.openxmlformats.org/drawingml/2006/table">
            <a:tbl>
              <a:tblPr/>
              <a:tblGrid>
                <a:gridCol w="2514600"/>
                <a:gridCol w="2971800"/>
                <a:gridCol w="2514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Service Assessment Crite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Performance Indica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5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e in a manner that minimizes adverse effects on the 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 and limit pollutants    in effluent and bio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mize energy efficie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ize reuse of bio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e users on pollution pre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ize influent load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ermit non-complia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used per volume treated or per population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biosolids re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influent loading reductions over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3429000"/>
            <a:ext cx="655308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Indicators (PIs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s are the key to th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easure quality, effectiveness, and efficiency of service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information to benchmark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internal measurement &amp;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used for comparisons among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key to “plan, do, check, act” principle of EM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as tools to communicate with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as tools to ensure management accoun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tional regulations can form the basis of a 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xamples of Performance Indicato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service quality criteria relates to energy efficienc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 = matrix to determine energy consumption for wastewater treatment service per residential house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service quality criteria relates to safety of personnel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 = The amount of time put into personnel training as compared to number of in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SA Involv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ite ANSI’s “no vote” U.S. input into standard reflects concern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Standards allow local decisions regarding selection of service objectives, selection of performance indicators, and establishing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Standards represent U.S. wastewater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solids management op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t water/wastewater utility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lesaler concernsDiffering storm water management utility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ndicator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S efforts ongoing in the U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.S., AMSA EMS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tional Biosolids Partnership’s EMS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, WEF, E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Third-Party Audits Already Comple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tinual Improvement in Utility Management: A Framework for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framework to integrate existing manageme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t  EPA, AMSA, &amp; WEF ef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WA, WEF QualServ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Performance Indic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Achieving Environmental Excellence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 Environmental Management Systems (EMS) Handbook for Wastewater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/WEF members provided input on successful EM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Status of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ing ISO Standar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raft standards have been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service to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management and assessment of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rinking wate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management and assessment of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wastewater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2004 – Meeting in Rabat, Moro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harmonize docu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better address developing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to lead ad-hoc editing work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SO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ISO Management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al for Water/Wastewater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ottom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Involvement in ISO TC-2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 TC-224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pose of ISO 24500 S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ISO Standards Look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 System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Recommended Management Activ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Relationships in Draft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s, Assessment Criteria and Performance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SA Involv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/AMSA EMS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1295280"/>
          <a:ext cx="8153280" cy="5299200"/>
        </p:xfrm>
        <a:graphic>
          <a:graphicData uri="http://schemas.openxmlformats.org/drawingml/2006/table">
            <a:tbl>
              <a:tblPr/>
              <a:tblGrid>
                <a:gridCol w="2552760"/>
                <a:gridCol w="560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anuary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/TC 224 Working Group Meetings to complete draft of standards – Valencia, Sp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pril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ittee Draft (CD) of standards sent to ISO/TC 224 country participants for review and 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ly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 TC 224 country participants’ review 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ctober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ting of ISO/TC 224, Berlin, Germa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dline to complete Draft International Standard (DIS) for ISO member country review and 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pring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ting by ISO member countries on whether to adopt Final Draft International Standard (FD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ation of ISO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to make wastewater services standards as relevant to U.S. POTWs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SA members already strive for continuous improvement and the ISO standard will provide a useful tool to aid in these eff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66680" y="4800600"/>
            <a:ext cx="617220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is an ISO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nternational Standard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of specifications applicable on a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</a:rPr>
              <a:t>voluntary ba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established by ISO, the International Organization for Standard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is world’s largest developer of standards and its members are comprised of standardization bodies from its member countries (U.S. = AN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s of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Facilitate global trade, exchange and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Enhance product quality and rel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Increase distribution effici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urrent ISO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anagement Standar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9000 se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standards intended to harmonize international quality management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 concept of continuous management impr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14000 se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environmental manageme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eco-friendly business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 concept of continuous management improvement (Plan, do, check, ac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 measurement of environmental 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oposal for New ISO Standards for Water and Wastewater Servic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sed by the French national standardization organization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ssociation Française de Normalisation - AFN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in April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le many countries had national regulations to define the quality of water/wastewater, few have standards for quality of service to customers/end use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 pace with net population growth of more than 1 billion over next 15 yea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the coverage and service ga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sure sustainability of existing and new servic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 quality of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 of AFNOR was approved by 26 of 34 ISO member countrie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 standards were controvers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.S. believed a water/wastewater standard was unnecessa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ilities already working toward these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ort was duplicative of ISO 9000 &amp; 14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, Netherlands, and Germany also voted against the standard; 4 other countries abstai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80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oposal for New ISO Standards for Water and Wastewater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Bottom Li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lost the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 Technical Committee (ISO/TC 224)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Develop international standards for the management and assessment of drinking water and wastewater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3 member countries participating on the ISO/TC 2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meeting held in September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water/wastewater-specific ISO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s drafting, review, and revision 2004-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nal ISO standards (24500 series) to be published in July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.S. Involvement in ISO/TC 22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erican National Standards Instit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NSI) is official member organization to 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WW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administrator of the U.S. Technical Advisory Group (TAG) and lead delegate to ISO/TC 2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leading U.S. representative on behalf of publicly-owned treatment works (POTW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ISO Advisory Committee comprised of utility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delegates supported via AMSA Targeted Action F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comment to U.S. TAG on draft ISO/TC 224 propo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 ISO/TC 224 meetings to voice U.S. POTWs’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SO/TC 224 Structure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Group 1 = Termi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Group 2 = Customer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Group 3 = Services Related to Drinking Water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Group 4 = Services Related to Wastewater Syste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se 4 groups have worked on a parallel track since 2002 to develop the draft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4:44:12Z</dcterms:created>
  <dc:creator>adam</dc:creator>
  <dc:description/>
  <dc:language>en-US</dc:language>
  <cp:lastModifiedBy>adam</cp:lastModifiedBy>
  <dcterms:modified xsi:type="dcterms:W3CDTF">2004-10-14T18:24:16Z</dcterms:modified>
  <cp:revision>44</cp:revision>
  <dc:subject/>
  <dc:title>NEW ISO WATER AND WASTEWATER STANDARDS . . . MEASURING IMPROV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