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7FA-B18F-43B9-AE16-9D3A908F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9EC-B64B-408D-A2EB-0E5AD2BF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7F2-2E08-45F3-8D87-A916D971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0AB6-2C55-46FA-9261-E7922532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7BDE-85F5-4DF0-AAE3-DA792E27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9E10-E14C-46C6-A05F-84C7AA05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C428-3646-481F-AD1B-855D4028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03BF-2615-4A0D-AFE6-4EDFD6F5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6A54-9BB3-4AA8-ADAF-FFD144E2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6816-248D-41D6-8AD0-3FC0587D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DF02-82A8-43F8-9054-E99FE341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90C-C753-4EB8-9C02-023C9C3A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E764-9FBD-4374-BB00-EB81D11E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C418-0E9D-4BAC-9069-BF6C1E6E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69A2-569C-461C-ADE6-908D8712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A1FC-C63D-4762-B4F3-D96952BE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0CA0-3837-4F95-9811-A676B0AA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FED-045D-4E53-B49F-12C8F6F5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BFA-65B6-4AC0-9BF2-C7910294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1B0-CDA2-4B5D-A7EC-7EF0A8B7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849-104F-43BB-B6C0-636380F5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6C6-17E3-46B9-83C9-863A2DA3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9BDD-BD8F-4F1E-A3E6-1595D118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73D-422C-4156-A481-15AC50D2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BF7C-0D66-4667-B1F3-4FE4EAE11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91D5-C3D9-4A18-9F95-A35E3A48F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SO STANDARDS FOR THE MANAGEMENT AND ASSESSMENT OF DRINKING WATER AND WASTEWATER SERVIC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ion of Metropolitan Sewerage Agenc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FT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ober 6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urpose of ISO 24500 Seri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Achieve an ongoing dialog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tween users and service provid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Develop a mutual understand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local objectives and quality assessment criteri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Improve operation and manag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ssets via a management system approach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Promote performance indica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enable measurement of servic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Promote continual improvement cyc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service and facilitate monitoring of pro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will ISO standards look like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ly to be 3 separate standards in s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tewate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utility can follow one or combination of two or three of the standards (still under deb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third-party certification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with other ISO standards, these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olu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nagement System Approac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management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appropriate service quality criteria that parallel the management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performance indicators and targets to measure effectiveness of service deli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tewater as a percent of family inc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flows per length of s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anagement actions to meet targ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Key Relationships Contained i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Draft Standard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1676520"/>
            <a:ext cx="327672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66880" y="2514600"/>
            <a:ext cx="3276720" cy="1143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3886200"/>
            <a:ext cx="32767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5029200"/>
            <a:ext cx="32767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52480" y="2133720"/>
            <a:ext cx="762120" cy="761760"/>
          </a:xfrm>
          <a:custGeom>
            <a:avLst/>
            <a:gdLst>
              <a:gd name="textAreaLeft" fmla="*/ 101880 w 762120"/>
              <a:gd name="textAreaRight" fmla="*/ 660240 w 762120"/>
              <a:gd name="textAreaTop" fmla="*/ 140040 h 761760"/>
              <a:gd name="textAreaBottom" fmla="*/ 5187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43" stAng="-5400000" swAng="-5400000"/>
                <a:lnTo>
                  <a:pt x="0" y="10733"/>
                </a:lnTo>
                <a:arcTo wR="21600" hR="7943" stAng="10800000" swAng="-2767458"/>
                <a:lnTo>
                  <a:pt x="14400" y="21146"/>
                </a:lnTo>
                <a:lnTo>
                  <a:pt x="21600" y="17280"/>
                </a:lnTo>
                <a:lnTo>
                  <a:pt x="14400" y="12506"/>
                </a:lnTo>
                <a:lnTo>
                  <a:pt x="14400" y="15431"/>
                </a:lnTo>
                <a:arcTo wR="21600" hR="7943" stAng="8032542" swAng="2542254"/>
                <a:lnTo>
                  <a:pt x="336" y="9337"/>
                </a:lnTo>
                <a:arcTo wR="21600" hR="7943" stAng="-10574796" swAng="5174796"/>
                <a:close/>
              </a:path>
              <a:path fill="darkenLess" w="21600" h="21600">
                <a:moveTo>
                  <a:pt x="21600" y="0"/>
                </a:moveTo>
                <a:arcTo wR="21600" hR="7943" stAng="-5400000" swAng="-5400000"/>
                <a:lnTo>
                  <a:pt x="0" y="7943"/>
                </a:lnTo>
                <a:arcTo wR="21600" hR="7943" stAng="10800000" swAng="-225204"/>
                <a:lnTo>
                  <a:pt x="336" y="9337"/>
                </a:lnTo>
                <a:arcTo wR="21600" hR="7943" stAng="-10574796" swAng="5174796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19520" y="26668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 Assessment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9625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Indic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1752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 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5257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 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3581280"/>
            <a:ext cx="685800" cy="533520"/>
          </a:xfrm>
          <a:custGeom>
            <a:avLst/>
            <a:gdLst>
              <a:gd name="textAreaLeft" fmla="*/ 91800 w 685800"/>
              <a:gd name="textAreaRight" fmla="*/ 594000 w 6858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4724280"/>
            <a:ext cx="685800" cy="533520"/>
          </a:xfrm>
          <a:custGeom>
            <a:avLst/>
            <a:gdLst>
              <a:gd name="textAreaLeft" fmla="*/ 91800 w 685800"/>
              <a:gd name="textAreaRight" fmla="*/ 594000 w 6858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248520" y="3505320"/>
            <a:ext cx="709560" cy="5443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172200" y="4648320"/>
            <a:ext cx="709560" cy="5443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6172200" y="2133720"/>
            <a:ext cx="787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Objectives, Assessment  Criteria and Performance Indicato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09480" y="1752480"/>
          <a:ext cx="8001000" cy="4572000"/>
        </p:xfrm>
        <a:graphic>
          <a:graphicData uri="http://schemas.openxmlformats.org/drawingml/2006/table">
            <a:tbl>
              <a:tblPr/>
              <a:tblGrid>
                <a:gridCol w="2514600"/>
                <a:gridCol w="2971800"/>
                <a:gridCol w="2514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Service Assessment Criter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Performance Indicat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65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e in a manner that minimizes adverse effects on the environ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 and limit pollutants    in effluent and bio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mize energy efficienc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imize reuse of bio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ucate users on pollution prev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imize influent load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permit non-complian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rgy used per volume treated or per population equival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of biosolids reu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 influent loading reductions over 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219320" y="3429000"/>
            <a:ext cx="6553080" cy="3124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formance Indicators (PIs)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s are the key to the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measure quality, effectiveness, and efficiency of service deli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information to benchmark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internal measurement &amp; compari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used for comparisons among ut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key to “plan, do, check, act” principle of EM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as tools to communicate with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as tools to ensure management accoun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ational regulations can form the basis of a 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xamples of Performance Indicato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r service quality criteria relates to energy efficienc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 = matrix to determine energy consumption for wastewater treatment service per residential househ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r service quality criteria relates to safety of personnel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 = The amount of time put into personnel training as compared to number of inju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MSA Involve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pite ANSI’s “no vote” U.S. input into standard reflects concerns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 Standards allow local decisions regarding selection of service objectives, selection of performance indicators, and establishing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 Standards represent U.S. wastewater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solids management op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int water/wastewater utility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lesaler concernsDiffering storm water management utility objec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indicator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S efforts ongoing in the U.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.S., AMSA EMS Initiativ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tional Biosolids Partnership’s EMS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SA, WEF, E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Third-Party Audits Already Comple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tinual Improvement in Utility Management: A Framework for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framework to integrate existing management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int  EPA, AMSA, &amp; WEF eff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WWA, WEF QualServ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Performance Indic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A’s Achieving Environmental Excellence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n Environmental Management Systems (EMS) Handbook for Wastewater Ut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SA/WEF members provided input on successful EM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urrent Status of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veloping ISO Standard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draft standards have been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O/WD 245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Guidelines for the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service to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O/WD 245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Guidelines for the management and assessment of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drinking water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O/WD 245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Guidelines for the management and assessment of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wastewater servi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ember 2004 – Meeting in Rabat, Moroc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harmonize docu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better address developing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to lead ad-hoc editing work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ISO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ISO Management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osal for Water/Wastewater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ottom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 Involvement in ISO TC-2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 TC-224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rpose of ISO 24500 Se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ISO Standards Look Li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 System Appro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Recommended Management Activ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Relationships in Draft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s, Assessment Criteria and Performance Indic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ormance Indic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SA Involv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/AMSA EMS Initi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Stat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3520" y="1295280"/>
          <a:ext cx="8153280" cy="5299200"/>
        </p:xfrm>
        <a:graphic>
          <a:graphicData uri="http://schemas.openxmlformats.org/drawingml/2006/table">
            <a:tbl>
              <a:tblPr/>
              <a:tblGrid>
                <a:gridCol w="2552760"/>
                <a:gridCol w="5600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January 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O/TC 224 Working Group Meetings to complete draft of standards – Valencia, Sp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pril 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ittee Draft (CD) of standards sent to ISO/TC 224 country participants for review and com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Jully 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O TC 224 country participants’ review compl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ctober 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ting of ISO/TC 224, Berlin, German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July 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adline to complete Draft International Standard (DIS) for ISO member country review and com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pring 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ting by ISO member countries on whether to adopt Final Draft International Standard (FD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July 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blication of ISO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 to make wastewater services standards as relevant to U.S. POTWs as pos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SA members already strive for continuous improvement and the ISO standard will provide a useful tool to aid in these eff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066680" y="4800600"/>
            <a:ext cx="6172200" cy="1295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hat is an ISO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International Standard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of specifications applicable on a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</a:rPr>
              <a:t>voluntary ba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established by ISO, the International Organization for Standard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 is world’s largest developer of standards and its members are comprised of standardization bodies from its member countries (U.S. = ANS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als of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Facilitate global trade, exchange and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Enhance product quality and reli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Increase distribution effici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Current ISO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Management Standar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 9000 ser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ment standards intended to harmonize international quality management princ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mote concept of continuous management improv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 14000 se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environmental management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urage eco-friendly business pract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mote concept of continuous management improvement (Plan, do, check, act princip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ate measurement of environmental perform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roposal for New ISO Standards for Water and Wastewater Servic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sed by the French national standardization organization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ssociation Française de Normalisation - AFN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in April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le many countries had national regulations to define the quality of water/wastewater, few have standards for quality of service to customers/end user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ep pace with net population growth of more than 1 billion over next 15 year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se the coverage and service ga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sure sustainability of existing and new servic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rove quality of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al of AFNOR was approved by 26 of 34 ISO member countries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 standards were controvers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.S. believed a water/wastewater standard was unnecessa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tilities already working toward these objec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ort was duplicative of ISO 9000 &amp; 14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, Netherlands, and Germany also voted against the standard; 4 other countries abstai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3808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roposal for New ISO Standards for Water and Wastewater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Bottom Li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lost the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 Technical Committee (ISO/TC 224) for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Develop international standards for the management and assessment of drinking water and wastewater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3 member countries participating on the ISO/TC 2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st meeting held in September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water/wastewater-specific ISO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s drafting, review, and revision 2004-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inal ISO standards (24500 series) to be published in July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.S. Involvement in ISO/TC 224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merican National Standards Institu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NSI) is official member organization to I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WW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administrator of the U.S. Technical Advisory Group (TAG) and lead delegate to ISO/TC 2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MS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leading U.S. representative on behalf of publicly-owned treatment works (POTW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SA ISO Advisory Committee comprised of utility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.S. delegates supported via AMSA Targeted Action F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comment to U.S. TAG on draft ISO/TC 224 propos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 ISO/TC 224 meetings to voice U.S. POTWs’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SO/TC 224 Structure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Group 1 = Termi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Group 2 = Customer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Group 3 = Services Related to Drinking Water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Group 4 = Services Related to Wastewater Syste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se 4 groups have worked on a parallel track since 2002 to develop the draft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4:44:12Z</dcterms:created>
  <dc:creator>adam</dc:creator>
  <dc:description/>
  <dc:language>en-US</dc:language>
  <cp:lastModifiedBy>adam</cp:lastModifiedBy>
  <dcterms:modified xsi:type="dcterms:W3CDTF">2004-10-14T18:24:16Z</dcterms:modified>
  <cp:revision>44</cp:revision>
  <dc:subject/>
  <dc:title>NEW ISO WATER AND WASTEWATER STANDARDS . . . MEASURING IMPROV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