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6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wmf" ContentType="image/x-wmf"/>
  <Override PartName="/ppt/media/image18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2D6D-5875-4ED8-AC6D-32AEFE912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22BC-3CFB-49D0-9EF3-A95D3EAEB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6933-C0F4-4558-990C-FE7EA14B0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2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2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8B08-7EAE-4141-B4C4-30DF92F93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AA3A8-4A91-4CEF-9537-D589863E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A39E2-7621-4189-8A73-B7C5121A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B1B35-73B4-4D96-9C9C-78B2CFD9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E8C95-212D-4AB4-AB5C-3DB7BA94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D4A50-1C85-4BCC-8924-988C34A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B2353-8A1A-4BC0-BB56-C4D5B007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65DA1-C988-41FC-BDAB-7968993E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0CD2-D24A-40E6-933E-08D28DFCA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40880-D84B-4EF0-9146-AC9E4F98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F6BFF-9BD5-43F1-9577-A90F94AC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A05DA-989F-446E-AD24-0F1789FE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64729-A07D-4E9C-80A8-3E98F552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2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2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2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14443-6EC7-43B7-AE30-0E4C3296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1AC5-DBF3-4107-A402-0ECA03AA9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EB28-C300-4134-8914-903ABA339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390B-9E79-4722-854A-1CDF31B39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18E7-6CBD-44E8-A913-D56F7CA41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AF24-CADA-4681-97B2-D4983B2ED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13B6-42C5-42A1-A457-9A9DA4CDA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73BA-ED97-4B2E-81BC-CADFE99AE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19320"/>
            <a:ext cx="9142560" cy="152280"/>
            <a:chOff x="0" y="121932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21932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3344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457840" y="634356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C00B-5541-4ED1-8722-6118DBD2E0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31AB-E613-4237-8395-079E940FF77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2743200"/>
            <a:ext cx="9137880" cy="152280"/>
            <a:chOff x="4680" y="274320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274320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285732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598D-3454-47C1-9BF5-A9885A8B4A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cccc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1177560"/>
            <a:ext cx="667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 of New Yor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ment of Environmental Prote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3560" y="5856120"/>
            <a:ext cx="237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ctober 18-19, 200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048120"/>
            <a:ext cx="838224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York City’s Workplan fo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O Water Quality Assessments and UA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SA / CSOP / EPA Worksho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cago, Illino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7840" y="838080"/>
            <a:ext cx="1909800" cy="136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848720" y="582948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318440" y="38862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NYC Receiving Water Model System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603760" y="4495680"/>
            <a:ext cx="3429000" cy="2011320"/>
            <a:chOff x="5603760" y="4495680"/>
            <a:chExt cx="3429000" cy="2011320"/>
          </a:xfrm>
        </p:grpSpPr>
        <p:pic>
          <p:nvPicPr>
            <p:cNvPr id="131" name="" descr=""/>
            <p:cNvPicPr/>
            <p:nvPr/>
          </p:nvPicPr>
          <p:blipFill>
            <a:blip r:embed="rId1">
              <a:lum bright="-10000"/>
            </a:blip>
            <a:stretch/>
          </p:blipFill>
          <p:spPr>
            <a:xfrm>
              <a:off x="6165720" y="4495680"/>
              <a:ext cx="2305080" cy="1501920"/>
            </a:xfrm>
            <a:prstGeom prst="rect">
              <a:avLst/>
            </a:prstGeom>
            <a:ln w="28440">
              <a:solidFill>
                <a:srgbClr val="ff0033"/>
              </a:solidFill>
              <a:miter/>
            </a:ln>
          </p:spPr>
        </p:pic>
        <p:sp>
          <p:nvSpPr>
            <p:cNvPr id="132" name=""/>
            <p:cNvSpPr/>
            <p:nvPr/>
          </p:nvSpPr>
          <p:spPr>
            <a:xfrm>
              <a:off x="5603760" y="6019920"/>
              <a:ext cx="3429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Paerdegat Basin 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Receiving Water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238400" y="1447920"/>
            <a:ext cx="3105000" cy="4906440"/>
            <a:chOff x="1238400" y="1447920"/>
            <a:chExt cx="3105000" cy="4906440"/>
          </a:xfrm>
        </p:grpSpPr>
        <p:pic>
          <p:nvPicPr>
            <p:cNvPr id="134" name="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1238400" y="1447920"/>
              <a:ext cx="3105000" cy="4289400"/>
            </a:xfrm>
            <a:prstGeom prst="rect">
              <a:avLst/>
            </a:prstGeom>
            <a:ln w="12600">
              <a:solidFill>
                <a:srgbClr val="ff0033"/>
              </a:solidFill>
              <a:miter/>
            </a:ln>
          </p:spPr>
        </p:pic>
        <p:sp>
          <p:nvSpPr>
            <p:cNvPr id="135" name=""/>
            <p:cNvSpPr/>
            <p:nvPr/>
          </p:nvSpPr>
          <p:spPr>
            <a:xfrm>
              <a:off x="1371600" y="5867280"/>
              <a:ext cx="27432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System-Wide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Eutrophication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27760" y="1371600"/>
            <a:ext cx="2781000" cy="2610000"/>
            <a:chOff x="5927760" y="1371600"/>
            <a:chExt cx="2781000" cy="2610000"/>
          </a:xfrm>
        </p:grpSpPr>
        <p:pic>
          <p:nvPicPr>
            <p:cNvPr id="137" name="" descr=""/>
            <p:cNvPicPr/>
            <p:nvPr/>
          </p:nvPicPr>
          <p:blipFill>
            <a:blip r:embed="rId3">
              <a:lum bright="-10000"/>
            </a:blip>
            <a:stretch/>
          </p:blipFill>
          <p:spPr>
            <a:xfrm>
              <a:off x="5927760" y="1905120"/>
              <a:ext cx="278100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213240" y="1371600"/>
              <a:ext cx="2210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Jamaica Bay Eutrophication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5CDF-EE83-41C0-99E0-8F582C37E2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Comprehensive Engineering Evaluations for Long Term Control Planning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ne Minimum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ximize flow to WPCPs, et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ditional CSO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 / retention - inline, interceptors, tanks, conduits, tunne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Treatment - disinfection, high rate physical-chemic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DA / Real Time Contr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stream aeration / destratific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edging / re-contour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-of-Pipe floatables netting/booming and skimmer boa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ther Best Management Practic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ize runof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en solu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ADC4-C637-4B39-9224-5456004B48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rban Tributary Example: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aerdegat Basin Waterbody/Watershed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114800"/>
            <a:ext cx="3657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aterbody/Watershed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,600 feet long, 500 feet wid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freshwater flow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,500 combined sewer acr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75 separately sewered acr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roximately 70% imperviou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pulation = 470,000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7200" y="1523880"/>
            <a:ext cx="2666880" cy="2415960"/>
            <a:chOff x="457200" y="1523880"/>
            <a:chExt cx="2666880" cy="2415960"/>
          </a:xfrm>
        </p:grpSpPr>
        <p:sp>
          <p:nvSpPr>
            <p:cNvPr id="144" name=""/>
            <p:cNvSpPr/>
            <p:nvPr/>
          </p:nvSpPr>
          <p:spPr>
            <a:xfrm>
              <a:off x="1447920" y="2819160"/>
              <a:ext cx="914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57200" y="1523880"/>
              <a:ext cx="2666880" cy="2415960"/>
              <a:chOff x="457200" y="1523880"/>
              <a:chExt cx="2666880" cy="241596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523880"/>
                <a:ext cx="2666880" cy="2415960"/>
              </a:xfrm>
              <a:prstGeom prst="rect">
                <a:avLst/>
              </a:prstGeom>
              <a:ln w="19080">
                <a:solidFill>
                  <a:srgbClr val="800000"/>
                </a:solidFill>
                <a:miter/>
              </a:ln>
            </p:spPr>
          </p:pic>
          <p:grpSp>
            <p:nvGrpSpPr>
              <p:cNvPr id="147" name=""/>
              <p:cNvGrpSpPr/>
              <p:nvPr/>
            </p:nvGrpSpPr>
            <p:grpSpPr>
              <a:xfrm>
                <a:off x="1282680" y="1662480"/>
                <a:ext cx="993240" cy="537840"/>
                <a:chOff x="1282680" y="1662480"/>
                <a:chExt cx="993240" cy="537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345680" y="1662480"/>
                  <a:ext cx="930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bined</a:t>
                  </a:r>
                  <a:endParaRPr b="0" lang="en-US" sz="1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42800" y="1925280"/>
                  <a:ext cx="83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</a:t>
                  </a:r>
                  <a:endParaRPr b="0" lang="en-US" sz="1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282680" y="1702080"/>
                  <a:ext cx="126720" cy="13140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282680" y="1965240"/>
                  <a:ext cx="126720" cy="131760"/>
                </a:xfrm>
                <a:prstGeom prst="rect">
                  <a:avLst/>
                </a:prstGeom>
                <a:solidFill>
                  <a:srgbClr val="99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1981080" y="2742840"/>
              <a:ext cx="609840" cy="457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581280" y="1523880"/>
            <a:ext cx="2655360" cy="2317680"/>
            <a:chOff x="3581280" y="1523880"/>
            <a:chExt cx="2655360" cy="23176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3581280" y="1577880"/>
              <a:ext cx="2590560" cy="2263680"/>
            </a:xfrm>
            <a:prstGeom prst="rect">
              <a:avLst/>
            </a:prstGeom>
            <a:ln w="19080">
              <a:solidFill>
                <a:srgbClr val="993300"/>
              </a:solidFill>
              <a:miter/>
            </a:ln>
          </p:spPr>
        </p:pic>
        <p:sp>
          <p:nvSpPr>
            <p:cNvPr id="155" name=""/>
            <p:cNvSpPr/>
            <p:nvPr/>
          </p:nvSpPr>
          <p:spPr>
            <a:xfrm>
              <a:off x="3809880" y="1654200"/>
              <a:ext cx="228600" cy="30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33560" y="1730160"/>
              <a:ext cx="228600" cy="304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09880" y="2034720"/>
              <a:ext cx="152280" cy="2286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114440" y="2263320"/>
              <a:ext cx="1526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90400" y="18064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5320" y="20350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876200" y="22636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257440" y="2492280"/>
              <a:ext cx="1526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758000">
              <a:off x="3730680" y="2651400"/>
              <a:ext cx="174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aerdegat Basi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851720" y="1523880"/>
              <a:ext cx="1384920" cy="481320"/>
              <a:chOff x="4851720" y="1523880"/>
              <a:chExt cx="1384920" cy="48132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851720" y="1866960"/>
                <a:ext cx="344880" cy="57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866840" y="1666800"/>
                <a:ext cx="339120" cy="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16680" y="1523880"/>
                <a:ext cx="558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SO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08040" y="1730160"/>
                <a:ext cx="112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orm sewer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3505320" y="4114800"/>
            <a:ext cx="3657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served Waterbody Uses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reational Boat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oeing &amp; Kayak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sh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horeline Activities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rd watch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king trail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ina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524640" y="1523880"/>
            <a:ext cx="23907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C157-31C5-447F-A23B-9D54FB5973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aerdegat Basin CSO Control Pla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lan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 MG in-line storage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 MG off-line facility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redging as needed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iparian park designa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horeline mitiga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mmunity facil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357,000,000 total cost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lan Developed Using Knee-of-the-Curve Procedure Consistent with EPA Guidan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aerdegat Basin was presented by EPA as a CSO Control Policy case study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Resul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mproved dissolved oxyge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duced indicator bacteria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duced sediment deposi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rmanent floatables control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048120" cy="2424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2962440" cy="2374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39C8-954E-466A-9013-F39528294A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Uses Projected After 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CSO Control Plan Implementa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5200" y="5181480"/>
            <a:ext cx="4024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acility Plan Also Reduce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able Materials by 9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leable Solids by 80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18148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maining Issue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iteria for selecting use attainment level??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erdegat Basin (Head End) for an Average Precipitation Ye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4560" y="6507000"/>
            <a:ext cx="231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00"/>
                </a:solidFill>
                <a:latin typeface="Arial"/>
              </a:rPr>
              <a:t>(2)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100% Compliance at Mout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408480" y="1981080"/>
          <a:ext cx="24685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1981080"/>
                    <a:ext cx="2468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rot="16200000">
            <a:off x="2440080" y="3605400"/>
            <a:ext cx="183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tandards Complian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4200" y="6278400"/>
            <a:ext cx="434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00"/>
                </a:solidFill>
                <a:latin typeface="Arial"/>
              </a:rPr>
              <a:t>(1)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Draft Proposed NYSDEC Chronic (Propagation) Criteri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26668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4920" y="1981080"/>
            <a:ext cx="2743200" cy="3029040"/>
            <a:chOff x="304920" y="1981080"/>
            <a:chExt cx="2743200" cy="3029040"/>
          </a:xfrm>
        </p:grpSpPr>
        <p:graphicFrame>
          <p:nvGraphicFramePr>
            <p:cNvPr id="186" name=""/>
            <p:cNvGraphicFramePr/>
            <p:nvPr/>
          </p:nvGraphicFramePr>
          <p:xfrm>
            <a:off x="522360" y="1981080"/>
            <a:ext cx="2468520" cy="302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2360" y="1981080"/>
                      <a:ext cx="2468520" cy="30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 rot="16200000">
              <a:off x="-381240" y="3540240"/>
              <a:ext cx="1678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riteria Complianc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57400" y="29718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2362320"/>
              <a:ext cx="38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Modern"/>
                </a:rPr>
                <a:t>(1)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90720" y="4770360"/>
              <a:ext cx="2057400" cy="212760"/>
              <a:chOff x="990720" y="4770360"/>
              <a:chExt cx="2057400" cy="212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90720" y="4770360"/>
                <a:ext cx="7617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Base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Case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600200" y="4770360"/>
                <a:ext cx="762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Facility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Pla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33720" y="4770360"/>
                <a:ext cx="9144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Sewer Separatio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590920" y="27432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486400" y="26668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886200" y="4770360"/>
            <a:ext cx="2057400" cy="212760"/>
            <a:chOff x="3886200" y="4770360"/>
            <a:chExt cx="2057400" cy="212760"/>
          </a:xfrm>
        </p:grpSpPr>
        <p:sp>
          <p:nvSpPr>
            <p:cNvPr id="198" name=""/>
            <p:cNvSpPr/>
            <p:nvPr/>
          </p:nvSpPr>
          <p:spPr>
            <a:xfrm>
              <a:off x="3886200" y="4770360"/>
              <a:ext cx="761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Base</a:t>
              </a:r>
              <a:br>
                <a:rPr sz="1000"/>
              </a:b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4770360"/>
              <a:ext cx="762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acility</a:t>
              </a:r>
              <a:br>
                <a:rPr sz="1000"/>
              </a:b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9200" y="477036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Sewer Separation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118200" y="1981080"/>
            <a:ext cx="2720880" cy="3029040"/>
            <a:chOff x="6118200" y="1981080"/>
            <a:chExt cx="2720880" cy="3029040"/>
          </a:xfrm>
        </p:grpSpPr>
        <p:graphicFrame>
          <p:nvGraphicFramePr>
            <p:cNvPr id="202" name=""/>
            <p:cNvGraphicFramePr/>
            <p:nvPr/>
          </p:nvGraphicFramePr>
          <p:xfrm>
            <a:off x="6294600" y="1981080"/>
            <a:ext cx="2468520" cy="302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4600" y="1981080"/>
                      <a:ext cx="2468520" cy="30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 rot="16200000">
              <a:off x="5335560" y="3605400"/>
              <a:ext cx="1839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tandards Complianc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48720" y="33526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1880" y="373392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81680" y="4770360"/>
              <a:ext cx="2057400" cy="212760"/>
              <a:chOff x="6781680" y="4770360"/>
              <a:chExt cx="2057400" cy="212760"/>
            </a:xfrm>
          </p:grpSpPr>
          <p:sp>
            <p:nvSpPr>
              <p:cNvPr id="208" name=""/>
              <p:cNvSpPr/>
              <p:nvPr/>
            </p:nvSpPr>
            <p:spPr>
              <a:xfrm>
                <a:off x="6781680" y="4770360"/>
                <a:ext cx="7617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Base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Case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91160" y="4770360"/>
                <a:ext cx="762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Facility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Pla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24680" y="4770360"/>
                <a:ext cx="9144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Sewer Separatio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7A57-801D-4BB7-BCE7-6F8D3ECB1A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e Attainability in Paerdegat Basi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tor 3 – Human-caused conditions …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vious pavement, sewering and storm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lt in non-attainment of aquatic life protection, primary contact and aesthetic us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ear to cause adverse and irreversible impacts on benthic habitat/biota and affect aquatic life protect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tor 4 - Dams, diversions and … hydrologic modifications …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ydrologic modification to Paerdegat Bas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liminated natural runoff which dilutes and transports pollutant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ltered the natural geometry and depth which impacts tidal flushing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ltered the natural contiguous wetlands/habitat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lted in significant impervious drainage are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BF34-FCE0-4B9F-98D5-6FB41D3BB9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hysical Factor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7353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uman-Caused Conditions …to the Watershe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4920" y="5028840"/>
            <a:ext cx="4495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rbanization Has Increased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inage area imperviousnes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shed loa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gnitude and intensity of discharg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317840" y="2057400"/>
            <a:ext cx="4673880" cy="2792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213200" y="4511520"/>
            <a:ext cx="23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aerdegat Basin Watershed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76440" y="2048040"/>
            <a:ext cx="3429000" cy="237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07CA-A6F4-44F2-9DE7-A107317B2D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hysical Factors (continued)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800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ydrologic Modifications … to Paerdegat Basi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304880" y="19047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ysical Change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banization altered base freshwater flow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body channelized and dredg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formed from tidal creek to dredged drainage chann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ed shorelin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minated wetlan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used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uction of natural flush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ation of estuarine excha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ltation and formation of sand ba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mination of original habit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68640" y="40384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Circa 1900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0200" y="645624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944800" cy="2031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3057480" cy="2022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9B99-3551-4FC9-8B92-3B4B94FD27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Paerdegat Basin Water Use /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 WQS Recommendation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rove UA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stablish a Mixing Zone at the Head End for “Benthic Organism Survival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Upper Basin for “Fish Survival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Lower Basin for “Fish and Aquatic Life Propagation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Entire Basin for “Modified Primary Contact Recreation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bath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trict other primary contact uses during wet weather ev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 advisory indicating use limit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905280" y="1447920"/>
            <a:ext cx="5238720" cy="3646440"/>
            <a:chOff x="3905280" y="1447920"/>
            <a:chExt cx="5238720" cy="36464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3905280" y="1447920"/>
              <a:ext cx="5238720" cy="36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003080" y="2044800"/>
              <a:ext cx="119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pper Basin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3160" y="4057560"/>
              <a:ext cx="120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wer Basin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220800" y="3777840"/>
              <a:ext cx="1024200" cy="31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091200" y="2225160"/>
              <a:ext cx="849600" cy="835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83480" y="3221640"/>
              <a:ext cx="10994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SO Storage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753440" y="2661480"/>
              <a:ext cx="154080" cy="5720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29040" y="1686960"/>
              <a:ext cx="118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xing Zon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996800" y="1865880"/>
              <a:ext cx="66780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63840" y="1984680"/>
              <a:ext cx="1673640" cy="98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00000">
              <a:off x="5646600" y="2206800"/>
              <a:ext cx="85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,250 feet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227120" y="5307120"/>
            <a:ext cx="458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33"/>
                </a:solidFill>
                <a:latin typeface="Arial"/>
              </a:rPr>
              <a:t>Recommended Aquatic Life Use Classification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13FE-E07D-4195-A16F-96F6D5EB9D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Recommended Modifications to State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Waterbody Classifications and Standard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reate “Urban Tributary” Classific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gnize wet weather conditions when designating uses and applying water quality standar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ble to waterbodies that satisfy any UAA criter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ider developing generic procedure for testing with UAA crite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line water uses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sh and aquatic life surviv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conda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tact recre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attainable higher uses to be dependent upon effectiveness of CSO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ility Plan requir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ased on knee-of-the-cur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echnicall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easible and implement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dify  Narrative Standards for Floating Materials and Settleable Solids To Limit “Amounts Which Impair Waters For Their Best Uses”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CC14-A7CB-4099-AD90-A195E44D13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New York City’s Approach to 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SO Water Quality Assessment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ginning in 1983, Efforts Focused on Priority CSO Tributaries with Significant Water Use Problem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oxia, bacteria, odors, floatab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rform Detailed Data Collection, Modeling and Engineering To Define Knee-of-the-Curve Facility Pla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ulting Issu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ated Water Quality Standards (WQS) may or would not be attain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all designated uses are “fishable / swimmable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rn that additional investment may be requir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stions on permitt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proach – Conduct Use and Standards Attainment (USA) Project and Long Term Control Plan (LTCP) Proj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3788-C9E1-4100-8F93-4CE1F0BB7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Regulatory Reaction to USA Project / 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Paerdegat Basin UAA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YSDEC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d waterbody/watershed facility plan (LTCP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viewing draft UAA but has not commen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SEPA Region 2 (Letter to NYSDEC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A Proje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ders USA Project very valuable for WQSR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ges NYSDEC to complete revisions to WQS as applicable for harbor-wide TMD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ders completion of Paerdegat Basin Plan significant with possible application to other tributar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erdegat Bas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ges NYSDEC to adopt modified aquatic life use designations with application to other modified and altered urban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mmends NYSDEC to consider one of four primary contact recreational categories with possible suspension for specified wet ev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mmends NYSDEC revise narrative criteria to protect best uses rather than require “none, in any amount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27E5-DAE6-447B-AA7B-31EEA49E19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Features of NYC’s USA and LTCP Project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609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monstration Approach for LTCP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body / Watershed Assessmen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urban tributar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 open water are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Goa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current and desired water-based and shoreline u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appropriate attainable uses with public/community involve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ncile water quality standards to highest reasonably attainable u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 basis for potential UA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 Long Term Control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22880" y="1403280"/>
            <a:ext cx="3741840" cy="5149800"/>
            <a:chOff x="5222880" y="1403280"/>
            <a:chExt cx="3741840" cy="51498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222880" y="1403280"/>
              <a:ext cx="3741840" cy="51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5222880" y="1403280"/>
              <a:ext cx="3741840" cy="514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cc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54CD-F35F-4906-8C06-ABD966FF55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048120"/>
            <a:ext cx="5662440" cy="262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body/Watershed Assessment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body-specific information and historical data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WQS, policies, local concerns/interests/issues,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, prioritize and rank all issue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nd execute waterbody/watershed-specific data analysi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pproaches to attain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alternatives to achieve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mend uses and Water Quality Standard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waterbody/watershed plan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preliminary environmental review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129120"/>
            <a:ext cx="2552760" cy="157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body and Watershed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Modeling and GI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y Plan Assessm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Use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1833480"/>
            <a:ext cx="2552760" cy="11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ing Water Qualit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and Habita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eline Characteriza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881600"/>
            <a:ext cx="2552760" cy="166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ering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 Technologi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ve Approach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Management Practic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shed Control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Rank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081160"/>
            <a:ext cx="4147920" cy="58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ment Steering Committe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body/Watershed Stakeholder Team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43600" y="3886200"/>
            <a:ext cx="380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867280" y="2590920"/>
            <a:ext cx="45720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43600" y="5181480"/>
            <a:ext cx="380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USA / LTCP Project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erbody/Watershed Assessment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6248520"/>
            <a:ext cx="41482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O Long Term Control Pla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791320"/>
            <a:ext cx="19814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QSRR / UA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654520"/>
            <a:ext cx="0" cy="603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1400040"/>
            <a:ext cx="4147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Waterbody / Watershed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704960"/>
            <a:ext cx="0" cy="393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594360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2395-0E2E-481E-8405-B6E908F93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Agency and Public Participatio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overnment Steering Committe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s program oversight with periodic meet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resents EPA regional office, NYSDEC, and other federal, interstate and City agenc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aterbody / Watershed Stakeholder Team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s community representation, local riparian and waterbody users, non-governmental organizations, and civic lead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 local uses and impair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and prioritize local water us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ent on pla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1878-A62C-4CAD-86F5-0EF0A00C93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Ecosystem and Recreational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e Assessment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osystem Use Evaluation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racterize current condi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 in benthic diversity (TOC reduct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 in fish diversity / abund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habitat for spawning (suitability and significanc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to referenc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reational Use Evaluation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stakeholders’ current and desired u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potential suitability for primary conta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al nature (bulkheads, acces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liance with city / state regulations (e.g. beache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afety (conflicts with recreational and commercial marine traffic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1207-7D66-447F-B71A-674E9C88CD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A / LTCP Data Program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(Historical and Current)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oal: Characterize Current Condi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shed / Waterbod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y and wet weather, short- and long-ter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thodology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ile past CSO facility planning projects’ and others’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ement as necessary for USA / LTC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shed Investigation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wer system configuration and perform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charge volumes and pollutant loads (BOD,  TSS, bacteria,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Investigation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ysical (dye, geometry, surficial geology, floatab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mical (DO, BOD, nutrients, Chl-a, TSS, SOD, bacteria, toxics,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ological (fish, icthyo, benthic infauna/epifauna, habita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D5AB-DB15-4282-BD7C-13AE79EBE2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Historical / USA / LTCP Sampling Locations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7040" y="6324120"/>
            <a:ext cx="370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33"/>
                </a:solidFill>
                <a:latin typeface="Arial"/>
              </a:rPr>
              <a:t>Receiving Water Qual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8760" y="6324120"/>
            <a:ext cx="251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33"/>
                </a:solidFill>
                <a:latin typeface="Arial"/>
              </a:rPr>
              <a:t>Receiving Water Biolog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0880" y="1447920"/>
            <a:ext cx="3452760" cy="472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997520" y="1447920"/>
            <a:ext cx="34527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BA91-E911-4040-95C7-BE65775351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Waterbody/Watershed Mathematical Modeling Analysi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deling Methodology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n-Waters for regional and harbor-wide plan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butaries for priority CSO plan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shed Models of Combined and Separate Sewer System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ty-year effor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runoff to complex hydraulics (rational method, SWMM, InfoWork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calibration to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Models of Open Waters and Urban Tributar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ee-dimensional and time vary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ydrodynamics, eutrophication, DO balance, solids deposition, bacte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calibration to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nual and multi-year simula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ion Condi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li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Facility Plans (up to 100% CSO abatemen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wer Sepa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31A6-77DC-43FD-82A5-68F32E25CE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5:10Z</dcterms:created>
  <dc:creator/>
  <dc:description>for 10/18/04 conference</dc:description>
  <dc:language>en-US</dc:language>
  <cp:lastModifiedBy> </cp:lastModifiedBy>
  <cp:lastPrinted>1999-02-02T22:32:14Z</cp:lastPrinted>
  <dcterms:modified xsi:type="dcterms:W3CDTF">2004-10-18T14:52:13Z</dcterms:modified>
  <cp:revision>498</cp:revision>
  <dc:subject/>
  <dc:title>New York City's Approach to CSO Water Quality Assessments and the U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www.hydroqual.com</vt:lpwstr>
  </property>
  <property fmtid="{D5CDD505-2E9C-101B-9397-08002B2CF9AE}" pid="9" name="LinkColor">
    <vt:r8>16711782</vt:r8>
  </property>
  <property fmtid="{D5CDD505-2E9C-101B-9397-08002B2CF9AE}" pid="10" name="MailAddress">
    <vt:lpwstr>wmcmillin@hydroqua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Users\wmcmillin\99NYWEA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