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6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7.wmf" ContentType="image/x-wmf"/>
  <Override PartName="/ppt/media/image18.jpeg" ContentType="image/jpeg"/>
  <Override PartName="/ppt/media/image15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BFE7-2BF5-4FFB-82B8-39B9088C4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5BAC-0C9C-4B0D-8C03-51AC073CB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67E4-9B0E-4083-99B3-E03466D2D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27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27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34B4-C249-43C4-8C2C-08AB5C0C1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B1C99-F88B-4D43-A774-49B4CD7E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1A02B-89AC-4C5E-B9D7-39D6D73A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BD37B-0E3E-4390-8442-02EE8BAC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A24A2-B054-4AA4-8D56-E36B9CB8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FD7A5-FADF-4989-88E2-ED38AF81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3A538-7F88-4BB0-90EC-9AA77695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9132C-3D68-4561-9145-B7898DC4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FEBD-74F5-44CB-8AA9-FFC5892F4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57BDE-EE87-4547-AC76-76A320AA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43A25-620C-4AD7-87C2-2EFE5ED9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27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4FC02-AD40-4689-9FEA-0C24CAD7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8C9C6-0A02-4AE0-9E47-67E3642E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27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272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025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27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550E2-D8FA-4FF1-9BDE-FD68C460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DEF8-ED79-4AD4-AF95-BD221AFA3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05AB-672C-41C5-B164-10A905AF8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0750-F49A-4E95-AB73-3FC6289F1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C6F5-BF8F-4A44-895D-C39B1CFD4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40C7-7412-4728-ADD6-C32D1BE09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8B2D-8ABB-47F8-A4C0-861D9A634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6F43-8EC1-4EAB-A252-535BB27E2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19320"/>
            <a:ext cx="9142560" cy="152280"/>
            <a:chOff x="0" y="121932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21932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3344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cc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457840" y="634356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3A5E-52D4-4A8C-91BA-BF72555C25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951E-00E6-4914-8789-54A0048AF263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80" y="2743200"/>
            <a:ext cx="9137880" cy="152280"/>
            <a:chOff x="4680" y="2743200"/>
            <a:chExt cx="9137880" cy="152280"/>
          </a:xfrm>
        </p:grpSpPr>
        <p:sp>
          <p:nvSpPr>
            <p:cNvPr id="46" name=""/>
            <p:cNvSpPr/>
            <p:nvPr/>
          </p:nvSpPr>
          <p:spPr>
            <a:xfrm>
              <a:off x="4680" y="274320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80" y="285732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E0E1-A470-4F86-9BEC-F2D81A5818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cccc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0" y="1177560"/>
            <a:ext cx="667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ty of New Yor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artment of Environmental Prote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73560" y="5856120"/>
            <a:ext cx="2378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ctober 18-19, 2004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048120"/>
            <a:ext cx="838224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York City’s Workplan for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SO Water Quality Assessments and UA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SA / CSOP / EPA Worksho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icago, Illino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7840" y="838080"/>
            <a:ext cx="1909800" cy="1365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848720" y="5829480"/>
            <a:ext cx="13716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318440" y="388620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NYC Receiving Water Model System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97180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603760" y="4495680"/>
            <a:ext cx="3429000" cy="2011320"/>
            <a:chOff x="5603760" y="4495680"/>
            <a:chExt cx="3429000" cy="2011320"/>
          </a:xfrm>
        </p:grpSpPr>
        <p:pic>
          <p:nvPicPr>
            <p:cNvPr id="131" name="" descr=""/>
            <p:cNvPicPr/>
            <p:nvPr/>
          </p:nvPicPr>
          <p:blipFill>
            <a:blip r:embed="rId1">
              <a:lum bright="-10000"/>
            </a:blip>
            <a:stretch/>
          </p:blipFill>
          <p:spPr>
            <a:xfrm>
              <a:off x="6165720" y="4495680"/>
              <a:ext cx="2305080" cy="1501920"/>
            </a:xfrm>
            <a:prstGeom prst="rect">
              <a:avLst/>
            </a:prstGeom>
            <a:ln w="28440">
              <a:solidFill>
                <a:srgbClr val="ff0033"/>
              </a:solidFill>
              <a:miter/>
            </a:ln>
          </p:spPr>
        </p:pic>
        <p:sp>
          <p:nvSpPr>
            <p:cNvPr id="132" name=""/>
            <p:cNvSpPr/>
            <p:nvPr/>
          </p:nvSpPr>
          <p:spPr>
            <a:xfrm>
              <a:off x="5603760" y="6019920"/>
              <a:ext cx="3429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Paerdegat Basin 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Receiving Water Mode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238400" y="1447920"/>
            <a:ext cx="3105000" cy="4906440"/>
            <a:chOff x="1238400" y="1447920"/>
            <a:chExt cx="3105000" cy="4906440"/>
          </a:xfrm>
        </p:grpSpPr>
        <p:pic>
          <p:nvPicPr>
            <p:cNvPr id="134" name="" descr=""/>
            <p:cNvPicPr/>
            <p:nvPr/>
          </p:nvPicPr>
          <p:blipFill>
            <a:blip r:embed="rId2">
              <a:lum bright="-10000"/>
            </a:blip>
            <a:stretch/>
          </p:blipFill>
          <p:spPr>
            <a:xfrm>
              <a:off x="1238400" y="1447920"/>
              <a:ext cx="3105000" cy="4289400"/>
            </a:xfrm>
            <a:prstGeom prst="rect">
              <a:avLst/>
            </a:prstGeom>
            <a:ln w="12600">
              <a:solidFill>
                <a:srgbClr val="ff0033"/>
              </a:solidFill>
              <a:miter/>
            </a:ln>
          </p:spPr>
        </p:pic>
        <p:sp>
          <p:nvSpPr>
            <p:cNvPr id="135" name=""/>
            <p:cNvSpPr/>
            <p:nvPr/>
          </p:nvSpPr>
          <p:spPr>
            <a:xfrm>
              <a:off x="1371600" y="5867280"/>
              <a:ext cx="27432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System-Wide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Eutrophication Mode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927760" y="1371600"/>
            <a:ext cx="2781000" cy="2610000"/>
            <a:chOff x="5927760" y="1371600"/>
            <a:chExt cx="2781000" cy="2610000"/>
          </a:xfrm>
        </p:grpSpPr>
        <p:pic>
          <p:nvPicPr>
            <p:cNvPr id="137" name="" descr=""/>
            <p:cNvPicPr/>
            <p:nvPr/>
          </p:nvPicPr>
          <p:blipFill>
            <a:blip r:embed="rId3">
              <a:lum bright="-10000"/>
            </a:blip>
            <a:stretch/>
          </p:blipFill>
          <p:spPr>
            <a:xfrm>
              <a:off x="5927760" y="1905120"/>
              <a:ext cx="278100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213240" y="1371600"/>
              <a:ext cx="2210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Jamaica Bay Eutrophication Mode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A404-3899-4D29-9D46-2276712BFA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Comprehensive Engineering Evaluations for Long Term Control Planning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27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ine Minimum Control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ximize flow to WPCPs, et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dditional CSO Control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age / retention - inline, interceptors, tanks, conduits, tunnel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e Treatment - disinfection, high rate physical-chemic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ADA / Real Time Contr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ceiving Water Control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stream aeration / destratific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edging / re-contour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-of-Pipe floatables netting/booming and skimmer boa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ther Best Management Practic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er conserv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ize runof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een solu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09A9-12C9-4944-A7BB-4108186CA7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Urban Tributary Example: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Paerdegat Basin Waterbody/Watershed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114800"/>
            <a:ext cx="3657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aterbody/Watershed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,600 feet long, 500 feet wid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freshwater flow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,500 combined sewer acr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75 separately sewered acr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roximately 70% imperviou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pulation = 470,000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57200" y="1523880"/>
            <a:ext cx="2666880" cy="2415960"/>
            <a:chOff x="457200" y="1523880"/>
            <a:chExt cx="2666880" cy="2415960"/>
          </a:xfrm>
        </p:grpSpPr>
        <p:sp>
          <p:nvSpPr>
            <p:cNvPr id="144" name=""/>
            <p:cNvSpPr/>
            <p:nvPr/>
          </p:nvSpPr>
          <p:spPr>
            <a:xfrm>
              <a:off x="1447920" y="2819160"/>
              <a:ext cx="914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57200" y="1523880"/>
              <a:ext cx="2666880" cy="2415960"/>
              <a:chOff x="457200" y="1523880"/>
              <a:chExt cx="2666880" cy="2415960"/>
            </a:xfrm>
          </p:grpSpPr>
          <p:pic>
            <p:nvPicPr>
              <p:cNvPr id="1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1523880"/>
                <a:ext cx="2666880" cy="2415960"/>
              </a:xfrm>
              <a:prstGeom prst="rect">
                <a:avLst/>
              </a:prstGeom>
              <a:ln w="19080">
                <a:solidFill>
                  <a:srgbClr val="800000"/>
                </a:solidFill>
                <a:miter/>
              </a:ln>
            </p:spPr>
          </p:pic>
          <p:grpSp>
            <p:nvGrpSpPr>
              <p:cNvPr id="147" name=""/>
              <p:cNvGrpSpPr/>
              <p:nvPr/>
            </p:nvGrpSpPr>
            <p:grpSpPr>
              <a:xfrm>
                <a:off x="1282680" y="1662480"/>
                <a:ext cx="993240" cy="537840"/>
                <a:chOff x="1282680" y="1662480"/>
                <a:chExt cx="993240" cy="537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345680" y="1662480"/>
                  <a:ext cx="930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bined</a:t>
                  </a:r>
                  <a:endParaRPr b="0" lang="en-US" sz="1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42800" y="1925280"/>
                  <a:ext cx="831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parate</a:t>
                  </a:r>
                  <a:endParaRPr b="0" lang="en-US" sz="1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282680" y="1702080"/>
                  <a:ext cx="126720" cy="131400"/>
                </a:xfrm>
                <a:prstGeom prst="rect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282680" y="1965240"/>
                  <a:ext cx="126720" cy="131760"/>
                </a:xfrm>
                <a:prstGeom prst="rect">
                  <a:avLst/>
                </a:prstGeom>
                <a:solidFill>
                  <a:srgbClr val="99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"/>
            <p:cNvSpPr/>
            <p:nvPr/>
          </p:nvSpPr>
          <p:spPr>
            <a:xfrm>
              <a:off x="1981080" y="2742840"/>
              <a:ext cx="609840" cy="457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581280" y="1523880"/>
            <a:ext cx="2655360" cy="2317680"/>
            <a:chOff x="3581280" y="1523880"/>
            <a:chExt cx="2655360" cy="231768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3581280" y="1577880"/>
              <a:ext cx="2590560" cy="2263680"/>
            </a:xfrm>
            <a:prstGeom prst="rect">
              <a:avLst/>
            </a:prstGeom>
            <a:ln w="19080">
              <a:solidFill>
                <a:srgbClr val="993300"/>
              </a:solidFill>
              <a:miter/>
            </a:ln>
          </p:spPr>
        </p:pic>
        <p:sp>
          <p:nvSpPr>
            <p:cNvPr id="155" name=""/>
            <p:cNvSpPr/>
            <p:nvPr/>
          </p:nvSpPr>
          <p:spPr>
            <a:xfrm>
              <a:off x="3809880" y="1654200"/>
              <a:ext cx="228600" cy="3045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33560" y="1730160"/>
              <a:ext cx="228600" cy="3049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09880" y="2034720"/>
              <a:ext cx="152280" cy="2286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114440" y="2263320"/>
              <a:ext cx="15264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190400" y="1806480"/>
              <a:ext cx="15228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495320" y="2035080"/>
              <a:ext cx="15228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876200" y="2263680"/>
              <a:ext cx="15228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257440" y="2492280"/>
              <a:ext cx="15264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758000">
              <a:off x="3730680" y="2651400"/>
              <a:ext cx="174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Paerdegat Basin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851720" y="1523880"/>
              <a:ext cx="1384920" cy="481320"/>
              <a:chOff x="4851720" y="1523880"/>
              <a:chExt cx="1384920" cy="48132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4851720" y="1866960"/>
                <a:ext cx="344880" cy="57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866840" y="1666800"/>
                <a:ext cx="339120" cy="0"/>
              </a:xfrm>
              <a:prstGeom prst="line">
                <a:avLst/>
              </a:prstGeom>
              <a:ln w="381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116680" y="1523880"/>
                <a:ext cx="558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SO</a:t>
                </a:r>
                <a:endParaRPr b="0" lang="en-US" sz="1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108040" y="1730160"/>
                <a:ext cx="112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torm sewer</a:t>
                </a:r>
                <a:endParaRPr b="0" lang="en-US" sz="1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3505320" y="4114800"/>
            <a:ext cx="3657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60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served Waterbody Uses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reational Boatin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noeing &amp; Kayakin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shin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horeline Activities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rd watchin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lking trail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ina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524640" y="1523880"/>
            <a:ext cx="239076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6F73-7B93-444D-A679-D8230A5139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Paerdegat Basin CSO Control Plan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62800" indent="-26280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lan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 MG in-line storage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0 MG off-line facility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redging as needed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iparian park designation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horeline mitigation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ommunity facil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$357,000,000 total cost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lan Developed Using Knee-of-the-Curve Procedure Consistent with EPA Guidan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aerdegat Basin was presented by EPA as a CSO Control Policy case study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Result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mproved dissolved oxygen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duced indicator bacteria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duced sediment deposition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ermanent floatables control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048120" cy="24242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2962440" cy="23749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22CE-491B-49E6-A27F-4B6AB622D7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Uses Projected After </a:t>
            </a:r>
            <a:br>
              <a:rPr sz="32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CSO Control Plan Implementa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5200" y="5181480"/>
            <a:ext cx="4024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acility Plan Also Reduce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oatable Materials by 91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tleable Solids by 80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5181480"/>
            <a:ext cx="373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maining Issue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riteria for selecting use attainment level??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erdegat Basin (Head End) for an Average Precipitation Yea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4560" y="6507000"/>
            <a:ext cx="231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00"/>
                </a:solidFill>
                <a:latin typeface="Arial"/>
              </a:rPr>
              <a:t>(2)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100% Compliance at Mouth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408480" y="1981080"/>
          <a:ext cx="246852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1981080"/>
                    <a:ext cx="24685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rot="16200000">
            <a:off x="2440080" y="3605400"/>
            <a:ext cx="1839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tandards Complian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4200" y="6278400"/>
            <a:ext cx="434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00"/>
                </a:solidFill>
                <a:latin typeface="Arial"/>
              </a:rPr>
              <a:t>(1)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Draft Proposed NYSDEC Chronic (Propagation) Criteria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266688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4920" y="1981080"/>
            <a:ext cx="2743200" cy="3029040"/>
            <a:chOff x="304920" y="1981080"/>
            <a:chExt cx="2743200" cy="3029040"/>
          </a:xfrm>
        </p:grpSpPr>
        <p:graphicFrame>
          <p:nvGraphicFramePr>
            <p:cNvPr id="186" name=""/>
            <p:cNvGraphicFramePr/>
            <p:nvPr/>
          </p:nvGraphicFramePr>
          <p:xfrm>
            <a:off x="522360" y="1981080"/>
            <a:ext cx="2468520" cy="302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2360" y="1981080"/>
                      <a:ext cx="2468520" cy="30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 rot="16200000">
              <a:off x="-381240" y="3540240"/>
              <a:ext cx="1678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riteria Complianc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57400" y="297180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0" y="2362320"/>
              <a:ext cx="38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Modern"/>
                </a:rPr>
                <a:t>(1)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90720" y="4770360"/>
              <a:ext cx="2057400" cy="212760"/>
              <a:chOff x="990720" y="4770360"/>
              <a:chExt cx="2057400" cy="212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90720" y="4770360"/>
                <a:ext cx="76176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Base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Case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600200" y="4770360"/>
                <a:ext cx="7621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Facility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Plan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133720" y="4770360"/>
                <a:ext cx="9144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Sewer Separation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590920" y="274320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486400" y="26668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886200" y="4770360"/>
            <a:ext cx="2057400" cy="212760"/>
            <a:chOff x="3886200" y="4770360"/>
            <a:chExt cx="2057400" cy="212760"/>
          </a:xfrm>
        </p:grpSpPr>
        <p:sp>
          <p:nvSpPr>
            <p:cNvPr id="198" name=""/>
            <p:cNvSpPr/>
            <p:nvPr/>
          </p:nvSpPr>
          <p:spPr>
            <a:xfrm>
              <a:off x="3886200" y="4770360"/>
              <a:ext cx="761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Base</a:t>
              </a:r>
              <a:br>
                <a:rPr sz="1000"/>
              </a:b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Case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5680" y="4770360"/>
              <a:ext cx="762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Facility</a:t>
              </a:r>
              <a:br>
                <a:rPr sz="1000"/>
              </a:b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29200" y="4770360"/>
              <a:ext cx="914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Sewer Separation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118200" y="1981080"/>
            <a:ext cx="2720880" cy="3029040"/>
            <a:chOff x="6118200" y="1981080"/>
            <a:chExt cx="2720880" cy="3029040"/>
          </a:xfrm>
        </p:grpSpPr>
        <p:graphicFrame>
          <p:nvGraphicFramePr>
            <p:cNvPr id="202" name=""/>
            <p:cNvGraphicFramePr/>
            <p:nvPr/>
          </p:nvGraphicFramePr>
          <p:xfrm>
            <a:off x="6294600" y="1981080"/>
            <a:ext cx="2468520" cy="302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94600" y="1981080"/>
                      <a:ext cx="2468520" cy="30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 rot="16200000">
              <a:off x="5335560" y="3605400"/>
              <a:ext cx="1839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tandards Complianc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48720" y="335268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81880" y="3733920"/>
              <a:ext cx="38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781680" y="4770360"/>
              <a:ext cx="2057400" cy="212760"/>
              <a:chOff x="6781680" y="4770360"/>
              <a:chExt cx="2057400" cy="212760"/>
            </a:xfrm>
          </p:grpSpPr>
          <p:sp>
            <p:nvSpPr>
              <p:cNvPr id="208" name=""/>
              <p:cNvSpPr/>
              <p:nvPr/>
            </p:nvSpPr>
            <p:spPr>
              <a:xfrm>
                <a:off x="6781680" y="4770360"/>
                <a:ext cx="76176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Base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Case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391160" y="4770360"/>
                <a:ext cx="7621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Facility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Plan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924680" y="4770360"/>
                <a:ext cx="9144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Sewer Separation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1F3F-62B0-4C33-8521-91DC9EB7B1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Use Attainability in Paerdegat Basin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tor 3 – Human-caused conditions …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vious pavement, sewering and storm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ult in non-attainment of aquatic life protection, primary contact and aesthetic us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ppear to cause adverse and irreversible impacts on benthic habitat/biota and affect aquatic life protection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tor 4 - Dams, diversions and … hydrologic modifications …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ydrologic modification to Paerdegat Bas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liminated natural runoff which dilutes and transports pollutant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ltered the natural geometry and depth which impacts tidal flushing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ltered the natural contiguous wetlands/habitat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ulted in significant impervious drainage are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3E31-33B3-485D-93F0-86A0341F4B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Physical Factor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7353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uman-Caused Conditions …to the Watershe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4920" y="5028840"/>
            <a:ext cx="4495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rbanization Has Increased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inage area imperviousnes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ershed load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gnitude and intensity of discharg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317840" y="2057400"/>
            <a:ext cx="4673880" cy="2792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213200" y="4511520"/>
            <a:ext cx="23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aerdegat Basin Watershed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76440" y="2048040"/>
            <a:ext cx="3429000" cy="237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AD19-B495-4CFF-8EB6-E3D22E5443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Physical Factors (continued)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2720" y="1447920"/>
            <a:ext cx="88009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ydrologic Modifications … to Paerdegat Basi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304880" y="1904760"/>
            <a:ext cx="495324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hysical Change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rbanization altered base freshwater flow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erbody channelized and dredg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formed from tidal creek to dredged drainage chann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ed shorelin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iminated wetland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used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uction of natural flush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ation of estuarine excha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ltation and formation of sand bar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imination of original habit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68640" y="40384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Circa 1900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10200" y="645624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Toda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2944800" cy="20318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3057480" cy="2022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4552-B609-42C8-9007-9DEF61C56E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Paerdegat Basin Water Use /</a:t>
            </a:r>
            <a:br>
              <a:rPr sz="32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 WQS Recommendations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pprove UA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stablish a Mixing Zone at the Head End for “Benthic Organism Survival”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assify Upper Basin for “Fish Survival”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assify Lower Basin for “Fish and Aquatic Life Propagation”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assify Entire Basin for “Modified Primary Contact Recreation”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bathi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trict other primary contact uses during wet weather ev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 advisory indicating use limita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905280" y="1447920"/>
            <a:ext cx="5238720" cy="3646440"/>
            <a:chOff x="3905280" y="1447920"/>
            <a:chExt cx="5238720" cy="36464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3905280" y="1447920"/>
              <a:ext cx="5238720" cy="36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003080" y="2044800"/>
              <a:ext cx="119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pper Basin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3160" y="4057560"/>
              <a:ext cx="120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wer Basin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220800" y="3777840"/>
              <a:ext cx="1024200" cy="31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091200" y="2225160"/>
              <a:ext cx="849600" cy="835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83480" y="3221640"/>
              <a:ext cx="10994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SO Storage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753440" y="2661480"/>
              <a:ext cx="154080" cy="5720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29040" y="1686960"/>
              <a:ext cx="118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xing Zon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996800" y="1865880"/>
              <a:ext cx="667800" cy="598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63840" y="1984680"/>
              <a:ext cx="1673640" cy="98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00000">
              <a:off x="5646600" y="2206800"/>
              <a:ext cx="85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,250 feet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227120" y="5307120"/>
            <a:ext cx="458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33"/>
                </a:solidFill>
                <a:latin typeface="Arial"/>
              </a:rPr>
              <a:t>Recommended Aquatic Life Use Classification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8BA76-03E2-45D1-9403-AA55F20BC3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Recommended Modifications to State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Waterbody Classifications and Standard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reate “Urban Tributary” Classific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gnize wet weather conditions when designating uses and applying water quality standard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ble to waterbodies that satisfy any UAA criter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sider developing generic procedure for testing with UAA criter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eline water uses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ish and aquatic life surviv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conda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tact recrea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attainable higher uses to be dependent upon effectiveness of CSO Pla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ility Plan requir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ased on knee-of-the-curv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echnicall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easible and implement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dify  Narrative Standards for Floating Materials and Settleable Solids To Limit “Amounts Which Impair Waters For Their Best Uses”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D550-6673-4838-88C5-156BD3C97A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New York City’s Approach to 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CSO Water Quality Assessment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ginning in 1983, Efforts Focused on Priority CSO Tributaries with Significant Water Use Problem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oxia, bacteria, odors, floatab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rform Detailed Data Collection, Modeling and Engineering To Define Knee-of-the-Curve Facility Pla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ulting Issu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ignated Water Quality Standards (WQS) may or would not be attain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all designated uses are “fishable / swimmable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cern that additional investment may be requir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stions on permitt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pproach – Conduct Use and Standards Attainment (USA) Project and Long Term Control Plan (LTCP) Proj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08EA-761B-4A9A-854F-714641AF3C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Regulatory Reaction to USA Project / </a:t>
            </a:r>
            <a:br>
              <a:rPr sz="32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Paerdegat Basin UAA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YSDEC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d waterbody/watershed facility plan (LTCP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viewing draft UAA but has not comment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SEPA Region 2 (Letter to NYSDEC)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USA Projec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iders USA Project very valuable for WQSR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rges NYSDEC to complete revisions to WQS as applicable for harbor-wide TMDL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iders completion of Paerdegat Basin Plan significant with possible application to other tributari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aerdegat Bas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rges NYSDEC to adopt modified aquatic life use designations with application to other modified and altered urban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mmends NYSDEC to consider one of four primary contact recreational categories with possible suspension for specified wet ev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mmends NYSDEC revise narrative criteria to protect best uses rather than require “none, in any amount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E778-FE32-44D5-AD1C-8D0F0D22DF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Features of NYC’s USA and LTCP Projects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609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monstration Approach for LTCP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aterbody / Watershed Assessment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7 urban tributari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 open water are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 Goal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entify current and desired water-based and shoreline u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entify appropriate attainable uses with public/community involve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ncile water quality standards to highest reasonably attainable u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 basis for potential UA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 Long Term Control Pla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22880" y="1403280"/>
            <a:ext cx="3741840" cy="5149800"/>
            <a:chOff x="5222880" y="1403280"/>
            <a:chExt cx="3741840" cy="51498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5222880" y="1403280"/>
              <a:ext cx="3741840" cy="51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5222880" y="1403280"/>
              <a:ext cx="3741840" cy="514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00cc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CFDB-CC01-40E6-8D08-A6FEEDF352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3048120"/>
            <a:ext cx="5662440" cy="262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body/Watershed Assessment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body-specific information and historical data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WQS, policies, local concerns/interests/issues, goal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, prioritize and rank all issue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nd execute waterbody/watershed-specific data analysi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pproaches to attain goal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alternatives to achieve goal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mend uses and Water Quality Standard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waterbody/watershed plan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 preliminary environmental review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3129120"/>
            <a:ext cx="2552760" cy="157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erbody and Watershed Analy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Modeling and GI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y Plan Assessmen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Analy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Use Analy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1833480"/>
            <a:ext cx="2552760" cy="11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ing Water Qualit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and Habita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eline Characterizatio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4881600"/>
            <a:ext cx="2552760" cy="166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ineering Analy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ering Technologi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ve Approach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Management Practic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shed Control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Rankin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081160"/>
            <a:ext cx="4147920" cy="58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vernment Steering Committe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body/Watershed Stakeholder Team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2666880"/>
            <a:ext cx="0" cy="3812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943600" y="3886200"/>
            <a:ext cx="380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867280" y="2590920"/>
            <a:ext cx="45720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943600" y="5181480"/>
            <a:ext cx="380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USA / LTCP Project</a:t>
            </a:r>
            <a:br>
              <a:rPr sz="32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erbody/Watershed Assessments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6248520"/>
            <a:ext cx="41482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O Long Term Control Pla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791320"/>
            <a:ext cx="19814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QSRR / UA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5654520"/>
            <a:ext cx="0" cy="6033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00240" y="1400040"/>
            <a:ext cx="4147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 Waterbody / Watershed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704960"/>
            <a:ext cx="0" cy="3938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5943600"/>
            <a:ext cx="8380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E684-9B44-48B1-8839-7624B23B11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Agency and Public Participation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overnment Steering Committe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s program oversight with periodic meet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resents EPA regional office, NYSDEC, and other federal, interstate and City agenc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aterbody / Watershed Stakeholder Team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es community representation, local riparian and waterbody users, non-governmental organizations, and civic lead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 local uses and impair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and prioritize local water use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ent on pla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0F50-5781-42FF-BF5B-0422B3CA2E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Ecosystem and Recreational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Use Assessment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osystem Use Evaluation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racterize current condi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potential improvement in benthic diversity (TOC reduct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potential improvement in fish diversity / abund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habitat for spawning (suitability and significanc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to reference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creational Use Evaluation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stakeholders’ current and desired u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potential suitability for primary conta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hysical nature (bulkheads, access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mpliance with city / state regulations (e.g. beaches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afety (conflicts with recreational and commercial marine traffic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93E0-EFB1-49E1-BDF2-CB851FB71B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USA / LTCP Data Program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(Historical and Current)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oal: Characterize Current Condi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ershed / Waterbod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y and wet weather, short- and long-ter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thodology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ile past CSO facility planning projects’ and others’ 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ement as necessary for USA / LTC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atershed Investigation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wer system configuration and perform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charge volumes and pollutant loads (BOD,  TSS, bacteria, other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ceiving Water Investigation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ysical (dye, geometry, surficial geology, floatab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emical (DO, BOD, nutrients, Chl-a, TSS, SOD, bacteria, toxics, other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ological (fish, icthyo, benthic infauna/epifauna, habita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6339-27EB-4D22-A238-2DD561DD87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Historical / USA / LTCP Sampling Locations</a:t>
            </a:r>
            <a:endParaRPr b="0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7040" y="6324120"/>
            <a:ext cx="370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33"/>
                </a:solidFill>
                <a:latin typeface="Arial"/>
              </a:rPr>
              <a:t>Receiving Water Qualit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68760" y="6324120"/>
            <a:ext cx="251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33"/>
                </a:solidFill>
                <a:latin typeface="Arial"/>
              </a:rPr>
              <a:t>Receiving Water Biolog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50880" y="1447920"/>
            <a:ext cx="3452760" cy="4724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997520" y="1447920"/>
            <a:ext cx="34527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C96D-1F8F-49D3-97EC-5EEB60C322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Waterbody/Watershed Mathematical Modeling Analysi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deling Methodology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n-Waters for regional and harbor-wide plann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ibutaries for priority CSO plann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atershed Models of Combined and Separate Sewer System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ty-year effor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ple runoff to complex hydraulics (rational method, SWMM, InfoWork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tailed calibration to 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ceiving Water Models of Open Waters and Urban Tributar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ree-dimensional and time vary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ydrodynamics, eutrophication, DO balance, solids deposition, bacter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tailed calibration to 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nual and multi-year simula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ion Condi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elin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e Facility Plans (up to 100% CSO abatemen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wer Separ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9C24-0E3E-4B8E-8B6A-4BD5C09773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5:10Z</dcterms:created>
  <dc:creator/>
  <dc:description>for 10/18/04 conference</dc:description>
  <dc:language>en-US</dc:language>
  <cp:lastModifiedBy> </cp:lastModifiedBy>
  <cp:lastPrinted>1999-02-02T22:32:14Z</cp:lastPrinted>
  <dcterms:modified xsi:type="dcterms:W3CDTF">2004-10-18T14:52:13Z</dcterms:modified>
  <cp:revision>498</cp:revision>
  <dc:subject/>
  <dc:title>New York City's Approach to CSO Water Quality Assessments and the U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5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www.hydroqual.com</vt:lpwstr>
  </property>
  <property fmtid="{D5CDD505-2E9C-101B-9397-08002B2CF9AE}" pid="9" name="LinkColor">
    <vt:r8>16711782</vt:r8>
  </property>
  <property fmtid="{D5CDD505-2E9C-101B-9397-08002B2CF9AE}" pid="10" name="MailAddress">
    <vt:lpwstr>wmcmillin@hydroqua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Users\wmcmillin\99NYWEA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