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ECB9-FCE3-47A2-BF45-C5B26D74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67EB-4F4E-4DA3-A1DF-269A07B6D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33640" y="53496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WWA reached 700 utility managers Dec ‘01-Feb ‘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 broadcast reached 3,000, 6,000 videos mailed Nov ‘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wwaRF workshops reaching 168 utilities by April ‘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security training (WE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 free workshops, March-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s for Large Systems on Vulnerability Assessment Tool and Emergency Response (AMSA &amp; WE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 free workshops, August-Octo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-the-trainer--Sandia licensed course on vulnerability assessment and security practices coupled with emergency response training from FEMA contr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ees will be licensed by Sandia, requiring security practices concerning who is trained and sharing of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ses offered in late April/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equent courses for utilities, consultants and government driven by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D6D0-37FC-44D1-854D-20E1CE463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 of 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ization of systems-- physical, workforce, cy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 of threats to guard again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s kind of thre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damage, including to chemical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depend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how it might be carried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s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med or 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ization of assets/”criticality”----based on consequence of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 of vulnerability given threat, “criticality,” and existing countermea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cation/analysis of additional countermea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69C5-1E35-46E1-8ABB-B3655A6F1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ing Secure Information Sharing and Analysis System (IS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 cooperation with AMWA and FBI consulting with AMSA and W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will link utilities to FBI to provide information on threats and inci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Using an “E-mail tre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s to most drinking water and waste water 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BI Alerts and EPA notices sent via this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4B9D-4B06-483F-B0E2-79DF6F2C7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the opportunity to speak with you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that my presentation will inform you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tential risks of bioterrorism on the Nation’s water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A’s actions and plans to reduce this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be covering the following  points in my prese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93F8-0F4E-40A7-91BD-028921E88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1ADE-D498-41C2-BD7B-D0B090435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 Utilities--both drinking water and waste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, tribal, local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health, health practitioners, and food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al agencies-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water, security, and emergency responsib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w Enfor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 Development/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ing needs—emergency response guidance/exerc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for detection/mi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research action plan—ORD/OW with other agencies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keholders—stakeholder meeting early ’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—water sector w/ emergency response, law enforcement/intelligence, medical community—training und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porating security into “business as usu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development, operator certification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s Agency</a:t>
            </a:r>
            <a:r>
              <a:rPr b="0" lang="en-US" sz="1200" spc="-1" strike="noStrike">
                <a:solidFill>
                  <a:srgbClr val="000000"/>
                </a:solidFill>
                <a:latin typeface="WP TypographicSymbols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best thinking about the nature and scope of its homeland security respon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s the expansion of activities that we are already pursuing under existing programs and outlines new initiatives designed to strengthen EPA</a:t>
            </a:r>
            <a:r>
              <a:rPr b="0" lang="en-US" sz="1200" spc="-1" strike="noStrike">
                <a:solidFill>
                  <a:srgbClr val="000000"/>
                </a:solidFill>
                <a:latin typeface="WP TypographicSymbols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bility to prevent environmental emergencies, as well as better prepare the Agency and our country to respond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the goals of the President</a:t>
            </a:r>
            <a:r>
              <a:rPr b="0" lang="en-US" sz="1200" spc="-1" strike="noStrike">
                <a:solidFill>
                  <a:srgbClr val="000000"/>
                </a:solidFill>
                <a:latin typeface="WP TypographicSymbols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National Strategy for Homeland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P GOA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states, tribes,drinking water and waster water utilities to enhance security--TAC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ols, Training and Financial Assistance--VA,ER,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Research and Technology Development--contam,hardening, SOK products, E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Build Security into Ongoing Practices--cap dev, op cert., san su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Information Exchange on Threats and Incidents--ISAC, Int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Coordination with Law Enforcement, Emergency Response, Medical and Lab Sectors--er guidance, exerc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Coordination with Interdependent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00BB-DF11-41F4-88AF-CD899C005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Notices issued to date 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mmediate steps to improve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Funding sources available to support security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Monitoring and treatment recomme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Linking with local law enforcement agencies to review emergency plans and enhance surveil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Checking employee rosters against the FBI "watch lis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emergency notification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9F4-2DE5-4B05-9758-1027D201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557-BF74-4295-908F-F4AEF938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8E0-3594-4EBA-BC8A-F7B3AA3F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EE8-D5C0-4542-B788-A6D819F7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8043-6E7A-4010-871E-DDDA68A2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3C5D-6150-428F-9BD3-44564852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63CB-46EF-438B-9C4C-733F4BA9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68F9-5FD3-490D-B938-BAD08FB6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C2CD-46B2-4970-B0AA-A8774A2E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D2B-F605-4041-909A-FF351197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FDDF-F594-4BD5-8732-FFB8F91A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790-D6E0-4F20-B60C-BE65BDB5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8956-496D-4EB5-906F-8E51C02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CEB0-2B7F-4F5C-8B80-12809361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01B6-E8B5-4844-8459-500B6E82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CC99-56A5-4F25-8FA9-9DA459FD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8043-B889-47FE-8BDD-08CE221A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F80-5FE2-4A08-8B6E-7CE80163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59F-45D6-4662-9B5E-1868FD7A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345-5EFD-4F69-9943-C26D501F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36B-E924-49A1-85AF-DB258088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3B4-D796-477C-9D72-82B3F33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974-ED17-4DE4-99E2-D21E52C1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E57-C30E-457E-A22B-79245339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c64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141C-B640-4F21-B48B-691A9704AE0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5000"/>
              </a:lnSpc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5000"/>
              </a:lnSpc>
              <a:spcBef>
                <a:spcPts val="70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70080" cy="13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c64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EA3D-638A-4C9E-9A72-DA4217B653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pa.gov/safewater/security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ef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wa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pa.gov/safewater/security" TargetMode="External"/><Relationship Id="rId2" Type="http://schemas.openxmlformats.org/officeDocument/2006/relationships/hyperlink" Target="mailto:baranowski.curt@epa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satusers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line">
            <a:avLst/>
          </a:prstGeom>
          <a:noFill/>
          <a:ln w="1015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14400" y="22856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ciation of Metropolitan Sewerage Agen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ter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tewa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A’s Role and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ebruary 6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sponse Protocol Toolbox:      </a:t>
            </a:r>
            <a:br>
              <a:rPr sz="24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anning for and Responding to     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ntamination Threats to Drinking Water Systems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’s interim final Modules 1 through 4 were released on December 18, 20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1:  Water Utility Planning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2:  Contamination Threat Management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3:  Site Characterization and Sampling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4:  Analytical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es 5 and 6 are currently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5:  Public Health Response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6:  Remediation and Recovery Guide – wastewater in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late spring / early sum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s (pdf files) available at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www.epa.gov/safewater/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 in Developmen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ntary Physical Security Standards – AS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Security Practices – NDW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Planning Tool – A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Security Newsletter – A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Threat Document – W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Emergency Response Plan (ERP) Guidance – WE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, medium and small system guid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 in Developmen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tion of Boards of Certification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ary security related sample questions for drinking water and wastewater operator certification ex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benefits - Cad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ons and 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depend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ic, drinking wate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s learned from the “black out” and hurric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mpleted Utility Tra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 general security workshops on vulnerabilities and emergency response information – W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-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security (2002) and case study (20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epa.gov/safewater/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SAT training for large wastewat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rs of 15 mgd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training sessions completed May 2003 - W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pcoming Utility Tra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SAT and ERP training for medium siz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 mgd to 5 mgd, approximately 500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d; training April through November 2004– W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web-casts for utilities: one on vulnerability assessments and the other on emergency response pl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wef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ssistance Provider (Trainer) Tra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SAT and ERP training for environmental assistance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tewater Operator Training Program – CWA 104(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 sessions completed in May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iners to provide no-cost vulnerability assessment and ERP training for small (&lt;2.5 mgd) wastewater facilities - W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coming web-casts and follow-up training sessions for environmental assistance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training sessions and 2 web-ca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d; training begins May 2004 - W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uture Tra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SAT and ERP training for medium / small siz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mgd to 2.5 mgd, approximately 500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funded, start approximately November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ollow-up training for environmental assistance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funded, start approximately January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uture Tra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water Emergency Response Planning training for larger wastewat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Domestic Prepa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funded, possibly begin September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Enforcement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echnical and Financial Assistanc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funding to the State environmental training centers through the 104(g)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ance for small and medium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than 2.5 m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-site, no-cost, hands-on ass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room training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ng Security Enhanc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n Water State Revolving Fund Fact 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n Water Needs Surv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al Finance Ce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1788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formation Sharing Syste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25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ing Secure Water Information Sharing and Analysis Center (Water-IS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WA -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amwa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Using an “E-mail tre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to larger drinking water and wastewater ut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BI Alerts and EPA notices sent via this mech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gr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nd Financi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Knowledge /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prove Knowledge / Research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DHS, CDC, DOD, FDA, FBI, Stakeholders, Utiliti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information on contaminants, detection and treatment to support utility vulnerability assessments and emergency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t analysis and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F Research Proj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oordination with OR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Action Plan for Drinking Water and Wastewat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nking water and wastewater research symposi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ter Environment Research Foundation’s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stewater Security Existing Projec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s and Research Gaps to Secure Wastewater Infrastructure and Protect Public Health -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, Screen, and Treat Contaminants in Drinking Water / Waste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Measures for Computerized and Automated Systems at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gency Planning for Wastewater Treatment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ter Environment Research Foundation’s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stewater Security Existing Projec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cating with Your Local Government and 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ftware and Guidance for Assessing and Inventorying Wastewater Treatment Infra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asibility Testing / Demonstration of Expert Systems for Use in Wastewater Pl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ter Environment Research Foundation’s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stewater Security Proposed Projec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llow-up wastewater security sympo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ment of New Intelligent and Real-time Sensing / Monitoring Devices to Detect Toxins and Other Chemical / Biological Contaminants Disruptive to Wastewater Treatment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sts and Benefits of Alternative Prevention / Response Strateg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tocols for Treatment Process, Standard Response, and Collection System Disruptions in Wastewater Treatment Pla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equence Analysis of Adverse Ev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ter Environment Research Foundation’s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stewater Security Proposed Projec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ment of Intelligent Monitoring and Control Networks: Integration of Monitoring Capabilities with Cyber / IT / SCADA 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Wastewater System Security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lean Up and Decontamination of Water Distribution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astewater Treatment Processes Models (PipelineNet and RiverSpi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, GIS-based Consequence Assessment Model for Sewer and Storm Wat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etworking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ners (stakeholders) calls every other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, tribal, and local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health and health practitio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ag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ora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enfor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6960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bedding Security into Existing EPA Programs and Practices</a:t>
            </a: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treatment program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a security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DES per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lnerability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Respons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ance officer check-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alleng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s to reduce risk - look for multipl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nd business practices - Incorporating Security into “Business as Usu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upgr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upgr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for emergencies—”Four P’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act Inform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epa.gov/safewater/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t Baranow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EPA’s Water Security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baranowski.curt@ep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-564-06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llection System Explos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09920" y="1599840"/>
            <a:ext cx="347652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uisville, 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miles of streets impa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usands of gallons of hex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foot diameter sewer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20 months to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Louisvll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01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PA’s Homeland Security Strategic Plan: Critical Infrastructure Prote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 Security of Drinking Water and Wastewater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, Training, and Financial 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and Technology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 Security into Ongoing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Exchange on Threats and Inc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with Law Enforcement, Emergency Response, Medical, and Lab S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with Interdependent Infra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PA Organiz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’s Office of Homel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or’s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Ground Water and Drinking Water’s Water Security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Assistanc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ts Analysis Prevention and Preparedness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is the Federal Government Lead for Drinking Water and Wastewater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ordination with Department of Homeland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ulnerability Assessment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ix Key Elem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zation of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and prioritization of adverse consequences to av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ation of critical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 of likelihood of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of existing counter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risk and development of risk reduc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ioterrorism Act of 2002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Drinking Water Systems that service populations of greater than 3,301-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lnerability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Respons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wastewater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utilities to conduct vulnerability assessments and create / upgrade emergency respons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water Security Bills of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isting 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600" y="1828800"/>
            <a:ext cx="86360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s to utilities - 8 to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t level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Product Guide – on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isting 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ssociation of Metropolitan Sewerage Agencies’ Vulnerability Self Assessment Tool (VS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 Consulting and Sciente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ulnerability assessment report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support continued :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vsatusers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grades in 2004; fu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y response plan (ERP)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ies and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Security Vulnerability Assessment Guide - NETC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cbaranow</cp:lastModifiedBy>
  <cp:lastPrinted>2003-04-14T13:20:43Z</cp:lastPrinted>
  <dcterms:modified xsi:type="dcterms:W3CDTF">2004-01-30T15:17:03Z</dcterms:modified>
  <cp:revision>1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