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B1A-05E3-4C1E-9421-F4C3AC6F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6D5-F876-4430-B7DE-B79F5DA9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2BB-BD12-4647-BB17-76EAF6E9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03E-F4E8-4499-9179-5D50A939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0973-B55C-43D4-8877-39ABBC20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5A6B-4565-4778-AE00-6EA8F509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1617-4D7A-437E-8A20-9F3578D1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85A-A7A3-4C03-BB95-D485E2F4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F1FA-8973-41A6-AA13-AA7D44AB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CBC4-5BBF-48C6-881D-2D377F37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35AD-E146-4165-91E7-326ADD4B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059-9F94-4234-A594-3FED24EA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6CDF-389D-4678-A04B-39953D61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51B8-A876-44BE-92FA-FC2567F7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4735-3018-43A4-BCE1-0C56542E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AC4A-7673-4FCB-B2FB-0E51AECA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A17A-D5F5-40DE-AB9C-83D7CA5C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19F-2D70-4F24-8D94-392317AF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33A-E705-41CD-BF9C-2077A7AD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A08-A735-45B1-93F4-C1D944E5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BF3-92BE-4C5F-AAF4-A23B9C62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968-D5D1-4801-A3D2-45C25F9C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9A9-1F31-4490-AC35-A45B6D21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816-6084-42C2-8D79-363686AF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0ACB-BCAD-4BF7-BA88-BDA1A5426F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6699"/>
                </a:solidFill>
                <a:latin typeface="Verdana"/>
              </a:rPr>
              <a:t>Click to edit the title text format</a:t>
            </a:r>
            <a:endParaRPr b="0" lang="en-US" sz="43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F87A-3C04-4251-9146-35330EB2E2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666699"/>
                </a:solidFill>
                <a:latin typeface="Verdana"/>
              </a:rPr>
              <a:t>ENHANCING WASTEWATER UTILITY SECURITY – </a:t>
            </a:r>
            <a:br>
              <a:rPr sz="4300"/>
            </a:br>
            <a:r>
              <a:rPr b="0" i="1" lang="en-US" sz="4300" spc="-1" strike="noStrike">
                <a:solidFill>
                  <a:srgbClr val="666699"/>
                </a:solidFill>
                <a:latin typeface="Verdana"/>
              </a:rPr>
              <a:t>THE  NATION PREPARES</a:t>
            </a:r>
            <a:endParaRPr b="0" lang="en-US" sz="43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SA Initiatives &amp; Involv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00800" y="5654520"/>
            <a:ext cx="21337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Decontamination Wastewaters</a:t>
            </a:r>
            <a:br>
              <a:rPr sz="3000"/>
            </a:b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Anthrax Protocol Near Final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 guidance to response personne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must be notifi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disinfect the wastewat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meters that must be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obtain POTW authorization prior to dischar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Decontamination Wastewaters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lanning Tool cove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-3348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e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0">
              <a:spcBef>
                <a:spcPts val="249"/>
              </a:spcBef>
              <a:buNone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-3348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-Incident Planning and Coord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0">
              <a:spcBef>
                <a:spcPts val="249"/>
              </a:spcBef>
              <a:buNone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-3348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ident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0">
              <a:spcBef>
                <a:spcPts val="249"/>
              </a:spcBef>
              <a:buNone/>
              <a:tabLst>
                <a:tab algn="l" pos="0"/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-3348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Projects and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Gaseous Chlorine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te Vis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Defense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logue with Department of Homeland Secu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General Accounting Office (GAO) Study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ed by Senate Environment &amp; Public Works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to October 2003 Report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Experts’ View on How Future Federal Funding Can Best Be Spent to Improve Security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SA to help identify expe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GAO Study to address:</a:t>
            </a:r>
            <a:r>
              <a:rPr b="0" lang="en-US" sz="32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2038320"/>
            <a:ext cx="78516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what ways are the Nation’s POTWs most vulnerable to terroris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federal funds best be allocated to reduce vulnerabiliti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specific activities are most deserving of federal financial suppo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Staying in Touch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80042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SD Partners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thly Wastewater Sector Calls/Meet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SD &amp; Water Associations Face-to-Face Mee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artment of Homeland Securit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78160" y="2819520"/>
            <a:ext cx="4479840" cy="2020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1143000"/>
            <a:ext cx="8381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For water and wastewater utilities, the increased federal focus on security </a:t>
            </a:r>
            <a:br>
              <a:rPr sz="3000"/>
            </a:b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is here to stay…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ne of 13 Critical Infrastru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PA Water Protection Task Force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w Water Protection Di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ignifican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$90 million in ’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$25 million in ’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$30 million anticipated in ‘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AMSA’s efforts began in late 2001 </a:t>
            </a:r>
            <a:br>
              <a:rPr sz="3000"/>
            </a:b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with two publications -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3680" indent="-349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sset Based Vulnerabi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list for Wastewater Ut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-349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gal Issues in a Time o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sis Check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632400">
            <a:off x="6781320" y="4266720"/>
            <a:ext cx="1224000" cy="19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630600">
            <a:off x="7162560" y="1752480"/>
            <a:ext cx="12603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AMSA’s Vulnerability Self Assessment Tool VSAT™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20383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providing a structured, cost-effective approach to assess vulnerabilities and to establish a risk-based approach to taking desired a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s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ter/was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™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1780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79279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s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eased – December 20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362 distributed to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ter/was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eased – January 20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555 distributed to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eased – January 20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115 distributed to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4756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VSAT™ - Over 5,000 Copies of the Software Have Been Distributed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VSAT™ Upgrades &amp; Enhancements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Mod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sion 2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 Red Button VA Report Gen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l Report -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VSAT™ Underway &amp; Coming Soon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12880" indent="-4190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ergency Response Planning Mod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812880" indent="-4190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Support &amp; Enhanc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52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52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252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Countermeasure Evaluation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812880" indent="-4190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ly Electronic News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812880" indent="-4190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of Countermeasures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666699"/>
                </a:solidFill>
                <a:latin typeface="Verdana"/>
              </a:rPr>
              <a:t>www.VSATusers.net</a:t>
            </a:r>
            <a:endParaRPr b="0" lang="en-US" sz="43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WaterISAC</a:t>
            </a:r>
            <a:br>
              <a:rPr sz="3000"/>
            </a:br>
            <a:r>
              <a:rPr b="0" lang="en-US" sz="3000" spc="-1" strike="noStrike">
                <a:solidFill>
                  <a:srgbClr val="666699"/>
                </a:solidFill>
                <a:latin typeface="Verdana"/>
              </a:rPr>
              <a:t>Information Sharing &amp; Analysis Center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128680"/>
            <a:ext cx="80042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ng 300 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0% combined water/wastewater fac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% wastewater fac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6:29:33Z</dcterms:created>
  <dc:creator>John</dc:creator>
  <dc:description/>
  <dc:language>en-US</dc:language>
  <cp:lastModifiedBy>AMSA</cp:lastModifiedBy>
  <dcterms:modified xsi:type="dcterms:W3CDTF">2004-02-04T23:48:25Z</dcterms:modified>
  <cp:revision>36</cp:revision>
  <dc:subject/>
  <dc:title>KEN KIRK Executive Director Association of Metropolitan Sewerage Agencies (AMSA)    </dc:title>
</cp:coreProperties>
</file>