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6EF-D163-43CE-A9AD-1A1457AA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697-063F-446C-84F1-5D9028F3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FD9-C047-4B3D-92D4-A3A2DB1C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0C0-D628-44D4-8D8E-A29A1EE3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00AF-2F97-4637-A87E-06A66621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42A9-90FC-4A9E-87D9-AC30D2A2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71AE-31F4-44B6-A5B5-BFEF6604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26ED-82DF-4295-9C6E-DC8E7FDF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255F-7BBA-48F2-B452-35AC2958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118D-A940-4FE7-83EC-A1B311A8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A364-F1B9-446A-95E5-BF7104E0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E57-B22A-4453-ADC9-DCF46DD4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792F-48D0-4398-8DB1-57A2D588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0B1A-AF51-4C66-A47A-D03A1777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D05B-DD7B-45C7-979F-DCA31091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AA44-A443-465B-8BD7-95776281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EFEA-CED7-408C-8EA4-8AB34FCE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968-44DB-43C6-BD3B-5645C63C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79A-FD7D-42FA-9BC6-825352B1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B27-CD7E-4BE3-A367-73E201FF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7A8-0EE7-44EE-A11E-BEC12AFE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268-8661-4F5F-8131-FD117826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248-092F-44E0-98F1-5C353D46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583-F3A8-4E18-8D9B-3CC6C9E9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8F70-48BA-439A-9E18-4F74E59155A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6699"/>
                </a:solidFill>
                <a:latin typeface="Verdana"/>
              </a:rPr>
              <a:t>Click to edit the title text format</a:t>
            </a:r>
            <a:endParaRPr b="0" lang="en-US" sz="43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EA36-C296-4B2B-94D3-6A5A32A5CC0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666699"/>
                </a:solidFill>
                <a:latin typeface="Verdana"/>
              </a:rPr>
              <a:t>ENHANCING WASTEWATER UTILITY SECURITY – </a:t>
            </a:r>
            <a:br>
              <a:rPr sz="4300"/>
            </a:br>
            <a:r>
              <a:rPr b="0" i="1" lang="en-US" sz="4300" spc="-1" strike="noStrike">
                <a:solidFill>
                  <a:srgbClr val="666699"/>
                </a:solidFill>
                <a:latin typeface="Verdana"/>
              </a:rPr>
              <a:t>THE  NATION PREPARES</a:t>
            </a:r>
            <a:endParaRPr b="0" lang="en-US" sz="43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SA Initiatives &amp; Involv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00800" y="5654520"/>
            <a:ext cx="21337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Decontamination Wastewaters</a:t>
            </a:r>
            <a:br>
              <a:rPr sz="3000"/>
            </a:b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Anthrax Protocol Near Final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s guidance to response personne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must be notifi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disinfect the wastewat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ameters that must be measu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obtain POTW authorization prior to discharg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Decontamination Wastewaters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lanning Tool cover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69840" indent="-3348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46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sue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69840" indent="0">
              <a:spcBef>
                <a:spcPts val="249"/>
              </a:spcBef>
              <a:buNone/>
              <a:tabLst>
                <a:tab algn="l" pos="46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69840" indent="-3348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46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-Incident Planning and Coord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69840" indent="0">
              <a:spcBef>
                <a:spcPts val="249"/>
              </a:spcBef>
              <a:buNone/>
              <a:tabLst>
                <a:tab algn="l" pos="46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69840" indent="-3348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46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ident Respon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69840" indent="0">
              <a:spcBef>
                <a:spcPts val="249"/>
              </a:spcBef>
              <a:buNone/>
              <a:tabLst>
                <a:tab algn="l" pos="0"/>
                <a:tab algn="l" pos="46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69840" indent="-3348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46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Projects and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Gaseous Chlorine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te Vis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Defense Re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alogue with Department of Homeland Secu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General Accounting Office (GAO) Study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ested by Senate Environment &amp; Public Works Committ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ilar to October 2003 Report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Experts’ View on How Future Federal Funding Can Best Be Spent to Improve Security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SA to help identify expe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GAO Study to address:</a:t>
            </a:r>
            <a:r>
              <a:rPr b="0" lang="en-US" sz="3200" spc="-1" strike="noStrike">
                <a:solidFill>
                  <a:srgbClr val="66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2038320"/>
            <a:ext cx="78516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what ways are the Nation’s POTWs most vulnerable to terroris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can federal funds best be allocated to reduce vulnerabiliti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specific activities are most deserving of federal financial suppor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Staying in Touch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80042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SD Partners C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thly Wastewater Sector Calls/Meet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SD &amp; Water Associations Face-to-Face Mee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artment of Homeland Securit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378160" y="2819520"/>
            <a:ext cx="4479840" cy="2020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1143000"/>
            <a:ext cx="83818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For water and wastewater utilities, the increased federal focus on security </a:t>
            </a:r>
            <a:br>
              <a:rPr sz="3000"/>
            </a:b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is here to stay…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One of 13 Critical Infrastruc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PA Water Protection Task Force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ow Water Protection Div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ignificant fun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$90 million in ’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$25 million in ’0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$30 million anticipated in ‘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AMSA’s efforts began in late 2001 </a:t>
            </a:r>
            <a:br>
              <a:rPr sz="3000"/>
            </a:b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with two publications -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3680" indent="-349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sset Based Vulnerabil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list for Wastewater Ut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63680" indent="-3492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egal Issues in a Time o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sis Check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rot="632400">
            <a:off x="6781320" y="4266720"/>
            <a:ext cx="1224000" cy="192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 rot="630600">
            <a:off x="7162560" y="1752480"/>
            <a:ext cx="12603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AMSA’s Vulnerability Self Assessment Tool VSAT™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203832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ftware providing a structured, cost-effective approach to assess vulnerabilities and to establish a risk-based approach to taking desired ac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SAT™was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SAT™water/was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SA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™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217800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79279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SAT™was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eased – December 20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,362 distributed to 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SAT™water/was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eased – January 200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555 distributed to 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VSAT™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eased – January 200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,115 distributed to 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4756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VSAT™ - Over 5,000 Copies of the Software Have Been Distributed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VSAT™ Upgrades &amp; Enhancements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Mod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sion 2.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g Red Button VA Report Gen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l Report - F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VSAT™ Underway &amp; Coming Soon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12880" indent="-4190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ergency Response Planning Mod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812880" indent="-4190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 Support &amp; Enhanc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252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Re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252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252440" indent="-325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Countermeasure Evaluation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812880" indent="-4190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rterly Electronic Newsle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812880" indent="-4190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of Countermeasures Li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666699"/>
                </a:solidFill>
                <a:latin typeface="Verdana"/>
              </a:rPr>
              <a:t>www.VSATusers.net</a:t>
            </a:r>
            <a:endParaRPr b="0" lang="en-US" sz="4300" spc="-1" strike="noStrike">
              <a:solidFill>
                <a:srgbClr val="66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6699"/>
                </a:solidFill>
                <a:latin typeface="Verdana"/>
              </a:rPr>
              <a:t>WaterISAC</a:t>
            </a:r>
            <a:br>
              <a:rPr sz="3000"/>
            </a:br>
            <a:r>
              <a:rPr b="0" lang="en-US" sz="3000" spc="-1" strike="noStrike">
                <a:solidFill>
                  <a:srgbClr val="666699"/>
                </a:solidFill>
                <a:latin typeface="Verdana"/>
              </a:rPr>
              <a:t>Information Sharing &amp; Analysis Center</a:t>
            </a:r>
            <a:endParaRPr b="0" lang="en-US" sz="30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128680"/>
            <a:ext cx="80042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ng 300 organiz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0% combined water/wastewater fac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% wastewater fac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6:29:33Z</dcterms:created>
  <dc:creator>John</dc:creator>
  <dc:description/>
  <dc:language>en-US</dc:language>
  <cp:lastModifiedBy>AMSA</cp:lastModifiedBy>
  <dcterms:modified xsi:type="dcterms:W3CDTF">2004-02-04T23:48:25Z</dcterms:modified>
  <cp:revision>36</cp:revision>
  <dc:subject/>
  <dc:title>KEN KIRK Executive Director Association of Metropolitan Sewerage Agencies (AMSA)    </dc:title>
</cp:coreProperties>
</file>