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501-50C8-4D6B-975F-30FAFAC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EFC-5F8F-483C-947E-056A826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C45-584C-4300-9364-65D8F819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1F0-04AD-4DAD-9B13-5CB5F59C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8A6-736E-4B16-8922-3F76E861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436-1896-402C-8004-6E7571A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99BA-722B-4744-B9F5-1CEAEA1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4C5-1AD6-438E-9415-B351DC5A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D66-4303-434D-A03B-DFDAA8C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877-9093-4ADA-A138-488A6E0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27D-7771-49F0-8290-8FFC2B2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79E-04C1-435E-BC0D-BEA0B55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40BF-B109-4093-B1B5-B9BC431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206-709E-4448-879F-9CD10B8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E6E5-A455-41A8-8571-CB5D2C24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BAF-E52C-4E1B-8E36-7169E18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D1B-C765-4454-B857-AAE47845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81E-EE43-460A-A3BD-EBAC28CE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15-3807-464D-92B1-BAE051F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D1F-0132-4F40-83DB-8FE5352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CA5-7788-48DB-B836-48BA65F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0CE-B31D-45D8-A9B5-3A58E0B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E73-98FC-4F19-9361-5319CD1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EF9-7E38-4E39-9C68-3E167D4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D137-FAD5-4390-B028-57272401D5D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6092-BB54-47C0-B627-C548382EBF3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geappliances.com/" TargetMode="Externa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6.wmf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Planning--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 practical approach to a growing ne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en Ros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rector, Water and Wastewater Leadership Pro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University of North Carolin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enan-Flagler Business Scho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inuous evaluation of performance and potent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eedback to middle manag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velopmental pla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inuous evaluation of performance and potent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nk of America..build a culture that values candor over poli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114800"/>
            <a:ext cx="0" cy="1828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94360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95680"/>
            <a:ext cx="1904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erformance  result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what)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5853240"/>
            <a:ext cx="335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ship behavio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how)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267080"/>
            <a:ext cx="0" cy="1676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267080"/>
            <a:ext cx="0" cy="1676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41008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487692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cus on Developmen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ecutive Development Progra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iversity based and Company base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and horizons from manager to lead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ransformational leadership/empowerm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haping the cultur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risis managem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egoti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roadening Assignm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w Chemical—rotation progra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noco Products—pivotal job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illy—Action learning projec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ams of high potential managers work on strategic business projects for six wee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ccession management web si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ormation on career ladders, position openings, resumes of incumb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dividuals responsible for posting up-dated resu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aluate succession management system effective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atio of positions filled internally to external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umber of potential successors for each key posi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oger Jones can’t do it al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tention of middle managers in the high potential po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versity in the succession ran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haring of best practi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insights have you developed about succession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are some of your organization’s best practic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085840"/>
            <a:ext cx="38862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ater and Wastewater Leadership Progra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intensive weeks of study at the University of North Carol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cus on developing leadership ski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60 feedback in partnership with CC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ategy and organizational effective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language of leadershi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goti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ing in uncertain ti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believable networking opportun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 shameless plug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moted based on loyalty and tenu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countere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duct contamin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ernational public relations proble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liding share pri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placed in 2.5 yea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Welcome to Coca-Cola"/>
          <p:cNvPicPr/>
          <p:nvPr/>
        </p:nvPicPr>
        <p:blipFill>
          <a:blip r:embed="rId5"/>
          <a:srcRect l="15278" t="33872" r="0" b="23817"/>
          <a:stretch/>
        </p:blipFill>
        <p:spPr>
          <a:xfrm>
            <a:off x="838080" y="1828800"/>
            <a:ext cx="338148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2133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Doug Ivesto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4953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moted based on marketing skil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eficiencies in finan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endency to micro man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place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" descr="The World's Premier Toy Brands---Today and Tomorrow"/>
          <p:cNvPicPr/>
          <p:nvPr/>
        </p:nvPicPr>
        <p:blipFill>
          <a:blip r:embed="rId6"/>
          <a:srcRect l="15956" t="8677" r="0" b="13286"/>
          <a:stretch/>
        </p:blipFill>
        <p:spPr>
          <a:xfrm>
            <a:off x="380880" y="2057400"/>
            <a:ext cx="34290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92480" y="26128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Jill Barad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858000" y="1905120"/>
            <a:ext cx="2011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  CEO  Jeff Immel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tensive preparation over 8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Consumer Servic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 Universit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 Applianc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worldwide market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and general manager worldwide plastic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ident GE medical syste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GE Appliances">
            <a:hlinkClick r:id="rId10"/>
          </p:cNvPr>
          <p:cNvPicPr/>
          <p:nvPr/>
        </p:nvPicPr>
        <p:blipFill>
          <a:blip r:embed="rId11"/>
          <a:srcRect l="0" t="0" r="73596" b="-16614"/>
          <a:stretch/>
        </p:blipFill>
        <p:spPr>
          <a:xfrm>
            <a:off x="6781680" y="19810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Philosoph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59092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251460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96252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uccessio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ccession Plann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system for filling the organization’s most important positions—now and in the futu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paration fo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oluntary and involuntary termin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ansion and reorganiz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paring for the creation of new posi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 :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The Fundamental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ion of a system to track internal tal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tenti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pir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velopment nee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3657600" y="2514600"/>
            <a:ext cx="3503520" cy="31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38160" y="2430360"/>
            <a:ext cx="4066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ition Requirement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chnica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: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ho are the leader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nk of Americ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l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noco Produ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veloping your Leadership Pipeline.  Conger, J and Fulmer, R.  Harvard Business Review, December 2003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O involvement in the succession pro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nk of America’s CEO Ken Lewis meets with top 24 officers to review succession pla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ccession Committees from the c-suite (CFO, COO etc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ining line managers on how to have a “developmenta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”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8:13:40Z</dcterms:created>
  <dc:creator>rosenb</dc:creator>
  <dc:description/>
  <dc:language>en-US</dc:language>
  <cp:lastModifiedBy>rosenb</cp:lastModifiedBy>
  <dcterms:modified xsi:type="dcterms:W3CDTF">2004-01-20T15:49:47Z</dcterms:modified>
  <cp:revision>13</cp:revision>
  <dc:subject/>
  <dc:title>Succession Planning-- A practical approach to a growing ne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7689124</vt:r8>
  </property>
  <property fmtid="{D5CDD505-2E9C-101B-9397-08002B2CF9AE}" pid="3" name="_AuthorEmail">
    <vt:lpwstr>Ben_Rosen@unc.edu</vt:lpwstr>
  </property>
  <property fmtid="{D5CDD505-2E9C-101B-9397-08002B2CF9AE}" pid="4" name="_AuthorEmailDisplayName">
    <vt:lpwstr>Rosen, Ben</vt:lpwstr>
  </property>
  <property fmtid="{D5CDD505-2E9C-101B-9397-08002B2CF9AE}" pid="5" name="_EmailSubject">
    <vt:lpwstr>succession planning presentation</vt:lpwstr>
  </property>
</Properties>
</file>