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6.wmf" ContentType="image/x-wmf"/>
  <Override PartName="/ppt/media/image18.wmf" ContentType="image/x-wmf"/>
  <Override PartName="/ppt/media/image17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CBD8-E417-4E3F-A1C4-5DBC7C5A8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7C62-2C2D-44B7-87DC-BC59A913F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238B-8BAC-4478-A1B8-A09390DFB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845A-AF01-4371-AC38-F22C6B248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FE91E-A45B-4D77-A865-CB677C8E7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0FE08-C4FA-4E52-B00E-9FB8BD0F3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81073-3A8C-499A-8905-4DA022539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AD844-8611-43D1-80CD-D5F24484C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8E50C-2176-4F73-8A6D-25C9F9540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0591B-C4BE-40E8-99A0-73A23BB68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9CD33-64DF-4F67-B607-19C50ACBF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3C35-BFA5-456B-B634-BD1CCF72E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50FA2-D080-4EDD-A567-F5163FB69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CAC7F-20E3-4300-9DCD-ECB834CDD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D63F2-9C0D-4245-BD45-6A4E2FF86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47DC7-4EC9-4387-B465-767C0B09B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EE769-25A6-4DD0-A4D2-9CB680467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443B-3C15-4FD8-AB09-6C6098191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39E0-00BD-4D84-93D3-CA69AE16C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E0A2-6A3F-4578-B330-8E6CACDFD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75F1-039F-4800-9673-79B045739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E5ED-4B93-49AD-9B0C-9E4562400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788E-AA3C-4788-ADEC-152935E4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C909-BB1A-4109-8E14-FEBC3115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1D0C2-B4CE-4405-98A3-5B56EBACEC0D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3A593-641D-447C-BD2A-8C7CDB88CAB1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9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10.pn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hyperlink" Target="http://www.geappliances.com/" TargetMode="External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16.wmf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Succession Planning--</a:t>
            </a:r>
            <a:br>
              <a:rPr sz="4000"/>
            </a:b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A practical approach to a growing need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Ben Rosen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Director, Water and Wastewater Leadership Program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e University of North Carolina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Kenan-Flagler Business Schoo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Succession Management</a:t>
            </a:r>
            <a:br>
              <a:rPr sz="4000"/>
            </a:b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Lessons from the best companie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ontinuous evaluation of performance and potentia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Feedback to middle manager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Developmental plan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Succession Management</a:t>
            </a:r>
            <a:br>
              <a:rPr sz="4000"/>
            </a:b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Lessons from the best companie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ontinuous evaluation of performance and potentia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Bank of America..build a culture that values candor over politic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2666880" y="4114800"/>
            <a:ext cx="0" cy="182880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666880" y="5943600"/>
            <a:ext cx="320040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62120" y="4495680"/>
            <a:ext cx="19047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Performance  results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(what)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124080" y="5853240"/>
            <a:ext cx="3353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Leadership behaviors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(how)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86200" y="4267080"/>
            <a:ext cx="0" cy="167652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29200" y="4267080"/>
            <a:ext cx="0" cy="167652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666880" y="5410080"/>
            <a:ext cx="320040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666880" y="4876920"/>
            <a:ext cx="320040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Succession Management</a:t>
            </a:r>
            <a:br>
              <a:rPr sz="4000"/>
            </a:b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Lessons from the best companie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cus on Development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Executive Development Program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University based and Company based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Expand horizons from manager to leader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Transformational leadership/empowerment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haping the culture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Crisis management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Negotiation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Succession Management</a:t>
            </a:r>
            <a:br>
              <a:rPr sz="4000"/>
            </a:b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Lessons from the best companie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Broadening Assignment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Dow Chemical—rotation program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onoco Products—pivotal job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Lilly—Action learning project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eams of high potential managers work on strategic business projects for six week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Succession Management</a:t>
            </a:r>
            <a:br>
              <a:rPr sz="4000"/>
            </a:b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Lessons from the best companie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ransparency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uccession management web sit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Information on career ladders, position openings, resumes of incumbent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Individuals responsible for posting up-dated resume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Succession Management</a:t>
            </a:r>
            <a:br>
              <a:rPr sz="4000"/>
            </a:b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Lessons from the best companie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Evaluate succession management system effectivenes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Ratio of positions filled internally to externally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Number of potential successors for each key position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Roger Jones can’t do it al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Retention of middle managers in the high potential poo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Diversity in the succession rank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haring of best practic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What insights have you developed about succession management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What are some of your organization’s best practice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4572000" y="2085840"/>
            <a:ext cx="3886200" cy="38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Water and Wastewater Leadership Program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wo intensive weeks of study at the University of North Carolina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Focus on developing leadership skill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360 feedback in partnership with CC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trategy and organizational effectivenes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he language of leadership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Negotiation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Managing in uncertain time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Unbelievable networking opportunity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89" name=""/>
          <p:cNvSpPr/>
          <p:nvPr/>
        </p:nvSpPr>
        <p:spPr>
          <a:xfrm>
            <a:off x="2057400" y="2286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A shameless plug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 few recent examples: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3124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Promoted based on loyalty and tenure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Encountered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product contamination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international public relations problem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sliding share price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replaced in 2.5 year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40" name="" descr="Welcome to Coca-Cola"/>
          <p:cNvPicPr/>
          <p:nvPr/>
        </p:nvPicPr>
        <p:blipFill>
          <a:blip r:embed="rId5"/>
          <a:srcRect l="15278" t="33872" r="0" b="23817"/>
          <a:stretch/>
        </p:blipFill>
        <p:spPr>
          <a:xfrm>
            <a:off x="838080" y="1828800"/>
            <a:ext cx="3381480" cy="1143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572000" y="21337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imes New Roman"/>
              </a:rPr>
              <a:t>Doug Ivestor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 few recent examples: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520" y="3429000"/>
            <a:ext cx="49532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Promoted based on marketing skill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Deficiencies in finance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Tendency to micro manage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Replaced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44" name="" descr="The World's Premier Toy Brands---Today and Tomorrow"/>
          <p:cNvPicPr/>
          <p:nvPr/>
        </p:nvPicPr>
        <p:blipFill>
          <a:blip r:embed="rId6"/>
          <a:srcRect l="15956" t="8677" r="0" b="13286"/>
          <a:stretch/>
        </p:blipFill>
        <p:spPr>
          <a:xfrm>
            <a:off x="380880" y="2057400"/>
            <a:ext cx="3429000" cy="13716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092480" y="261288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Jill Barad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6858000" y="1905120"/>
            <a:ext cx="201132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 few recent examples: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GE  CEO  Jeff Immelt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Extensive preparation over 8 year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VP Consumer Service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GE University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GE Appliance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VP worldwide marketing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VP and general manager worldwide plastic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President GE medical system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49" name="" descr="GE Appliances">
            <a:hlinkClick r:id="rId10"/>
          </p:cNvPr>
          <p:cNvPicPr/>
          <p:nvPr/>
        </p:nvPicPr>
        <p:blipFill>
          <a:blip r:embed="rId11"/>
          <a:srcRect l="0" t="0" r="73596" b="-16614"/>
          <a:stretch/>
        </p:blipFill>
        <p:spPr>
          <a:xfrm>
            <a:off x="6781680" y="1981080"/>
            <a:ext cx="175284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Succession Management</a:t>
            </a:r>
            <a:br>
              <a:rPr sz="4000"/>
            </a:b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The Philosophy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2590920"/>
            <a:ext cx="2819520" cy="228600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strategy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2514600"/>
            <a:ext cx="2819520" cy="228600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Leadership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development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352680" y="3962520"/>
            <a:ext cx="2819520" cy="228600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Succession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planning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uccession Plann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A system for filling the organization’s most important positions—now and in the future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Preparation for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Voluntary and involuntary termination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Expansion and reorganization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Preparing for the creation of new position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Succession management :</a:t>
            </a:r>
            <a:br>
              <a:rPr sz="4000"/>
            </a:b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The Fundamental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reation of a system to track internal talent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Education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Experience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Performance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Potentia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Aspiration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Development need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9"/>
          <a:stretch/>
        </p:blipFill>
        <p:spPr>
          <a:xfrm>
            <a:off x="3657600" y="2514600"/>
            <a:ext cx="3503520" cy="313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5438160" y="2430360"/>
            <a:ext cx="406692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Position Requirements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echnical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Leadership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Succession management: </a:t>
            </a:r>
            <a:br>
              <a:rPr sz="4000"/>
            </a:b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Who are the leaders: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Bank of America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Del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Dow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Lilly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onoco Product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Developing your Leadership Pipeline.  Conger, J and Fulmer, R.  Harvard Business Review, December 2003.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Succession Management</a:t>
            </a:r>
            <a:br>
              <a:rPr sz="4000"/>
            </a:b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Lessons from the best companie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EO involvement in the succession proces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Bank of America’s CEO Ken Lewis meets with top 24 officers to review succession plan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uccession Committees from the c-suite (CFO, COO etc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raining line managers on how to have a “developmental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”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onversation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3T18:13:40Z</dcterms:created>
  <dc:creator>rosenb</dc:creator>
  <dc:description/>
  <dc:language>en-US</dc:language>
  <cp:lastModifiedBy>rosenb</cp:lastModifiedBy>
  <dcterms:modified xsi:type="dcterms:W3CDTF">2004-01-20T15:49:47Z</dcterms:modified>
  <cp:revision>13</cp:revision>
  <dc:subject/>
  <dc:title>Succession Planning-- A practical approach to a growing nee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057689124</vt:r8>
  </property>
  <property fmtid="{D5CDD505-2E9C-101B-9397-08002B2CF9AE}" pid="3" name="_AuthorEmail">
    <vt:lpwstr>Ben_Rosen@unc.edu</vt:lpwstr>
  </property>
  <property fmtid="{D5CDD505-2E9C-101B-9397-08002B2CF9AE}" pid="4" name="_AuthorEmailDisplayName">
    <vt:lpwstr>Rosen, Ben</vt:lpwstr>
  </property>
  <property fmtid="{D5CDD505-2E9C-101B-9397-08002B2CF9AE}" pid="5" name="_EmailSubject">
    <vt:lpwstr>succession planning presentation</vt:lpwstr>
  </property>
</Properties>
</file>