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0FE0F-FC22-4576-B740-C6FA4DFB1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04172-9609-41CF-B8D3-B04C73BAF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4E098-A063-4534-B83C-D46A85F46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A6B6E-1401-48EC-B58E-AECEB748B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B3BAC-3800-4AC0-AA55-6D3BEF2FA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4EFDA-761F-4E5A-8322-250DA3D12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E7A08-934B-4A52-BE40-BF70831DC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1A031-A348-4529-83F0-508A16AF7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BC82E-293A-4E96-B4C3-1FF91EA28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1EFD3-0BE9-4F95-95D5-0AAAD6A5A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6F418-AA55-42CC-9086-D76F5A55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6A55D-FCD2-4F2E-B1CA-0D876D56F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AE06E-2812-4063-A819-D21F84824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A1FB7-BD57-4BB6-AA5E-2093760B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1EFA9-F313-4684-8717-756480BC1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22FB0-FC2B-4A89-B55A-2026FE9B6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D02E0-1052-4BFA-AA49-483FC3FFC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57DDF-3D5D-4405-8466-E850C2891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23B5A-04B7-4AA4-941F-42D3D6746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C176E-8588-4E73-88E4-29B13CCD0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D4644-D046-415B-90B5-D72B29763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A1361-BC54-41C4-8B16-471A81CB2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013EF-A734-449A-944D-E0BC34569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C3537-CE9F-4186-992B-1A0C59C7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C7CB8-94FC-4E68-92C2-AFD5CDD6249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71374-E9EA-439D-9BBE-C628C37724D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14475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ff"/>
                </a:solidFill>
                <a:latin typeface="Verdana"/>
              </a:rPr>
              <a:t>Law Enforcement as a Customer…Security and the Public Utility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4495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zanne Gos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E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acksonville, Florid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MSA’s 2004 Winter Conferenc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ebruary 5, 200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JEA &amp; JSO Partnershi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tecting the critical infrastructure of NE Florida from the consequences of terrorist attack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33ccff"/>
              </a:buClr>
              <a:buSzPct val="90000"/>
              <a:buFont typeface="Webdings" charset="2"/>
              <a:buChar char="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dio Syste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1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33ccff"/>
              </a:buClr>
              <a:buSzPct val="90000"/>
              <a:buFont typeface="Webdings" charset="2"/>
              <a:buChar char="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-service” Training to JS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1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33ccff"/>
              </a:buClr>
              <a:buSzPct val="90000"/>
              <a:buFont typeface="Webdings" charset="2"/>
              <a:buChar char="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urity Legislation / Fund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1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33ccff"/>
              </a:buClr>
              <a:buSzPct val="90000"/>
              <a:buFont typeface="Webdings" charset="2"/>
              <a:buChar char="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ti-Terrorism Softwa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1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33ccff"/>
              </a:buClr>
              <a:buSzPct val="90000"/>
              <a:buFont typeface="Webdings" charset="2"/>
              <a:buChar char="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reless Projec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JEA &amp; JSO Partnershi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197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efi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808200" indent="-35100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ase ability to monitor critical infrastructure and facilit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8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8200" indent="-35100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hanced security; pre-emergency or natural disaster document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8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8200" indent="-35100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ster response time to make repairs, prevent catastrophic events or deal with potential breaches in securit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8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8200" indent="-35100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pport NE Florida’s plan for Homeland Securit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JEA &amp; JSO Partnershi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6197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ssons Learn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08200" indent="-35100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n’t wait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8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8200" indent="-35100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t Involved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8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8200" indent="-35100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municat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8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8200" indent="-35100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trai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8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8200" indent="-35100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rtn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JE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8200" indent="-35100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ectric, water and sewer utilit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8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8200" indent="-35100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 600,000 customer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8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8200" indent="-35100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st publicly owned electric &amp; water utility in F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8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8200" indent="-35100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largest publicly owned electric utility in the U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8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8200" indent="-35100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roximately 2,000 employe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47400" indent="-3474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eb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lectri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9920" indent="-339480">
              <a:lnSpc>
                <a:spcPct val="90000"/>
              </a:lnSpc>
              <a:spcBef>
                <a:spcPts val="901"/>
              </a:spcBef>
              <a:spcAft>
                <a:spcPts val="1500"/>
              </a:spcAft>
              <a:buClr>
                <a:srgbClr val="ffff00"/>
              </a:buClr>
              <a:buSzPct val="70000"/>
              <a:buFont typeface="Web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 system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252440" indent="-339480">
              <a:lnSpc>
                <a:spcPct val="90000"/>
              </a:lnSpc>
              <a:spcBef>
                <a:spcPts val="901"/>
              </a:spcBef>
              <a:spcAft>
                <a:spcPts val="1500"/>
              </a:spcAft>
              <a:buClr>
                <a:srgbClr val="ffff00"/>
              </a:buClr>
              <a:buSzPct val="70000"/>
              <a:buFont typeface="Webdings" charset="2"/>
              <a:buChar char="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thside Generating Station,  Kennedy, Brandy Branch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252440" indent="-339480">
              <a:lnSpc>
                <a:spcPct val="90000"/>
              </a:lnSpc>
              <a:spcBef>
                <a:spcPts val="901"/>
              </a:spcBef>
              <a:spcAft>
                <a:spcPts val="1500"/>
              </a:spcAft>
              <a:buClr>
                <a:srgbClr val="ffff00"/>
              </a:buClr>
              <a:buSzPct val="70000"/>
              <a:buFont typeface="Webdings" charset="2"/>
              <a:buChar char="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. Johns River Power Par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252440" indent="-339480">
              <a:lnSpc>
                <a:spcPct val="90000"/>
              </a:lnSpc>
              <a:spcBef>
                <a:spcPts val="901"/>
              </a:spcBef>
              <a:spcAft>
                <a:spcPts val="1500"/>
              </a:spcAft>
              <a:buClr>
                <a:srgbClr val="ffff00"/>
              </a:buClr>
              <a:buSzPct val="70000"/>
              <a:buFont typeface="Webdings" charset="2"/>
              <a:buChar char="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lk Power Supply (Scherer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99920" indent="-339480">
              <a:lnSpc>
                <a:spcPct val="90000"/>
              </a:lnSpc>
              <a:spcBef>
                <a:spcPts val="901"/>
              </a:spcBef>
              <a:spcAft>
                <a:spcPts val="1500"/>
              </a:spcAft>
              <a:buClr>
                <a:srgbClr val="ffff00"/>
              </a:buClr>
              <a:buSzPct val="70000"/>
              <a:buFont typeface="Web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18 miles of transmission lin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99920" indent="-339480">
              <a:lnSpc>
                <a:spcPct val="90000"/>
              </a:lnSpc>
              <a:spcBef>
                <a:spcPts val="901"/>
              </a:spcBef>
              <a:spcAft>
                <a:spcPts val="1500"/>
              </a:spcAft>
              <a:buClr>
                <a:srgbClr val="ffff00"/>
              </a:buClr>
              <a:buSzPct val="70000"/>
              <a:buFont typeface="Web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,300 miles of distribution lin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99920" indent="-339480">
              <a:lnSpc>
                <a:spcPct val="90000"/>
              </a:lnSpc>
              <a:spcBef>
                <a:spcPts val="901"/>
              </a:spcBef>
              <a:spcAft>
                <a:spcPts val="1500"/>
              </a:spcAft>
              <a:buClr>
                <a:srgbClr val="ffff00"/>
              </a:buClr>
              <a:buSzPct val="70000"/>
              <a:buFont typeface="Web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99 substa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JE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762120" y="1142640"/>
            <a:ext cx="76197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lnSpc>
                <a:spcPct val="100000"/>
              </a:lnSpc>
              <a:spcBef>
                <a:spcPts val="700"/>
              </a:spcBef>
              <a:buClr>
                <a:srgbClr val="0099ff"/>
              </a:buClr>
              <a:buSzPct val="70000"/>
              <a:buFont typeface="Web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ff"/>
                </a:solidFill>
                <a:latin typeface="Arial"/>
              </a:rPr>
              <a:t>Water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08200" indent="-34308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SzPct val="70000"/>
              <a:buFont typeface="Web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6 water treatment plan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8200" indent="-34308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SzPct val="70000"/>
              <a:buFont typeface="Web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44 MGD treatment &amp; pumping capacit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8200" indent="-34308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SzPct val="70000"/>
              <a:buFont typeface="Web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45 well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8200" indent="-34308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SzPct val="70000"/>
              <a:buFont typeface="Web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,500 miles of distribution lin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8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51000" indent="-35100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SzPct val="70000"/>
              <a:buFont typeface="MS Outlook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Wastewater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8200" indent="-34308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SzPct val="70000"/>
              <a:buFont typeface="MS Outlook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6  treatment facilit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8200" indent="-34308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SzPct val="70000"/>
              <a:buFont typeface="MS Outlook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14 MGD treatment capacit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8200" indent="-34308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SzPct val="70000"/>
              <a:buFont typeface="MS Outlook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985 pump/lift sta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8200" indent="-34308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SzPct val="70000"/>
              <a:buFont typeface="MS Outlook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200 miles of collection lin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JE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533160" y="12193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70000"/>
              <a:buFont typeface="Web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ragency Special Investigations Uni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51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820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0000"/>
              <a:buFont typeface="Web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tablished in 1982 (City of Jacksonville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8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820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0000"/>
              <a:buFont typeface="Web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ved to JEA in 1997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8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820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0000"/>
              <a:buFont typeface="Web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 Manager; 3 sworn Police Detectiv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8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820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0000"/>
              <a:buFont typeface="Web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vestigative &amp; enforcement suppor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8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820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0000"/>
              <a:buFont typeface="Web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ordinate efforts with other agenc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8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JE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09120" y="160020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solidated Law Enforce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51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08200" indent="-34308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med in 1967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8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8200" indent="-34308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uval County (864 square miles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8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8200" indent="-34308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+ miles of shoreline and other water bod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8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8200" indent="-34308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200+ employe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51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Jacksonville Sheriff’s Offi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JS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partment of Investigation and Homeland Security (Detective Division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08200" indent="-35100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meland Securit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26540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90000"/>
              <a:buFont typeface="Wingdings 2" charset="2"/>
              <a:buChar char="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eated in 2003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26540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90000"/>
              <a:buFont typeface="Wingdings 2" charset="2"/>
              <a:buChar char="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 employe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265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8200" indent="-35100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viation Uni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26540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90000"/>
              <a:buFont typeface="Wingdings 2" charset="2"/>
              <a:buChar char="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eated in 1974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26540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90000"/>
              <a:buFont typeface="Wingdings 2" charset="2"/>
              <a:buChar char="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8 full-time employe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26540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90000"/>
              <a:buFont typeface="Wingdings 2" charset="2"/>
              <a:buChar char="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 helicopters and 4 airplan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Other Agencies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99"/>
                </a:solidFill>
                <a:latin typeface="Arial"/>
              </a:rPr>
              <a:t>Jacksonville Port Authori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08200" indent="-3510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 Terminal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8200" indent="-3510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ajor US port in Northeast Florid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265400" indent="-2970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largest in Southeas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265400" indent="-2970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7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largest in U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808200" indent="-3510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jor shipping point for the militar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8200" indent="-3510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duct off-load for JEA’s electric plan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8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99"/>
                </a:solidFill>
                <a:latin typeface="Arial"/>
              </a:rPr>
              <a:t>Emergency Operations Center (Duval County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08200" indent="-3510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embly point  - emergency and disaster related issu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JEA &amp; JSO Partnershi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A and JSO serve the interests and safety of the citizens of Jacksonville. Together they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08200" indent="-35100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SzPct val="7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vide a safe environ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8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8200" indent="-35100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SzPct val="7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ordinate activities during critical situa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8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8200" indent="-35100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SzPct val="7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pond to and resolve emergent condition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9T16:58:15Z</dcterms:created>
  <dc:creator>florse</dc:creator>
  <dc:description/>
  <dc:language>en-US</dc:language>
  <cp:lastModifiedBy>florse</cp:lastModifiedBy>
  <dcterms:modified xsi:type="dcterms:W3CDTF">2004-02-09T21:38:35Z</dcterms:modified>
  <cp:revision>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583061143</vt:r8>
  </property>
  <property fmtid="{D5CDD505-2E9C-101B-9397-08002B2CF9AE}" pid="3" name="_AuthorEmail">
    <vt:lpwstr>GossSE@jea.com</vt:lpwstr>
  </property>
  <property fmtid="{D5CDD505-2E9C-101B-9397-08002B2CF9AE}" pid="4" name="_AuthorEmailDisplayName">
    <vt:lpwstr>Goss, Suzanne E. - Legislative Affairs Analyst</vt:lpwstr>
  </property>
  <property fmtid="{D5CDD505-2E9C-101B-9397-08002B2CF9AE}" pid="5" name="_EmailSubject">
    <vt:lpwstr>Revised presentation for posting on website</vt:lpwstr>
  </property>
</Properties>
</file>