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D63A-64B7-4180-843D-CB903C4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F712-B89F-4551-9C2D-50630FFB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9C90E-4D6F-43C0-A841-F516D461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6313-7C12-4DFF-BCF5-CB42E7AD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8623-B274-4B22-9B1B-9CFF8379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DF12-0488-4903-B3EF-D90D93C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6DAA-BD3B-4D85-9FB3-F6908F7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8060-363A-4B2F-9BA9-19F8BB1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B02-0B02-4FE3-8769-8DA3C8C7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FB8C-BF5F-4135-B31A-3A2ACCE1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A8C-B407-427E-93E9-5EBF274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9A5D-4C44-42FA-81EF-FA2787BF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7B0-F181-456A-B703-2B56B6F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3B79-3CB9-4F7B-9821-311F108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C378-7AA8-4906-9D5A-C6C1846C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22FC-E43B-491E-A353-3D771D69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C115-00FE-4770-87DF-3778A6FA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0BC4-581B-4E67-993E-AC0EE68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E56B-9F0B-4235-862E-24EA77BA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BE4B-05AA-4806-958B-B35D9E1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2D62-7F0A-4F26-8E0E-27C0CE9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A3DF-790E-4AEC-8F0D-1979894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013A-ADBE-47C1-B3F7-7D905A6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6580-9BFE-4E9A-9F5A-3FD91B7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A7D6-1091-4A55-BFAF-5F56C1E92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C948-384D-4BB9-B77D-FC3430AA4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Verdana"/>
              </a:rPr>
              <a:t>Law Enforcement as a Customer…Security and the Public Util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zanne Gos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cksonville, Flori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SA’s 2004 Winter Con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5, 200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ing the critical infrastructure of NE Florida from the consequences of terrorist att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o Syst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-service” Training to JS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Legislation / Fun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-Terrorism 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90000"/>
              <a:buFont typeface="Webdings" charset="2"/>
              <a:buChar char="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ability to monitor critical infrastructure and fac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hanced security; pre-emergency or natural disaster docum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er response time to make repairs, prevent catastrophic events or deal with potential breaches in 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NE Florida’s plan for Homeland 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wa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Involv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tr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, water and sewer ut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 600,000 custom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st publicly owned electric &amp; water utility in F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argest publicly owned electric utility in the 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ly 2,000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7400" indent="-347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syst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244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thside Generating Station,  Kennedy, Brandy Bran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244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. Johns River Power Pa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244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lk Power Supply (Scher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18 miles of transmiss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,300 miles of distribu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394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SzPct val="70000"/>
              <a:buFont typeface="Web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9 subst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6 water treatment pl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4 MGD treatment &amp; pumping capa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5 we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SzPct val="70000"/>
              <a:buFont typeface="Web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,500 miles of distribu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Wastewater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 treatment fac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4 MGD treatment capa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85 pump/lift st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MS Outlook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00 miles of collection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agency Special Investigations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d in 1982 (City of Jacksonvill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d to JEA in 199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Manager; 3 sworn Police Detecti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igative &amp; enforcement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e efforts with other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olidated Law Enfor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ed in 196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val County (864 square mil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+ miles of shoreline and other water bod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00+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acksonville Sheriff’s Offi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 of Investigation and Homeland Security (Detective Divis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eland Secur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d in 200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iation Un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d in 197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full-time employ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helicopters and 4 airpla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ther Agencie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Jacksonville Port Autho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Termin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jor US port in Northeast Flori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2970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argest in Southea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65400" indent="-2970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argest in 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 shipping point for the milit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off-load for JEA’s electric pl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Emergency Operations Center (Duval Coun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mbly point  - emergency and disaster related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EA &amp; JSO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 and JSO serve the interests and safety of the citizens of Jacksonville. Together the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 a safe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rdinate activities during critical situ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08200" indent="-35100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 to and resolve emergent condi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6:58:15Z</dcterms:created>
  <dc:creator>florse</dc:creator>
  <dc:description/>
  <dc:language>en-US</dc:language>
  <cp:lastModifiedBy>florse</cp:lastModifiedBy>
  <dcterms:modified xsi:type="dcterms:W3CDTF">2004-02-09T21:38:35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3061143</vt:r8>
  </property>
  <property fmtid="{D5CDD505-2E9C-101B-9397-08002B2CF9AE}" pid="3" name="_AuthorEmail">
    <vt:lpwstr>GossSE@jea.com</vt:lpwstr>
  </property>
  <property fmtid="{D5CDD505-2E9C-101B-9397-08002B2CF9AE}" pid="4" name="_AuthorEmailDisplayName">
    <vt:lpwstr>Goss, Suzanne E. - Legislative Affairs Analyst</vt:lpwstr>
  </property>
  <property fmtid="{D5CDD505-2E9C-101B-9397-08002B2CF9AE}" pid="5" name="_EmailSubject">
    <vt:lpwstr>Revised presentation for posting on website</vt:lpwstr>
  </property>
</Properties>
</file>