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31920" y="6384960"/>
            <a:ext cx="34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he Luntz Research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amsalogo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066680" cy="687240"/>
          </a:xfrm>
          <a:prstGeom prst="rect">
            <a:avLst/>
          </a:prstGeom>
          <a:ln w="0">
            <a:noFill/>
          </a:ln>
        </p:spPr>
      </p:pic>
      <p:pic>
        <p:nvPicPr>
          <p:cNvPr id="2" name="amsalogo" descr=""/>
          <p:cNvPicPr/>
          <p:nvPr/>
        </p:nvPicPr>
        <p:blipFill>
          <a:blip r:embed="rId3"/>
          <a:stretch/>
        </p:blipFill>
        <p:spPr>
          <a:xfrm>
            <a:off x="8001000" y="76320"/>
            <a:ext cx="106668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92960" y="838080"/>
            <a:ext cx="8709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f you could choose ONE area for the fed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overnment to invest in critical infrastru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rovements, which of the following would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oos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1600200" y="2514600"/>
          <a:ext cx="6019920" cy="53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14600"/>
                    <a:ext cx="601992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-76320" y="5761080"/>
            <a:ext cx="289584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vi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ea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20960" y="4464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6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8200" y="4311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2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11680" y="39625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3200400"/>
            <a:ext cx="289584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rniz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r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77120" y="3276720"/>
            <a:ext cx="28954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ads, Bridges &amp; High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3240" y="1763640"/>
            <a:ext cx="7678800" cy="39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lean water is a national issue that requires dedic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national funding.  As a matter of principle, the govern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should help states and localities pay for the necessary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sewerage and wastewater treatment systems that will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guarantee clean water for future generations of American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lean water is a local problem that requires a local solutio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The federal government is already running a $500 bill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dollar deficit.  Clean water is important, but the federal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government just can’t afford to spend any more money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Local communities need to step up and pay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92920" y="228600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69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73840" y="44038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5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51600" y="0"/>
            <a:ext cx="594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ATIONAL F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S A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IN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29520" y="1187280"/>
            <a:ext cx="916632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Which of the following slogans for creating a nationa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clean water trust fund do you like the mos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75600" y="2698920"/>
            <a:ext cx="922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National Water Quality Initiativ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National Clean Water Tru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Clean Water Preservation Tru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29320" y="49320"/>
            <a:ext cx="32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9520" y="1003320"/>
            <a:ext cx="916632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Which of the following slogans for creating a nationa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clean water trust fund do you like the mos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23400" y="2435400"/>
            <a:ext cx="90734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merica Deserves A Cleaner Tomorrow … TODAY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36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lean Water Has No Local Boundarie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23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liable Today … Sustainable Tomorrow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14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Water Is The True Fuel Of Our Economy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14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National System … National Necessity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6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03160" y="49320"/>
            <a:ext cx="386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SLOG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75920" y="714240"/>
            <a:ext cx="816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nowing that funding a clean water trust f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y result in increased taxes and costs to you,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the following sources would you be most lik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suppor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18640" y="-76320"/>
            <a:ext cx="383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2520" y="2597040"/>
            <a:ext cx="664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tax on corporations that pollute the nation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ters (chemical manufacturers, hygien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ufacturers, agriculture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tax on companies that provide water re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ivities (riverboat gambling, chartered boa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uiseline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nickel tax on every bottled or canned be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soda, water, be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5240" y="28036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65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5240" y="411480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5240" y="547056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3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0880" y="714240"/>
            <a:ext cx="8936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there was a bill introduced in the U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gress that would create a long-term, sustainable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iable trust fund for clean water infrastructure – wou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 … the legisl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20080" y="-76320"/>
            <a:ext cx="383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BAL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371600" y="1905120"/>
          <a:ext cx="6019920" cy="53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05120"/>
                    <a:ext cx="601992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8600" y="5562720"/>
            <a:ext cx="3352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560" y="40831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3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3048120"/>
            <a:ext cx="33530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p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76320" y="3200400"/>
            <a:ext cx="33530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K/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3800" y="3352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80000" y="33210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714240"/>
            <a:ext cx="8744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you learned that your Congressman voted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reation of a federal trust fund that would guaran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nual funding for clean water, would this make you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vote for your Congressman in the next elec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20080" y="-76320"/>
            <a:ext cx="383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BAL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6320" y="2898720"/>
          <a:ext cx="4343400" cy="38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898720"/>
                    <a:ext cx="434340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419720" y="2935440"/>
          <a:ext cx="4343400" cy="384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935440"/>
                    <a:ext cx="4343400" cy="38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601640" y="2819520"/>
            <a:ext cx="136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2200" y="2895480"/>
            <a:ext cx="27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AGAIN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160" y="548640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re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35920" y="35812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ss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96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K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3040" y="449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3760" y="39006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3040" y="39625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45080" y="365760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re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78960" y="54864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ss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70360" y="3733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K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9440" y="39765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11840" y="45720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6440" y="39765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1960" y="1219320"/>
            <a:ext cx="87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 your opinion, is clean water a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600200" y="2136600"/>
          <a:ext cx="6019920" cy="53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6600"/>
                    <a:ext cx="601992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04920" y="5568840"/>
            <a:ext cx="2895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27360" y="44704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4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3282840"/>
            <a:ext cx="2895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ivi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359160"/>
            <a:ext cx="2895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i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27560" y="374004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6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75080" y="363204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7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35280" y="1320840"/>
            <a:ext cx="918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ve America’s waterways – rivers, lakes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ceans – become … over the past ten yea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8080" y="3048120"/>
          <a:ext cx="73152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8120"/>
                    <a:ext cx="73152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933920" y="552780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l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36600" y="550224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ea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61080" y="548640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7200" y="1371600"/>
            <a:ext cx="838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 you look ahead, how concerned are you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merica’s waterways will not be clean f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ildren and f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randchildr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62120" y="3040200"/>
          <a:ext cx="73152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0200"/>
                    <a:ext cx="73152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449720" y="5425920"/>
            <a:ext cx="16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e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920" y="5425920"/>
            <a:ext cx="16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e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66960" y="5425920"/>
            <a:ext cx="19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ly A Li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e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2440" y="5425920"/>
            <a:ext cx="16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 At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e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720" y="1219320"/>
            <a:ext cx="9138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o do you believe should be responsibl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nding the necessary improvements to the nation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 and wastewater infrastruct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143000" y="2212920"/>
          <a:ext cx="6019920" cy="53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12920"/>
                    <a:ext cx="601992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-152280" y="5730840"/>
            <a:ext cx="3352680" cy="11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ede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5360" y="45403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4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2971800"/>
            <a:ext cx="3352680" cy="11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atepay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76320" y="3505320"/>
            <a:ext cx="33530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o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9760" y="37339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1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7280" y="37339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14760" y="838080"/>
            <a:ext cx="918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of the following programs is in the grea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ed of a dedicated trust fund that would guaran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deral money to help state and local gover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y for maintenance and improvements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371600" y="2441520"/>
          <a:ext cx="6019920" cy="53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41520"/>
                    <a:ext cx="601992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6172200"/>
            <a:ext cx="3352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ean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30481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ports &amp; Av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312408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oads &amp; Highw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3600" y="4572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2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98960" y="40068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9400" y="39304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5040" y="990720"/>
            <a:ext cx="709812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f, as a country, we are willing to invest BILLIONS of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dollars annually in highways and airways, we certainly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should be willing to make the necessary investments i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our nation’s waterway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A federal investment to guarantee clean water is 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ritical component of our nation’s environment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well-being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lean water has no local boundaries.  Given th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nterstate nature of clean water issues, it is importa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to have the federal government involved to ens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onsistent funding … just as it does with  highway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and airports.  The standards and funding should b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national, but ultimate control MUST be local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05360" y="121932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91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0" y="28954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9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0" y="46324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86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53040" y="0"/>
            <a:ext cx="599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WORDS THAT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4320" y="1290600"/>
            <a:ext cx="738936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t’s simple … we are a 21</a:t>
            </a:r>
            <a:r>
              <a:rPr b="1" lang="en-US" sz="23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Century nation.  We shoul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not have a 19</a:t>
            </a:r>
            <a:r>
              <a:rPr b="1" lang="en-US" sz="23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Century system to keep our water clea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A clean environment isn’t a privilege.  It is a right.  And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when it comes to clean water, the federal government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has an obligation to do a lot mor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ongress recently authorized $87 billion for th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reconstruction of Iraq … a portion of which is earmark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for water infrastructure improvements.  If we can bring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lean water to a third-world country, we should be ab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to do it right here at home.  America comes firs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16600" y="173196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85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97520" y="380520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81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53040" y="0"/>
            <a:ext cx="599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WORDS THAT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5760" y="2008080"/>
            <a:ext cx="759348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Local problems require local solutions.  Yes, clea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water is important, but enough is being done right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now.  There is no need to spend more money on th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ssu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The fact is, most urban, suburban and rural communit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already have a perfectly reliable water infrastructure i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place.  The truth is, a ‘trust fund’ is simply a fancy ter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for higher taxes for another wasteful Washington program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92920" y="22096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92920" y="402264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1680" y="-49320"/>
            <a:ext cx="6122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WORDS THAT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DO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22:33:10Z</dcterms:created>
  <dc:creator>ckirchoff</dc:creator>
  <dc:description/>
  <dc:language>en-US</dc:language>
  <cp:lastModifiedBy>Ben</cp:lastModifiedBy>
  <dcterms:modified xsi:type="dcterms:W3CDTF">2004-02-09T21:35:24Z</dcterms:modified>
  <cp:revision>57</cp:revision>
  <dc:subject/>
  <dc:title>PowerPoint Presentation</dc:title>
</cp:coreProperties>
</file>