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AACB-057F-4DF8-ADCE-DD7499F5B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30D2-99AF-4D57-9357-C29904578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9694-A5DB-403F-AE37-2422FEFFC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928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20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928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20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6735-FF30-41C0-921D-D6B4DD7DF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7160" y="352080"/>
            <a:ext cx="8226360" cy="32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F938-8EF1-4281-9829-9118519D5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6928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9620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6928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59620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44F2-71B8-4371-B7B5-A747664C6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0297-5909-4F85-9B5C-475196CA9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3664-BD8F-434C-954D-31E19F102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352080"/>
            <a:ext cx="8226360" cy="32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6E7F-5EB2-4A8E-AAAF-279F5EC4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C4AB-4532-4DE3-ADD1-1D3FE30CF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8619-A3EA-431C-BCF6-8DCF2846C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CB14-4457-4533-AB4E-6D69B8808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610480" y="6428520"/>
            <a:ext cx="457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8EE-B240-4D09-8CB1-6D9B7BF93E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91320" y="640080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 Official Use Only       February 6, 2004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062760"/>
            <a:ext cx="22096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3280" indent="-23328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58920" indent="-23184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9876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98760" indent="-2224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98760" indent="-2224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  <a:p>
            <a:pPr lvl="1" marL="457200" indent="-10944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00240" indent="-17316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42960" indent="-1666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42960" indent="-1666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42960" indent="-1666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5920" y="1447920"/>
            <a:ext cx="8875800" cy="40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85F8-6005-4A29-B9C5-DE3C253CF5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8203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ng Our Infrastructure </a:t>
            </a:r>
            <a:br>
              <a:rPr sz="4200"/>
            </a:b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7769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0b1b3"/>
                </a:solidFill>
                <a:latin typeface="Arial"/>
              </a:rPr>
              <a:t>February 6, 2004</a:t>
            </a: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1640" y="5486400"/>
            <a:ext cx="3683160" cy="1071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David M. Weinberg, PhD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0120" y="279000"/>
            <a:ext cx="8082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urpose/Objective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To Share Information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Establish Dialog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Organizational Mission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19120" indent="-171360">
              <a:lnSpc>
                <a:spcPct val="80000"/>
              </a:lnSpc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DHS Protective Security Division</a:t>
            </a:r>
            <a:r>
              <a:rPr b="0" lang="en-US" sz="1700" spc="-1" strike="noStrike">
                <a:solidFill>
                  <a:srgbClr val="b0b1b3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Asset Identification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Vulnerability Reduction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Risk Assessment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Field Operations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Process Controls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1" marL="519120" indent="-17136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Role of Technology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PSD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DHS-S&amp;T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marL="17316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AADA-DD1E-44B6-A2FF-FE8A809F6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203040"/>
            <a:ext cx="82944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r>
              <a:rPr b="0" lang="en-US" sz="3800" spc="-1" strike="noStrike">
                <a:solidFill>
                  <a:srgbClr val="eff7ff"/>
                </a:solidFill>
                <a:latin typeface="Times New Roman"/>
              </a:rPr>
              <a:t>*</a:t>
            </a:r>
            <a:endParaRPr b="0" lang="en-US" sz="38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94240" y="157464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ret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om Ridg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Secret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James Lo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70480" y="2286000"/>
            <a:ext cx="25200" cy="8002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2200" y="3098880"/>
            <a:ext cx="5950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8608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976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4228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3251160"/>
            <a:ext cx="175248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ience and Technolog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huck McQue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7200" y="3251160"/>
            <a:ext cx="1892520" cy="77472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formation Analysi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&amp; Infrastructure Protec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rank Libutti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51160"/>
            <a:ext cx="181620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mergency Preparednes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&amp; Respons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ke Brown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91240" y="3251160"/>
            <a:ext cx="175284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order &amp; Transporta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a Hutchins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5283360"/>
            <a:ext cx="135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ited State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ast Guard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20968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ited State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ret Servic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07400" y="2566800"/>
            <a:ext cx="4122360" cy="1404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ADAE-90B3-4548-B722-D563A6C195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5720" y="202680"/>
            <a:ext cx="7468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ve Security Division*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tectiv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McDonnell 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81280"/>
            <a:ext cx="3664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2004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590920"/>
            <a:ext cx="1828800" cy="78732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Analysis and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 Protect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rank Libutti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581280"/>
            <a:ext cx="0" cy="38124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17528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sistant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Analysis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trick Hughes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0" cy="144792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809880"/>
            <a:ext cx="17528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sistant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 Protect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bert Liscouski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800600"/>
            <a:ext cx="40384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8006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029200"/>
            <a:ext cx="17524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ordination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Caverly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8006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029200"/>
            <a:ext cx="17524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tional Cybe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mit Yora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02920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0666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0b1b3"/>
                </a:solidFill>
                <a:latin typeface="Arial"/>
              </a:rPr>
              <a:t>Mission: Prevent terrorism and reduce the nation’s vulnerability to terrorist acts by taking preemptive and protective actions to mitigate vulnerabilities so that terrorists are no longer able to exploit them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41008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B6D1-2A84-49AB-A977-3AE325972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5720" y="203040"/>
            <a:ext cx="85230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ve Security Division Office Structure*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553080" y="3389400"/>
            <a:ext cx="2070000" cy="1150920"/>
            <a:chOff x="6553080" y="3389400"/>
            <a:chExt cx="2070000" cy="1150920"/>
          </a:xfrm>
        </p:grpSpPr>
        <p:sp>
          <p:nvSpPr>
            <p:cNvPr id="126" name=""/>
            <p:cNvSpPr/>
            <p:nvPr/>
          </p:nvSpPr>
          <p:spPr>
            <a:xfrm>
              <a:off x="6553080" y="3389400"/>
              <a:ext cx="0" cy="101592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65680" y="413856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65680" y="440532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17960" y="4024080"/>
              <a:ext cx="1905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Training &amp; Readines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Field Office Liaison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59400" y="3389400"/>
            <a:ext cx="2070000" cy="1150920"/>
            <a:chOff x="4559400" y="3389400"/>
            <a:chExt cx="2070000" cy="1150920"/>
          </a:xfrm>
        </p:grpSpPr>
        <p:sp>
          <p:nvSpPr>
            <p:cNvPr id="131" name=""/>
            <p:cNvSpPr/>
            <p:nvPr/>
          </p:nvSpPr>
          <p:spPr>
            <a:xfrm>
              <a:off x="4559400" y="3389400"/>
              <a:ext cx="0" cy="101592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413856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40532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4024080"/>
              <a:ext cx="1905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trategic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Tactical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65360" y="3390840"/>
            <a:ext cx="2069640" cy="1380600"/>
            <a:chOff x="2565360" y="3390840"/>
            <a:chExt cx="2069640" cy="1380600"/>
          </a:xfrm>
        </p:grpSpPr>
        <p:grpSp>
          <p:nvGrpSpPr>
            <p:cNvPr id="136" name=""/>
            <p:cNvGrpSpPr/>
            <p:nvPr/>
          </p:nvGrpSpPr>
          <p:grpSpPr>
            <a:xfrm>
              <a:off x="2565360" y="3390840"/>
              <a:ext cx="164520" cy="1257120"/>
              <a:chOff x="2565360" y="3390840"/>
              <a:chExt cx="164520" cy="1257120"/>
            </a:xfrm>
          </p:grpSpPr>
          <p:sp>
            <p:nvSpPr>
              <p:cNvPr id="137" name=""/>
              <p:cNvSpPr/>
              <p:nvPr/>
            </p:nvSpPr>
            <p:spPr>
              <a:xfrm>
                <a:off x="2565360" y="3390840"/>
                <a:ext cx="0" cy="125712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7960" y="411444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77960" y="438120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77960" y="464796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730240" y="4000320"/>
              <a:ext cx="190476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Vulnerability ID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Risk Mitigation Analysi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Protective Measure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96880" y="3390840"/>
            <a:ext cx="2069640" cy="1380600"/>
            <a:chOff x="596880" y="3390840"/>
            <a:chExt cx="2069640" cy="1380600"/>
          </a:xfrm>
        </p:grpSpPr>
        <p:grpSp>
          <p:nvGrpSpPr>
            <p:cNvPr id="143" name=""/>
            <p:cNvGrpSpPr/>
            <p:nvPr/>
          </p:nvGrpSpPr>
          <p:grpSpPr>
            <a:xfrm>
              <a:off x="596880" y="3390840"/>
              <a:ext cx="164520" cy="1257120"/>
              <a:chOff x="596880" y="3390840"/>
              <a:chExt cx="164520" cy="1257120"/>
            </a:xfrm>
          </p:grpSpPr>
          <p:sp>
            <p:nvSpPr>
              <p:cNvPr id="144" name=""/>
              <p:cNvSpPr/>
              <p:nvPr/>
            </p:nvSpPr>
            <p:spPr>
              <a:xfrm>
                <a:off x="596880" y="3390840"/>
                <a:ext cx="0" cy="125712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480" y="411444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480" y="438120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9480" y="464796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61760" y="4000320"/>
              <a:ext cx="190476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Asset ID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ituational Awarenes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ystems Analysi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15880" y="3086280"/>
            <a:ext cx="5950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976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4160" y="2476440"/>
            <a:ext cx="0" cy="596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6596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1600200"/>
            <a:ext cx="1904760" cy="107964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McDonnell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Division 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hn Weidne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Operations 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ex De Alvarez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720" y="3238560"/>
            <a:ext cx="175284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t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 MacLare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5280" y="323856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eld Operation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nelius Tat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5283360"/>
            <a:ext cx="135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0344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8488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7200" y="3238560"/>
            <a:ext cx="175284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Vulnerabilit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ve DeAngelis 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21240" y="323856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am Speedi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952880"/>
            <a:ext cx="45720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048120"/>
            <a:ext cx="0" cy="190476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80060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 Control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ke Lombard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95DC-6B03-4C0B-BB86-99B79FA04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0120" y="279000"/>
            <a:ext cx="8082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aradigm Shif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75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Traditionally, our National Strategy has been focused on Incident Response and Consequence Managemen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0b1b3"/>
                </a:solidFill>
                <a:latin typeface="Arial"/>
              </a:rPr>
              <a:t>Prevention</a:t>
            </a: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 Efforts and Programs </a:t>
            </a:r>
            <a:r>
              <a:rPr b="0" i="1" lang="en-US" sz="2200" spc="-1" strike="noStrike">
                <a:solidFill>
                  <a:srgbClr val="b0b1b3"/>
                </a:solidFill>
                <a:latin typeface="Arial"/>
              </a:rPr>
              <a:t>are Equally Importan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048120"/>
            <a:ext cx="3657600" cy="1174680"/>
          </a:xfrm>
          <a:prstGeom prst="rect">
            <a:avLst/>
          </a:prstGeom>
          <a:solidFill>
            <a:srgbClr val="bdbfd0"/>
          </a:solidFill>
          <a:ln w="0">
            <a:noFill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Current Emphasi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(Plan, Organize, Train, Equip, Respond, Mitigate/Recovery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009960"/>
            <a:ext cx="419112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New Paradigm = </a:t>
            </a:r>
            <a:r>
              <a:rPr b="0" i="1" lang="en-US" sz="2000" spc="-1" strike="noStrike">
                <a:solidFill>
                  <a:srgbClr val="224568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(Deter, Detect, Defend, Devalue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648320"/>
            <a:ext cx="4838760" cy="914400"/>
          </a:xfrm>
          <a:prstGeom prst="rect">
            <a:avLst/>
          </a:prstGeom>
          <a:solidFill>
            <a:srgbClr val="d6d5f3"/>
          </a:solidFill>
          <a:ln w="0">
            <a:noFill/>
          </a:ln>
          <a:effectLst>
            <a:outerShdw dist="89604" dir="2700000" blurRad="0" rotWithShape="0">
              <a:srgbClr val="92c9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00" y="4952160"/>
            <a:ext cx="46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0644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Incident Response      Consequence Mg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5181480"/>
            <a:ext cx="247680" cy="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7960" y="4647960"/>
            <a:ext cx="2561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92c9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ter    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Defend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value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162920" y="5181480"/>
            <a:ext cx="85680" cy="8568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4952880"/>
            <a:ext cx="9504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629400" y="5181480"/>
            <a:ext cx="12384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705720" y="4952880"/>
            <a:ext cx="8568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3909-1F23-4190-AD93-B2DB715B0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Infrastructure Protection Technology Contact Information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447920"/>
            <a:ext cx="403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50960"/>
            <a:ext cx="76201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905120"/>
            <a:ext cx="6933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rotective Security Division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Dave Weinberg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hone: (202) 282-8758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E-mail: </a:t>
            </a:r>
            <a:r>
              <a:rPr b="1" lang="en-US" sz="2200" spc="-1" strike="noStrike">
                <a:solidFill>
                  <a:srgbClr val="bdbfd0"/>
                </a:solidFill>
                <a:latin typeface="Arial"/>
              </a:rPr>
              <a:t>david.weinberg@dhs.gov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Science &amp; Technology Directorate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John Cummings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hone: (202) 205-4758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E-mail: </a:t>
            </a:r>
            <a:r>
              <a:rPr b="1" lang="en-US" sz="2200" spc="-1" strike="noStrike">
                <a:solidFill>
                  <a:srgbClr val="bdbfd0"/>
                </a:solidFill>
                <a:latin typeface="Arial"/>
              </a:rPr>
              <a:t>john.cummings@dhs.gov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DA09-063E-4588-84EE-F3255920C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00100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22:15:17Z</dcterms:created>
  <dc:creator>Peerenboom</dc:creator>
  <dc:description/>
  <dc:language>en-US</dc:language>
  <cp:lastModifiedBy>AMSA</cp:lastModifiedBy>
  <cp:lastPrinted>2002-02-25T16:50:36Z</cp:lastPrinted>
  <dcterms:modified xsi:type="dcterms:W3CDTF">2004-02-06T15:57:01Z</dcterms:modified>
  <cp:revision>36</cp:revision>
  <dc:subject/>
  <dc:title>Alex</dc:title>
</cp:coreProperties>
</file>