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025D-5886-4FF8-BFE2-08B2A496A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4612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0EA1-10AE-49B7-BB90-8B0A25C63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2396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3AF6-EFB0-4B1E-80CD-86A2A64E3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6928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620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6928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620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F614-9FB9-4710-A0CA-ED7AB94CE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1426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7160" y="352080"/>
            <a:ext cx="8226360" cy="32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1426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E313-B5B0-49BB-B258-84ABE887F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2396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14612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32396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6928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96200" y="11426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6928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596200" y="1461240"/>
            <a:ext cx="2501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3173-4ACC-4865-8FFE-5A80F8F97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9D5C-41F6-4760-9E7E-C91E47489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897F-AA8E-4BBF-B30C-E17E43C21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352080"/>
            <a:ext cx="8226360" cy="32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F331-C568-4A1C-A92A-8F052AE88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08D8-8268-49B8-928C-C1F9D938A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23960" y="14612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BD69-9170-4B85-BA7B-D69163769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3960" y="1142640"/>
            <a:ext cx="3791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461240"/>
            <a:ext cx="7769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6D59-1950-4712-B0B1-CA49C1B0A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610480" y="6428520"/>
            <a:ext cx="4572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674A-14D4-4738-BFE2-22AE2C610D6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91320" y="640080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 Official Use Only       February 6, 2004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57200" y="6062760"/>
            <a:ext cx="22096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3280" indent="-233280"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ff7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lvl="1" marL="571680" indent="-22392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3" marL="1258920" indent="-231840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4" marL="1598760" indent="-222480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5" marL="1598760" indent="-2224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6" marL="1598760" indent="-2224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7160" y="35208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  <a:p>
            <a:pPr lvl="1" marL="457200" indent="-109440" algn="ctr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 algn="ctr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3" marL="1200240" indent="-173160" algn="ctr"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ff7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4" marL="1542960" indent="-166680" algn="ctr"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5" marL="1542960" indent="-1666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6" marL="1542960" indent="-1666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7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5720" y="-360"/>
            <a:ext cx="746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5920" y="1447920"/>
            <a:ext cx="8875800" cy="40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C573-BFB2-4727-A630-B94A857E0A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8203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rotecting Our Infrastructure </a:t>
            </a:r>
            <a:br>
              <a:rPr sz="4200"/>
            </a:b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7769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0b1b3"/>
                </a:solidFill>
                <a:latin typeface="Arial"/>
              </a:rPr>
              <a:t>February 6, 2004</a:t>
            </a:r>
            <a:endParaRPr b="0" lang="en-US" sz="25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95959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1640" y="5486400"/>
            <a:ext cx="3683160" cy="1071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1828440"/>
            <a:ext cx="7769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David M. Weinberg, PhD</a:t>
            </a:r>
            <a:endParaRPr b="0" lang="en-US" sz="2200" spc="-1" strike="noStrike">
              <a:solidFill>
                <a:srgbClr val="b0b1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0120" y="279000"/>
            <a:ext cx="8082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urpose/Objectives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b1b3"/>
                </a:solidFill>
                <a:latin typeface="Arial"/>
              </a:rPr>
              <a:t>To Share Information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b1b3"/>
                </a:solidFill>
                <a:latin typeface="Arial"/>
              </a:rPr>
              <a:t>Establish Dialog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180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b1b3"/>
                </a:solidFill>
                <a:latin typeface="Arial"/>
              </a:rPr>
              <a:t>Organizational Missions</a:t>
            </a:r>
            <a:endParaRPr b="0" lang="en-US" sz="2400" spc="-1" strike="noStrike">
              <a:solidFill>
                <a:srgbClr val="eff7ff"/>
              </a:solidFill>
              <a:latin typeface="Arial"/>
            </a:endParaRPr>
          </a:p>
          <a:p>
            <a:pPr lvl="1" marL="519120" indent="-171360">
              <a:lnSpc>
                <a:spcPct val="80000"/>
              </a:lnSpc>
              <a:spcBef>
                <a:spcPts val="638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DHS Protective Security Division</a:t>
            </a:r>
            <a:r>
              <a:rPr b="0" lang="en-US" sz="1700" spc="-1" strike="noStrike">
                <a:solidFill>
                  <a:srgbClr val="b0b1b3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Asset Identification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Vulnerability Reduction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Risk Assessment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Field Operations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Process Controls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1" marL="519120" indent="-17136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Role of Technology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PSD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lvl="2" marL="909720" indent="-222480">
              <a:lnSpc>
                <a:spcPct val="80000"/>
              </a:lnSpc>
              <a:spcBef>
                <a:spcPts val="75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b1b3"/>
                </a:solidFill>
                <a:latin typeface="Arial"/>
              </a:rPr>
              <a:t>DHS-S&amp;T</a:t>
            </a:r>
            <a:endParaRPr b="0" lang="en-US" sz="2000" spc="-1" strike="noStrike">
              <a:solidFill>
                <a:srgbClr val="eff7ff"/>
              </a:solidFill>
              <a:latin typeface="Arial"/>
            </a:endParaRPr>
          </a:p>
          <a:p>
            <a:pPr marL="173160" indent="0">
              <a:lnSpc>
                <a:spcPct val="85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1D08-B218-4D4A-A871-ABEB7114A9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6080" y="203040"/>
            <a:ext cx="82944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Department of Homeland Security</a:t>
            </a:r>
            <a:r>
              <a:rPr b="0" lang="en-US" sz="3800" spc="-1" strike="noStrike">
                <a:solidFill>
                  <a:srgbClr val="eff7ff"/>
                </a:solidFill>
                <a:latin typeface="Times New Roman"/>
              </a:rPr>
              <a:t>*</a:t>
            </a:r>
            <a:endParaRPr b="0" lang="en-US" sz="38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94240" y="1574640"/>
            <a:ext cx="1752480" cy="72396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retar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om Ridge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puty Secretar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James Lo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70480" y="2286000"/>
            <a:ext cx="25200" cy="8002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92200" y="3098880"/>
            <a:ext cx="595008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86080" y="31114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9760" y="31114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114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42280" y="31114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3251160"/>
            <a:ext cx="1752480" cy="77472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der Secretary f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ience and Technolog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huck McQuear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27200" y="3251160"/>
            <a:ext cx="1892520" cy="77472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der Secretary f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nformation Analysis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&amp; Infrastructure Protecti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rank Libutti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251160"/>
            <a:ext cx="1816200" cy="77472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der Secretary f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mergency Preparedness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&amp; Response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ke Brown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91240" y="3251160"/>
            <a:ext cx="1752840" cy="77472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der Secretary for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order &amp; Transportati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sa Hutchins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5283360"/>
            <a:ext cx="135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dbfd0"/>
                </a:solidFill>
                <a:latin typeface="Arial"/>
              </a:rPr>
              <a:t>*Abridged Chart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209680"/>
            <a:ext cx="1752480" cy="72396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ited States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ast Guard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209680"/>
            <a:ext cx="1752480" cy="723960"/>
          </a:xfrm>
          <a:prstGeom prst="rect">
            <a:avLst/>
          </a:prstGeom>
          <a:solidFill>
            <a:srgbClr val="cc0000"/>
          </a:solidFill>
          <a:ln w="9360">
            <a:solidFill>
              <a:srgbClr val="595959"/>
            </a:solidFill>
            <a:miter/>
          </a:ln>
          <a:effectLst>
            <a:outerShdw dist="71785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nited States 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ecret Service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507400" y="2566800"/>
            <a:ext cx="4122360" cy="1404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E408-2DFE-4202-995C-14E1B4E05B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5720" y="202680"/>
            <a:ext cx="746892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rotective Security Division*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4479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029200"/>
            <a:ext cx="175248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tective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 Divis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mes McDonnell 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581280"/>
            <a:ext cx="366408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20040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590920"/>
            <a:ext cx="1828800" cy="78732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der Secretary fo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mation Analysis and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rastructure Protect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rank Libutti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3581280"/>
            <a:ext cx="0" cy="38124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175284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sistant Secretary fo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mation Analysis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trick Hughes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0" cy="144792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809880"/>
            <a:ext cx="175284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sistant Secretary fo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rastructure Protect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obert Liscouski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800600"/>
            <a:ext cx="403848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80060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029200"/>
            <a:ext cx="17524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ordination Divis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mes Caverly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480060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029200"/>
            <a:ext cx="17524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ational Cybe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urity Divisio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mit Yora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029200"/>
            <a:ext cx="611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0666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b0b1b3"/>
                </a:solidFill>
                <a:latin typeface="Arial"/>
              </a:rPr>
              <a:t>Mission: Prevent terrorism and reduce the nation’s vulnerability to terrorist acts by taking preemptive and protective actions to mitigate vulnerabilities so that terrorists are no longer able to exploit them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410080"/>
            <a:ext cx="135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dbfd0"/>
                </a:solidFill>
                <a:latin typeface="Arial"/>
              </a:rPr>
              <a:t>*Abridged Chart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5DF0-C43F-4E2D-9CF9-461E060BBB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5720" y="203040"/>
            <a:ext cx="85230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rotective Security Division Office Structure*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553080" y="3389400"/>
            <a:ext cx="2070000" cy="1150920"/>
            <a:chOff x="6553080" y="3389400"/>
            <a:chExt cx="2070000" cy="1150920"/>
          </a:xfrm>
        </p:grpSpPr>
        <p:sp>
          <p:nvSpPr>
            <p:cNvPr id="126" name=""/>
            <p:cNvSpPr/>
            <p:nvPr/>
          </p:nvSpPr>
          <p:spPr>
            <a:xfrm>
              <a:off x="6553080" y="3389400"/>
              <a:ext cx="0" cy="101592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65680" y="4138560"/>
              <a:ext cx="152280" cy="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65680" y="4405320"/>
              <a:ext cx="152280" cy="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17960" y="4024080"/>
              <a:ext cx="1905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Training &amp; Readines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Field Office Liaison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59400" y="3389400"/>
            <a:ext cx="2070000" cy="1150920"/>
            <a:chOff x="4559400" y="3389400"/>
            <a:chExt cx="2070000" cy="1150920"/>
          </a:xfrm>
        </p:grpSpPr>
        <p:sp>
          <p:nvSpPr>
            <p:cNvPr id="131" name=""/>
            <p:cNvSpPr/>
            <p:nvPr/>
          </p:nvSpPr>
          <p:spPr>
            <a:xfrm>
              <a:off x="4559400" y="3389400"/>
              <a:ext cx="0" cy="101592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4138560"/>
              <a:ext cx="152280" cy="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405320"/>
              <a:ext cx="152280" cy="0"/>
            </a:xfrm>
            <a:prstGeom prst="line">
              <a:avLst/>
            </a:prstGeom>
            <a:ln w="9360">
              <a:solidFill>
                <a:srgbClr val="bdbf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4280" y="4024080"/>
              <a:ext cx="1905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Strategic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Tactical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565360" y="3390840"/>
            <a:ext cx="2069640" cy="1380600"/>
            <a:chOff x="2565360" y="3390840"/>
            <a:chExt cx="2069640" cy="1380600"/>
          </a:xfrm>
        </p:grpSpPr>
        <p:grpSp>
          <p:nvGrpSpPr>
            <p:cNvPr id="136" name=""/>
            <p:cNvGrpSpPr/>
            <p:nvPr/>
          </p:nvGrpSpPr>
          <p:grpSpPr>
            <a:xfrm>
              <a:off x="2565360" y="3390840"/>
              <a:ext cx="164520" cy="1257120"/>
              <a:chOff x="2565360" y="3390840"/>
              <a:chExt cx="164520" cy="1257120"/>
            </a:xfrm>
          </p:grpSpPr>
          <p:sp>
            <p:nvSpPr>
              <p:cNvPr id="137" name=""/>
              <p:cNvSpPr/>
              <p:nvPr/>
            </p:nvSpPr>
            <p:spPr>
              <a:xfrm>
                <a:off x="2565360" y="3390840"/>
                <a:ext cx="0" cy="125712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77960" y="411444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77960" y="438120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77960" y="464796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730240" y="4000320"/>
              <a:ext cx="190476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Vulnerability ID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Risk Mitigation Analysi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Protective Measure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96880" y="3390840"/>
            <a:ext cx="2069640" cy="1380600"/>
            <a:chOff x="596880" y="3390840"/>
            <a:chExt cx="2069640" cy="1380600"/>
          </a:xfrm>
        </p:grpSpPr>
        <p:grpSp>
          <p:nvGrpSpPr>
            <p:cNvPr id="143" name=""/>
            <p:cNvGrpSpPr/>
            <p:nvPr/>
          </p:nvGrpSpPr>
          <p:grpSpPr>
            <a:xfrm>
              <a:off x="596880" y="3390840"/>
              <a:ext cx="164520" cy="1257120"/>
              <a:chOff x="596880" y="3390840"/>
              <a:chExt cx="164520" cy="1257120"/>
            </a:xfrm>
          </p:grpSpPr>
          <p:sp>
            <p:nvSpPr>
              <p:cNvPr id="144" name=""/>
              <p:cNvSpPr/>
              <p:nvPr/>
            </p:nvSpPr>
            <p:spPr>
              <a:xfrm>
                <a:off x="596880" y="3390840"/>
                <a:ext cx="0" cy="125712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480" y="411444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480" y="438120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9480" y="4647960"/>
                <a:ext cx="151920" cy="0"/>
              </a:xfrm>
              <a:prstGeom prst="line">
                <a:avLst/>
              </a:prstGeom>
              <a:ln w="9360">
                <a:solidFill>
                  <a:srgbClr val="bdbfd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95959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61760" y="4000320"/>
              <a:ext cx="190476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Asset ID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Situational Awarenes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dbfd0"/>
                  </a:solidFill>
                  <a:latin typeface="Arial"/>
                </a:rPr>
                <a:t>Systems Analysis</a:t>
              </a:r>
              <a:endParaRPr b="0" lang="en-US" sz="1100" spc="-1" strike="noStrike">
                <a:solidFill>
                  <a:srgbClr val="595959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415880" y="3086280"/>
            <a:ext cx="595008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9760" y="30988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4160" y="2476440"/>
            <a:ext cx="0" cy="596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65960" y="30988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1600200"/>
            <a:ext cx="1904760" cy="107964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mes McDonnell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puty Division Direct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hn Weidner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puty Operations Director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lex De Alvarez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8720" y="3238560"/>
            <a:ext cx="175284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sset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 MacLaren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5280" y="3238560"/>
            <a:ext cx="175248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ield Operations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rnelius Tate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5283360"/>
            <a:ext cx="135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dbfd0"/>
                </a:solidFill>
                <a:latin typeface="Arial"/>
              </a:rPr>
              <a:t>*Abridged Chart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03440" y="30988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84880" y="3098880"/>
            <a:ext cx="0" cy="38088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7200" y="3238560"/>
            <a:ext cx="175284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Vulnerability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ve DeAngelis 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21240" y="3238560"/>
            <a:ext cx="175248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isk Assessment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am Speedie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952880"/>
            <a:ext cx="457200" cy="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3048120"/>
            <a:ext cx="0" cy="1904760"/>
          </a:xfrm>
          <a:prstGeom prst="line">
            <a:avLst/>
          </a:prstGeom>
          <a:ln w="28440">
            <a:solidFill>
              <a:srgbClr val="bdb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800600"/>
            <a:ext cx="1752480" cy="609480"/>
          </a:xfrm>
          <a:prstGeom prst="rect">
            <a:avLst/>
          </a:prstGeom>
          <a:solidFill>
            <a:srgbClr val="33b163"/>
          </a:solidFill>
          <a:ln w="9360">
            <a:solidFill>
              <a:srgbClr val="595959"/>
            </a:solidFill>
            <a:miter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cess Controls</a:t>
            </a:r>
            <a:endParaRPr b="0" lang="en-US" sz="11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ke Lombard</a:t>
            </a:r>
            <a:endParaRPr b="0" lang="en-US" sz="1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3B27-0166-4761-A14A-328B50E7D6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0120" y="279000"/>
            <a:ext cx="8082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Paradigm Shift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759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Traditionally, our National Strategy has been focused on Incident Response and Consequence Management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  <a:p>
            <a:pPr marL="173160" indent="-173160">
              <a:spcBef>
                <a:spcPts val="1650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b0b1b3"/>
                </a:solidFill>
                <a:latin typeface="Arial"/>
              </a:rPr>
              <a:t>Prevention</a:t>
            </a:r>
            <a:r>
              <a:rPr b="0" lang="en-US" sz="2200" spc="-1" strike="noStrike">
                <a:solidFill>
                  <a:srgbClr val="b0b1b3"/>
                </a:solidFill>
                <a:latin typeface="Arial"/>
              </a:rPr>
              <a:t> Efforts and Programs </a:t>
            </a:r>
            <a:r>
              <a:rPr b="0" i="1" lang="en-US" sz="2200" spc="-1" strike="noStrike">
                <a:solidFill>
                  <a:srgbClr val="b0b1b3"/>
                </a:solidFill>
                <a:latin typeface="Arial"/>
              </a:rPr>
              <a:t>are Equally Important</a:t>
            </a:r>
            <a:endParaRPr b="0" lang="en-US" sz="2200" spc="-1" strike="noStrike">
              <a:solidFill>
                <a:srgbClr val="eff7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3048120"/>
            <a:ext cx="3657600" cy="1174680"/>
          </a:xfrm>
          <a:prstGeom prst="rect">
            <a:avLst/>
          </a:prstGeom>
          <a:solidFill>
            <a:srgbClr val="bdbfd0"/>
          </a:solidFill>
          <a:ln w="0">
            <a:noFill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4568"/>
                </a:solidFill>
                <a:latin typeface="Arial"/>
              </a:rPr>
              <a:t>Current Emphasis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4568"/>
                </a:solidFill>
                <a:latin typeface="Arial"/>
              </a:rPr>
              <a:t>(Plan, Organize, Train, Equip, Respond, Mitigate/Recovery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009960"/>
            <a:ext cx="419112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2c9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4568"/>
                </a:solidFill>
                <a:latin typeface="Arial"/>
              </a:rPr>
              <a:t>New Paradigm = </a:t>
            </a:r>
            <a:r>
              <a:rPr b="0" i="1" lang="en-US" sz="2000" spc="-1" strike="noStrike">
                <a:solidFill>
                  <a:srgbClr val="224568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4568"/>
                </a:solidFill>
                <a:latin typeface="Arial"/>
              </a:rPr>
              <a:t>(Deter, Detect, Defend, Devalue)</a:t>
            </a:r>
            <a:endParaRPr b="0" lang="en-US" sz="20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648320"/>
            <a:ext cx="4838760" cy="914400"/>
          </a:xfrm>
          <a:prstGeom prst="rect">
            <a:avLst/>
          </a:prstGeom>
          <a:solidFill>
            <a:srgbClr val="d6d5f3"/>
          </a:solidFill>
          <a:ln w="0">
            <a:noFill/>
          </a:ln>
          <a:effectLst>
            <a:outerShdw dist="89604" dir="2700000" blurRad="0" rotWithShape="0">
              <a:srgbClr val="92c9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00" y="4952160"/>
            <a:ext cx="46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306440"/>
                <a:tab algn="r" pos="1781280"/>
                <a:tab algn="r" pos="190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Incident Response      Consequence Mgt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5181480"/>
            <a:ext cx="247680" cy="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7960" y="4647960"/>
            <a:ext cx="2561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92c9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1781280"/>
                <a:tab algn="r" pos="190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etect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1781280"/>
                <a:tab algn="r" pos="190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eter    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 Defend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1781280"/>
                <a:tab algn="r" pos="190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evalue</a:t>
            </a:r>
            <a:endParaRPr b="0" lang="en-US" sz="18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162920" y="5181480"/>
            <a:ext cx="85680" cy="8568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4952880"/>
            <a:ext cx="95040" cy="7632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629400" y="5181480"/>
            <a:ext cx="123840" cy="7632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705720" y="4952880"/>
            <a:ext cx="85680" cy="76320"/>
          </a:xfrm>
          <a:prstGeom prst="line">
            <a:avLst/>
          </a:prstGeom>
          <a:ln w="93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2ED0-2E30-4614-B22D-6BFAF32E1C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f7ff"/>
                </a:solidFill>
                <a:latin typeface="Times New Roman"/>
              </a:rPr>
              <a:t>Infrastructure Protection Technology Contact Information</a:t>
            </a:r>
            <a:endParaRPr b="0" lang="en-US" sz="4200" spc="-1" strike="noStrike">
              <a:solidFill>
                <a:srgbClr val="eff7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447920"/>
            <a:ext cx="4038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50960"/>
            <a:ext cx="76201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b0b1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905120"/>
            <a:ext cx="6933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Protective Security Division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Dave Weinberg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Phone: (202) 282-8758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E-mail: </a:t>
            </a:r>
            <a:r>
              <a:rPr b="1" lang="en-US" sz="2200" spc="-1" strike="noStrike">
                <a:solidFill>
                  <a:srgbClr val="bdbfd0"/>
                </a:solidFill>
                <a:latin typeface="Arial"/>
              </a:rPr>
              <a:t>david.weinberg@dhs.gov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Science &amp; Technology Directorate 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John Cummings 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Phone: (202) 205-4758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b0b1b3"/>
                </a:solidFill>
                <a:latin typeface="Arial"/>
              </a:rPr>
              <a:t>E-mail: </a:t>
            </a:r>
            <a:r>
              <a:rPr b="1" lang="en-US" sz="2200" spc="-1" strike="noStrike">
                <a:solidFill>
                  <a:srgbClr val="bdbfd0"/>
                </a:solidFill>
                <a:latin typeface="Arial"/>
              </a:rPr>
              <a:t>john.cummings@dhs.gov</a:t>
            </a:r>
            <a:endParaRPr b="0" lang="en-US" sz="2200" spc="-1" strike="noStrike">
              <a:solidFill>
                <a:srgbClr val="59595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7957-A7C0-4650-BBBB-A60D14B721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00100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22:15:17Z</dcterms:created>
  <dc:creator>Peerenboom</dc:creator>
  <dc:description/>
  <dc:language>en-US</dc:language>
  <cp:lastModifiedBy>AMSA</cp:lastModifiedBy>
  <cp:lastPrinted>2002-02-25T16:50:36Z</cp:lastPrinted>
  <dcterms:modified xsi:type="dcterms:W3CDTF">2004-02-06T15:57:01Z</dcterms:modified>
  <cp:revision>36</cp:revision>
  <dc:subject/>
  <dc:title>Alex</dc:title>
</cp:coreProperties>
</file>