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i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i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i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CADA42-0B1E-47C4-A94F-30851E62D401}" type="slidenum">
              <a:rPr b="0" i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ral Stockdale Ope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WEF?:  501(c)3 Professional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nd Educational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With Many Organizations on Water/Wastewater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m I Here?  Director, Water Secuirty for W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s focus on a relatively high level process and pause at key stages in this process to examine analytical tools that will help you complete this process when you return to your u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ttempt to provide as much detail as is practical in a one-day session, but please appreciate that this workshop is not a substitute for detailed assessment and planning that must be completed using your own data and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w you how to do it, and in many cases where to turn for additional information, but we don’t do it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s focus on a relatively high level process and pause at key stages in this process to examine analytical tools that will help you complete this process when you return to your u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ttempt to provide as much detail as is practical in a one-day session, but please appreciate that this workshop is not a substitute for detailed assessment and planning that must be completed using your own data and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w you how to do it, and in many cases where to turn for additional information, but we don’t do it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s focus on a relatively high level process and pause at key stages in this process to examine analytical tools that will help you complete this process when you return to your u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ttempt to provide as much detail as is practical in a one-day session, but please appreciate that this workshop is not a substitute for detailed assessment and planning that must be completed using your own data and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w you how to do it, and in many cases where to turn for additional information, but we don’t do it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s focus on a relatively high level process and pause at key stages in this process to examine analytical tools that will help you complete this process when you return to your u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ttempt to provide as much detail as is practical in a one-day session, but please appreciate that this workshop is not a substitute for detailed assessment and planning that must be completed using your own data and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w you how to do it, and in many cases where to turn for additional information, but we don’t do it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s focus on a relatively high level process and pause at key stages in this process to examine analytical tools that will help you complete this process when you return to your u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ttempt to provide as much detail as is practical in a one-day session, but please appreciate that this workshop is not a substitute for detailed assessment and planning that must be completed using your own data and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w you how to do it, and in many cases where to turn for additional information, but we don’t do it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s focus on a relatively high level process and pause at key stages in this process to examine analytical tools that will help you complete this process when you return to your u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ttempt to provide as much detail as is practical in a one-day session, but please appreciate that this workshop is not a substitute for detailed assessment and planning that must be completed using your own data and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w you how to do it, and in many cases where to turn for additional information, but we don’t do it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 of Partners.  Lot of Resources.  Lot of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right answers, evolving process.  New way of thinking about utilities won't happen overnigh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Touch on the Political Atmosphere That Brought Us Where We are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SAT:   Developed for Wastewater;Water and Joint Utility Version Develop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F:  Involved in Training Immediately After 9/11; Worked with AMSA and PA and SCIENTECH to Promote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ime, questions, if not, always feel free to contact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 Case Studies in Wastewater Thr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ditional Mind-Set is What Got Us Where W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t Based Approach Leads to Significant Threat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 Managers Dilemma.  How Much do I Care, How Much Can I Afford if I C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y Should I C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Agree; Are Wastewater Targets Eas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ine.  Significant Conc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Really Thought About.  Is there a sewer line running under this build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onomics:  Is that What Terrorism Is All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 Case Studies in Wastewater Thr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ditional Mind-Set is What Got Us Where W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t Based Approach Leads to Significant Threat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 Managers Dilemma.  How Much do I Care, How Much Can I Afford if I C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 Case Studies in Wastewater Thr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ditional Mind-Set is What Got Us Where W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t Based Approach Leads to Significant Threat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 Managers Dilemma.  How Much do I Care, How Much Can I Afford if I C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773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5800" y="4283280"/>
            <a:ext cx="773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580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048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61920" y="213372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78040" y="213372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5800" y="428328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61920" y="428328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78040" y="428328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45800" y="213372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75"/>
              </a:spcBef>
              <a:spcAft>
                <a:spcPts val="1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360" y="1066680"/>
            <a:ext cx="773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4580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5800" y="213372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75"/>
              </a:spcBef>
              <a:spcAft>
                <a:spcPts val="1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048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5800" y="4283280"/>
            <a:ext cx="773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773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45800" y="4283280"/>
            <a:ext cx="773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4580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048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61920" y="213372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78040" y="213372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45800" y="428328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61920" y="428328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78040" y="428328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1066680"/>
            <a:ext cx="773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580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048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5800" y="4283280"/>
            <a:ext cx="773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A Arc"/>
          <p:cNvSpPr/>
          <p:nvPr/>
        </p:nvSpPr>
        <p:spPr>
          <a:xfrm>
            <a:off x="0" y="0"/>
            <a:ext cx="2954160" cy="2962440"/>
          </a:xfrm>
          <a:custGeom>
            <a:avLst/>
            <a:gdLst/>
            <a:ahLst/>
            <a:rect l="l" t="t" r="r" b="b"/>
            <a:pathLst>
              <a:path w="16044" h="16098">
                <a:moveTo>
                  <a:pt x="16044" y="0"/>
                </a:moveTo>
                <a:lnTo>
                  <a:pt x="0" y="0"/>
                </a:lnTo>
                <a:lnTo>
                  <a:pt x="0" y="16098"/>
                </a:lnTo>
                <a:lnTo>
                  <a:pt x="109" y="14963"/>
                </a:lnTo>
                <a:lnTo>
                  <a:pt x="264" y="13879"/>
                </a:lnTo>
                <a:lnTo>
                  <a:pt x="462" y="12847"/>
                </a:lnTo>
                <a:lnTo>
                  <a:pt x="702" y="11864"/>
                </a:lnTo>
                <a:lnTo>
                  <a:pt x="982" y="10931"/>
                </a:lnTo>
                <a:lnTo>
                  <a:pt x="1300" y="10044"/>
                </a:lnTo>
                <a:lnTo>
                  <a:pt x="1653" y="9203"/>
                </a:lnTo>
                <a:lnTo>
                  <a:pt x="2041" y="8408"/>
                </a:lnTo>
                <a:lnTo>
                  <a:pt x="2458" y="7658"/>
                </a:lnTo>
                <a:lnTo>
                  <a:pt x="2906" y="6949"/>
                </a:lnTo>
                <a:lnTo>
                  <a:pt x="3381" y="6283"/>
                </a:lnTo>
                <a:lnTo>
                  <a:pt x="3882" y="5657"/>
                </a:lnTo>
                <a:lnTo>
                  <a:pt x="4405" y="5072"/>
                </a:lnTo>
                <a:lnTo>
                  <a:pt x="4951" y="4525"/>
                </a:lnTo>
                <a:lnTo>
                  <a:pt x="5514" y="4015"/>
                </a:lnTo>
                <a:lnTo>
                  <a:pt x="6096" y="3542"/>
                </a:lnTo>
                <a:lnTo>
                  <a:pt x="6691" y="3104"/>
                </a:lnTo>
                <a:lnTo>
                  <a:pt x="7301" y="2699"/>
                </a:lnTo>
                <a:lnTo>
                  <a:pt x="7921" y="2328"/>
                </a:lnTo>
                <a:lnTo>
                  <a:pt x="8550" y="1989"/>
                </a:lnTo>
                <a:lnTo>
                  <a:pt x="9186" y="1681"/>
                </a:lnTo>
                <a:lnTo>
                  <a:pt x="9827" y="1403"/>
                </a:lnTo>
                <a:lnTo>
                  <a:pt x="10471" y="1152"/>
                </a:lnTo>
                <a:lnTo>
                  <a:pt x="11115" y="930"/>
                </a:lnTo>
                <a:lnTo>
                  <a:pt x="11757" y="732"/>
                </a:lnTo>
                <a:lnTo>
                  <a:pt x="12396" y="561"/>
                </a:lnTo>
                <a:lnTo>
                  <a:pt x="13029" y="415"/>
                </a:lnTo>
                <a:lnTo>
                  <a:pt x="13656" y="290"/>
                </a:lnTo>
                <a:lnTo>
                  <a:pt x="14272" y="187"/>
                </a:lnTo>
                <a:lnTo>
                  <a:pt x="14878" y="106"/>
                </a:lnTo>
                <a:lnTo>
                  <a:pt x="15468" y="43"/>
                </a:lnTo>
                <a:lnTo>
                  <a:pt x="16044" y="0"/>
                </a:lnTo>
                <a:close/>
              </a:path>
            </a:pathLst>
          </a:custGeom>
          <a:solidFill>
            <a:srgbClr val="5a7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Dividing Line"/>
          <p:cNvSpPr/>
          <p:nvPr/>
        </p:nvSpPr>
        <p:spPr>
          <a:xfrm>
            <a:off x="1066680" y="1676520"/>
            <a:ext cx="7737480" cy="0"/>
          </a:xfrm>
          <a:prstGeom prst="line">
            <a:avLst/>
          </a:prstGeom>
          <a:ln w="28440">
            <a:solidFill>
              <a:srgbClr val="5a7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45800" y="213372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spcBef>
                <a:spcPts val="29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6400">
              <a:spcBef>
                <a:spcPts val="2999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4960" indent="-266400">
              <a:spcBef>
                <a:spcPts val="29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56360" indent="-220320">
              <a:spcBef>
                <a:spcPts val="29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16520">
              <a:spcBef>
                <a:spcPts val="29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16520">
              <a:spcBef>
                <a:spcPts val="29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16520">
              <a:spcBef>
                <a:spcPts val="29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order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505560" y="152280"/>
            <a:ext cx="2486160" cy="581040"/>
            <a:chOff x="6505560" y="152280"/>
            <a:chExt cx="2486160" cy="581040"/>
          </a:xfrm>
        </p:grpSpPr>
        <p:graphicFrame>
          <p:nvGraphicFramePr>
            <p:cNvPr id="6" name=""/>
            <p:cNvGraphicFramePr/>
            <p:nvPr/>
          </p:nvGraphicFramePr>
          <p:xfrm>
            <a:off x="6505560" y="152280"/>
            <a:ext cx="2486160" cy="55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05560" y="152280"/>
                      <a:ext cx="2486160" cy="55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" name=""/>
            <p:cNvSpPr/>
            <p:nvPr/>
          </p:nvSpPr>
          <p:spPr>
            <a:xfrm>
              <a:off x="7443720" y="504720"/>
              <a:ext cx="1447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497" t="0" r="0" b="0"/>
          <a:stretch/>
        </p:blipFill>
        <p:spPr>
          <a:xfrm>
            <a:off x="-1440" y="3240"/>
            <a:ext cx="4298760" cy="6854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25360" y="2571840"/>
            <a:ext cx="7737480" cy="0"/>
          </a:xfrm>
          <a:prstGeom prst="line">
            <a:avLst/>
          </a:prstGeom>
          <a:ln w="28440">
            <a:solidFill>
              <a:srgbClr val="5a7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14800" y="3871800"/>
            <a:ext cx="169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55160" y="1981080"/>
            <a:ext cx="773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7f92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15000" y="254160"/>
          <a:ext cx="3200400" cy="81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54160"/>
                    <a:ext cx="32004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ef.org/watersecurity" TargetMode="External"/><Relationship Id="rId2" Type="http://schemas.openxmlformats.org/officeDocument/2006/relationships/hyperlink" Target="http://www.wef.org/watersecurity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a7f92"/>
                </a:solidFill>
                <a:latin typeface="Arial"/>
                <a:ea typeface="Arial"/>
              </a:rPr>
              <a:t>WEF WASTEWATER SECURITY PROGRAM</a:t>
            </a:r>
            <a:endParaRPr b="0" lang="en-US" sz="30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5800" y="1980720"/>
            <a:ext cx="7737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MSA Winter Conference 200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James K. Sullivan  </a:t>
            </a:r>
            <a:r>
              <a:rPr b="1" i="1" lang="en-GB" sz="2400" spc="-1" strike="noStrike">
                <a:solidFill>
                  <a:srgbClr val="5a7f92"/>
                </a:solidFill>
                <a:latin typeface="Times New Roman"/>
              </a:rPr>
              <a:t>703/684-2436  jsullivan@wef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553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GB" sz="3200" spc="-1" strike="noStrike">
                <a:solidFill>
                  <a:srgbClr val="5a7f92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5a7f92"/>
                </a:solidFill>
                <a:latin typeface="Arial Black"/>
              </a:rPr>
              <a:t>WEF Wastewater Security Training</a:t>
            </a:r>
            <a:br>
              <a:rPr sz="2800"/>
            </a:br>
            <a:r>
              <a:rPr b="0" i="1" lang="en-US" sz="2800" spc="-1" strike="noStrike">
                <a:solidFill>
                  <a:srgbClr val="5a7f92"/>
                </a:solidFill>
                <a:latin typeface="Arial Black"/>
              </a:rPr>
              <a:t>Additional Outreach</a:t>
            </a:r>
            <a:endParaRPr b="0" lang="en-US" sz="28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6160" y="1828440"/>
            <a:ext cx="771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 1-Day “Train the Trainer Sessions” to train technical assistance providers for small/rural util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verage 104(g) Program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tional Outreach Through Webcasts, Including…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ral Wastewater Security Overview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se Studies on Water and Wastewater Secur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51400" y="5545080"/>
          <a:ext cx="379260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1400" y="5545080"/>
                    <a:ext cx="379260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3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GB" sz="3200" spc="-1" strike="noStrike">
                <a:solidFill>
                  <a:srgbClr val="5a7f92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5a7f92"/>
                </a:solidFill>
                <a:latin typeface="Arial Black"/>
              </a:rPr>
              <a:t>WEF Wastewater Security Training</a:t>
            </a:r>
            <a:br>
              <a:rPr sz="2800"/>
            </a:br>
            <a:r>
              <a:rPr b="0" lang="en-US" sz="2800" spc="-1" strike="noStrike">
                <a:solidFill>
                  <a:srgbClr val="5a7f92"/>
                </a:solidFill>
                <a:latin typeface="Arial Black"/>
              </a:rPr>
              <a:t>      </a:t>
            </a:r>
            <a:r>
              <a:rPr b="0" i="1" lang="en-US" sz="2400" spc="-1" strike="noStrike">
                <a:solidFill>
                  <a:srgbClr val="5a7f92"/>
                </a:solidFill>
                <a:latin typeface="Arial Black"/>
              </a:rPr>
              <a:t>Phase III (April – October, 2004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 2-Day hands-on training sessions for Medium to Small POT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to Invest in Trained Trai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each Is Key: Training Emphasizes Best Management Prac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SAT™wastewa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atured As Well As New ERP Enhan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CASTs Used To Broaden Outre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257800" y="5562720"/>
          <a:ext cx="3809880" cy="12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5562720"/>
                    <a:ext cx="380988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2004 POTW TRAINING SCHEDULE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6680" y="1981080"/>
          <a:ext cx="7696440" cy="4467240"/>
        </p:xfrm>
        <a:graphic>
          <a:graphicData uri="http://schemas.openxmlformats.org/drawingml/2006/table">
            <a:tbl>
              <a:tblPr/>
              <a:tblGrid>
                <a:gridCol w="3124440"/>
                <a:gridCol w="4572000"/>
              </a:tblGrid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29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VER, 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3-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DIEGO, 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TFORD, 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10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WAUKEE, W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15-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PA, F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9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,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9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APOLIS, 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16-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TON, N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6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ORLEANS, LA (WEFTEC ’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1-2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CSON, 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TRAIN THE TRAINER for Water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209680"/>
            <a:ext cx="77724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om June to October, 2003 WEF Provided Training to 80 Individuals on How to Provide Free to Low-Cost Security Training to Assist Small/Medium Wa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w-Cost Training Consisted of How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 Vulnerability Assess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, Complete, or Update Their Emergency                                Response Plan;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, Evaluate and Select Appropriate Security Enhancements To Reduce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7f92"/>
                </a:solidFill>
                <a:latin typeface="Arial Black"/>
              </a:rPr>
              <a:t>MEDIUM CWS TRAINING AND TECHNICAL ASSISTANCE</a:t>
            </a:r>
            <a:endParaRPr b="0" lang="en-US" sz="28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209680"/>
            <a:ext cx="77724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F Provid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SAT™Wat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Partner ICMA Provided RAM-W Training to CWS Serving Between 50,000 to 99,999 Per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F Conducted 12 VA and ERP Training Sess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ly Providing Follow-Up Training and Technical Assistance to Systems Serving 10,000 to 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86400" y="5410080"/>
            <a:ext cx="350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7f92"/>
                </a:solidFill>
                <a:latin typeface="Arial Black"/>
              </a:rPr>
              <a:t>What They Are Saying About the WEF Security Training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209680"/>
            <a:ext cx="77724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WEF Security Training is the Most Significant Contribution to the Wastewater Industry in My 30 Year Career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F Instructors are Extremely Knowledgeable and the Hands-On Sessions Really Make Me Feel I can Conduct Our VA In-House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SAT program is extremely easy to use and a powerful tool.  The threat and countermeasures libraries are extens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485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7f92"/>
                </a:solidFill>
                <a:latin typeface="Arial Black"/>
              </a:rPr>
              <a:t>WEF and Wastewater Security</a:t>
            </a:r>
            <a:br>
              <a:rPr sz="3200"/>
            </a:br>
            <a:r>
              <a:rPr b="0" lang="en-GB" sz="3200" spc="-1" strike="noStrike">
                <a:solidFill>
                  <a:srgbClr val="5a7f92"/>
                </a:solidFill>
                <a:latin typeface="Arial Black"/>
              </a:rPr>
              <a:t> </a:t>
            </a:r>
            <a:r>
              <a:rPr b="0" i="1" lang="en-GB" sz="2400" spc="-1" strike="noStrike">
                <a:solidFill>
                  <a:srgbClr val="5a7f92"/>
                </a:solidFill>
                <a:latin typeface="Arial Black"/>
              </a:rPr>
              <a:t>Security Technical Guidance Development</a:t>
            </a:r>
            <a:endParaRPr b="0" lang="en-US" sz="24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981080"/>
            <a:ext cx="77724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 algn="ctr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STEWATER THREAT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Ws Need Assistance To Identify and Prioritize 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rn From Baseline Threat Document For Water and Build on Experiences, Current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bruary 13, 2004 POTW Stakeholder Meeting in Washington,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Draft Guidance to EPA in Summer, ‘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7f92"/>
                </a:solidFill>
                <a:latin typeface="Arial Black"/>
              </a:rPr>
              <a:t>WEF and Wastewater Security</a:t>
            </a:r>
            <a:br>
              <a:rPr sz="3200"/>
            </a:br>
            <a:r>
              <a:rPr b="0" lang="en-GB" sz="3200" spc="-1" strike="noStrike">
                <a:solidFill>
                  <a:srgbClr val="5a7f92"/>
                </a:solidFill>
                <a:latin typeface="Arial Black"/>
              </a:rPr>
              <a:t> </a:t>
            </a:r>
            <a:r>
              <a:rPr b="0" i="1" lang="en-GB" sz="2400" spc="-1" strike="noStrike">
                <a:solidFill>
                  <a:srgbClr val="5a7f92"/>
                </a:solidFill>
                <a:latin typeface="Arial Black"/>
              </a:rPr>
              <a:t>Security Technical Guidance Development</a:t>
            </a:r>
            <a:endParaRPr b="0" lang="en-US" sz="24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1981080"/>
            <a:ext cx="777240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 algn="ctr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STEWATER INTRASTRUCTURE GUID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int Effort of USEPA, ASCE, AWWA, and W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F Will Develop Guidance for Wastewater Collection and Treatment and Stormwate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ok to Provide Long Term Solutions to Secur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ER Review Process Ongoing; Volunteer Need in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WEF Water Security Workshops</a:t>
            </a:r>
            <a:br>
              <a:rPr sz="3200"/>
            </a:br>
            <a:r>
              <a:rPr b="0" i="1" lang="en-US" sz="2800" spc="-1" strike="noStrike">
                <a:solidFill>
                  <a:srgbClr val="5a7f92"/>
                </a:solidFill>
                <a:latin typeface="Arial Black"/>
              </a:rPr>
              <a:t>3 Easy Options to Register</a:t>
            </a:r>
            <a:endParaRPr b="0" lang="en-US" sz="28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773748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66680" y="2133720"/>
          <a:ext cx="7696440" cy="419076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999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</a:t>
                      </a:r>
                      <a:r>
                        <a:rPr b="1" lang="en-US" sz="2400" spc="-1" strike="noStrike" u="sng">
                          <a:solidFill>
                            <a:srgbClr val="ece5f1"/>
                          </a:solidFill>
                          <a:uFillTx/>
                          <a:latin typeface="Arial"/>
                          <a:hlinkClick r:id="rId1"/>
                        </a:rPr>
                        <a:t>www.wef.org/watersecurity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and register online; 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999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</a:t>
                      </a:r>
                      <a:r>
                        <a:rPr b="1" lang="en-US" sz="2400" spc="-1" strike="noStrike" u="sng">
                          <a:solidFill>
                            <a:srgbClr val="ece5f1"/>
                          </a:solidFill>
                          <a:uFillTx/>
                          <a:latin typeface="Arial"/>
                          <a:hlinkClick r:id="rId2"/>
                        </a:rPr>
                        <a:t>www.wef.org/watersecurity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&amp;  download PDF form and fax to 703/684-2413; 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501"/>
                        </a:spcBef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Call 703/684-2400 Extension 70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501"/>
                        </a:spcBef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/COMMENT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Overview of Presentation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936800"/>
            <a:ext cx="777240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tewater Security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F Wastewater Security Projects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ining and Technical Assist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F Wastewater Security Projects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urity Guidance Develop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uestions/Com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Wastewater Security Considerations</a:t>
            </a:r>
            <a:br>
              <a:rPr sz="2800"/>
            </a:br>
            <a:r>
              <a:rPr b="0" i="1" lang="en-GB" sz="2800" spc="-1" strike="noStrike">
                <a:solidFill>
                  <a:srgbClr val="5a7f92"/>
                </a:solidFill>
                <a:latin typeface="Arial Black"/>
              </a:rPr>
              <a:t>General Assumptions</a:t>
            </a:r>
            <a:r>
              <a:rPr b="0" lang="en-GB" sz="3200" spc="-1" strike="noStrike">
                <a:solidFill>
                  <a:srgbClr val="5a7f92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73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threats from terrorist and related events relatively new, so industry standard protocol in its infa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security practices more evident out-of-industry – high-risk government buildings, nuclear power pl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tewater utility physical assets typically dispersed, so, standard approaches to security developed for enterprises with highly centralized assets not likely to fit perfec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s facing a balancing act between external demands for security and internal resources to act and fin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Wastewater Security Considerations</a:t>
            </a:r>
            <a:br>
              <a:rPr sz="2800"/>
            </a:br>
            <a:r>
              <a:rPr b="0" i="1" lang="en-GB" sz="2800" spc="-1" strike="noStrike">
                <a:solidFill>
                  <a:srgbClr val="5a7f92"/>
                </a:solidFill>
                <a:latin typeface="Arial Black"/>
              </a:rPr>
              <a:t>Wastewater Threats Are Real</a:t>
            </a: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133720"/>
            <a:ext cx="8534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objective of terrorism is disruption of civil society, mass destruction, and the creation of fear, then wastewater utilities could be easy targ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tewater assets are easy targets and not yet particularly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zardous chemicals delivered, stored, used on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 could provide access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 plants are upstream and downstream of significant economic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WEF and Wastewater Security</a:t>
            </a:r>
            <a:br>
              <a:rPr sz="2800"/>
            </a:br>
            <a:r>
              <a:rPr b="0" i="1" lang="en-GB" sz="2800" spc="-1" strike="noStrike">
                <a:solidFill>
                  <a:srgbClr val="5a7f92"/>
                </a:solidFill>
                <a:latin typeface="Arial Black"/>
              </a:rPr>
              <a:t>Mission not Money</a:t>
            </a:r>
            <a:endParaRPr b="0" lang="en-US" sz="28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73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l WEF Water and Wastewater Security Training Produced with EPA Fu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Security with the WEF Vision, Mission, and Strategic Pl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0080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Scientifically Sound Environmental Practices and Regulation … Develop and Promote Best Practic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0080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cate That The Water/Wastewater Profession is an Integral Component of Environmental Community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F Continues Long History of                               Education and Training                                                                (WEFTEC; specialty workshop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WEF Wastewater Security</a:t>
            </a:r>
            <a:br>
              <a:rPr sz="2800"/>
            </a:br>
            <a:r>
              <a:rPr b="0" i="1" lang="en-GB" sz="2800" spc="-1" strike="noStrike">
                <a:solidFill>
                  <a:srgbClr val="5a7f92"/>
                </a:solidFill>
                <a:latin typeface="Arial Black"/>
              </a:rPr>
              <a:t>Program Highlights</a:t>
            </a:r>
            <a:endParaRPr b="0" lang="en-US" sz="28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0" algn="ctr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INING AND TECHNICAL ASSI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stewater Security Overview Worksh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POTW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TW Train-the-Trainer; Webca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-- Medium/Small POTW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rinking Water Train-the-Train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um CWS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ECURITY TECHNICAL GUIDANCE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velopment of Wastewater Threat Guidanc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curity Guidance Document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WEF and Wastewater Security</a:t>
            </a:r>
            <a:br>
              <a:rPr sz="2800"/>
            </a:br>
            <a:r>
              <a:rPr b="0" i="1" lang="en-GB" sz="2400" spc="-1" strike="noStrike">
                <a:solidFill>
                  <a:srgbClr val="5a7f92"/>
                </a:solidFill>
                <a:latin typeface="Arial Black"/>
              </a:rPr>
              <a:t>Training and Technical Assistance</a:t>
            </a:r>
            <a:endParaRPr b="0" lang="en-US" sz="24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71520" indent="-37008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d Over 50 Water and Wastewater Security Training Sessions From March ‘02 to November ‘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370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 1-day General Vulnerability Assessment Wastewater Sess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370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elve 2-Day hands-on VA and ERP training sessions for large POTW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370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 1-Day “Train the Trainer Sessions” to train assistance providers for small/medium POT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370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elve 2-Day VA and ERP Sessions for Medium C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370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ve 2-Day “Train the Trainer” Sessions for Small C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370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ous Webca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3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WEF Wastewater Security Training</a:t>
            </a:r>
            <a:br>
              <a:rPr sz="2800"/>
            </a:b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         </a:t>
            </a:r>
            <a:r>
              <a:rPr b="0" i="1" lang="en-US" sz="2400" spc="-1" strike="noStrike">
                <a:solidFill>
                  <a:srgbClr val="5a7f92"/>
                </a:solidFill>
                <a:latin typeface="Arial Black"/>
              </a:rPr>
              <a:t>Phase I (January – June, 2002)</a:t>
            </a:r>
            <a:br>
              <a:rPr sz="2400"/>
            </a:br>
            <a:endParaRPr b="0" lang="en-US" sz="24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80000"/>
              </a:lnSpc>
              <a:spcBef>
                <a:spcPts val="975"/>
              </a:spcBef>
              <a:spcAft>
                <a:spcPts val="6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 1-day General Vulnerability Assessment Sessions, reaching over 600 representatives of POTWs, federal and state government, and other security planning personne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Ws Train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d prioritiz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ediate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ns for utilities;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low cost/hig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 security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553080" y="3962520"/>
            <a:ext cx="2133720" cy="2743200"/>
            <a:chOff x="6553080" y="3962520"/>
            <a:chExt cx="2133720" cy="2743200"/>
          </a:xfrm>
        </p:grpSpPr>
        <p:sp>
          <p:nvSpPr>
            <p:cNvPr id="115" name=""/>
            <p:cNvSpPr/>
            <p:nvPr/>
          </p:nvSpPr>
          <p:spPr>
            <a:xfrm>
              <a:off x="6553080" y="3962520"/>
              <a:ext cx="2133720" cy="2743200"/>
            </a:xfrm>
            <a:prstGeom prst="rect">
              <a:avLst/>
            </a:prstGeom>
            <a:solidFill>
              <a:srgbClr val="08080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6612120" y="4011480"/>
            <a:ext cx="2011320" cy="2612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12120" y="4011480"/>
                      <a:ext cx="2011320" cy="261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3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GB" sz="3200" spc="-1" strike="noStrike">
                <a:solidFill>
                  <a:srgbClr val="5a7f92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5a7f92"/>
                </a:solidFill>
                <a:latin typeface="Arial Black"/>
              </a:rPr>
              <a:t>WEF Wastewater Security Training</a:t>
            </a:r>
            <a:br>
              <a:rPr sz="2800"/>
            </a:br>
            <a:r>
              <a:rPr b="0" lang="en-US" sz="2800" spc="-1" strike="noStrike">
                <a:solidFill>
                  <a:srgbClr val="5a7f92"/>
                </a:solidFill>
                <a:latin typeface="Arial Black"/>
              </a:rPr>
              <a:t>      </a:t>
            </a:r>
            <a:r>
              <a:rPr b="0" i="1" lang="en-US" sz="2400" spc="-1" strike="noStrike">
                <a:solidFill>
                  <a:srgbClr val="5a7f92"/>
                </a:solidFill>
                <a:latin typeface="Arial Black"/>
              </a:rPr>
              <a:t>Phase II (October, 2002-May, 2003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80240" indent="-480240"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elve 2-Day hands-on training sessions for large POT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s of utility employees work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SAT ™wastewater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ware and data from their ut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is Free, but only open to POTW Staff or his/her design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AT™ Co-Developers PA/SCIENTECH Provide the 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240" indent="0"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257800" y="5562720"/>
          <a:ext cx="3809880" cy="12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5562720"/>
                    <a:ext cx="380988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5:50:05Z</dcterms:created>
  <dc:creator>Ken Rubin</dc:creator>
  <dc:description/>
  <dc:language>en-US</dc:language>
  <cp:lastModifiedBy>AMSA</cp:lastModifiedBy>
  <dcterms:modified xsi:type="dcterms:W3CDTF">2004-02-06T16:08:44Z</dcterms:modified>
  <cp:revision>83</cp:revision>
  <dc:subject/>
  <dc:title>Vulnerability Assessment Tool - VSAT</dc:title>
</cp:coreProperties>
</file>