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F50E-AA72-4BD9-A506-4C22975B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9767-62E3-4906-95CA-63DB96ED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7392-59C1-40B0-BB99-3689B30D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40F9-4C72-46A3-BFBC-10328040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23D7-4C2E-4841-8749-912019A9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ADB-BE41-4DBA-AC71-95ECBF25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631-1FCA-4F31-BFAC-C9731C2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6B36-8782-4D2F-B11D-6D4CF617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D347-3E72-44F0-B6DF-8B0BFF5D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CCF6-E0AD-4D7C-ADED-8F9703C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BFA2-7C43-4153-9845-7A35F75D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815B-4C06-4F6B-BA76-9BD53AF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1C49-5282-40E4-A4AD-1A2E755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5E1-A064-4547-9D30-F1B1297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D98-4056-496C-A7E0-30652062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9130-AB88-48C8-8810-DCCE1B26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6231-F200-4D88-B506-ED5E1513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895E-6456-4C97-B4F0-8B47DCB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385F-D70A-49EA-AFC4-CCDEB14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C557-C50E-4D7B-B963-E9BF5F49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63A1-0AE1-4511-980E-04AD75D4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D41D-CF48-4373-B4E6-A61BE35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095B-213F-464C-BAE3-9E57BD2E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470D-5496-4D92-84CE-969FCC1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F01E-C385-49AA-B163-9411E76A55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066-F658-492E-9661-D2CA8C3C19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Garamond"/>
              </a:rPr>
              <a:t>Continual Improvement in Utility Management:  A Framework for Integ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MSA 2004 Winter Confe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s Angeles, 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ebruary 5, 200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ase 2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hn Cook, City of Charleston Commissioners of Public 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d McCormick, East Bay Municipal Utilities Distri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y Orvin, Western Carolina Regional Sewer Autho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ter Ruffier, City of Eugene Public Works Depar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ne Taniguchi-Dennis, City of Albany Public Works Depar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ris Toth, City of San Diego Metropolitan Wastewater Depar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Review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806F-30A8-4ECF-8678-C9CBEDFE2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gration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de provides a roadmap for how a utility can best approach integrating management initiatives in the context of a continual improvement management frame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seeks to promote continual improvement management system (CIMS) frameworks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ghlighting their versatility – ability to address a variety of management performance needs;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entifying the efficiencies achieved when one framework is used to address multiple management initiativ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9316-BB6B-4327-AC2A-B98653BBAB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is for The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tilities are increasingly feeling a need for management change, but are unclear about relationship among management initiat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tilities are increasingly interested and accepting of using plan-do-check-act to develop a CIMS approach, but do not have information on how to apply on an integrated ba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limited, though sufficient, experience with integration to demonstrate benefits and provide basis for guid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de compliments (does not detract from) existing management initiat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EDCF-B32A-490D-8845-9F4F1A172F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the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ew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High-Level Int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Endorsement of Guide by Six Utility Mana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ivers for Chan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llenges to Initiative Ado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MS Frameworks – An Over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ckground and El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on Opport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B60D-269F-47CF-A56D-C0F5059350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the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derstanding Relationships Among Utility Management Improvement Initi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ivers for Integ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ationships Among the Initiatives in CIMS Contex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actical Considerations for How to Integr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roa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se Examples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Opportuni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754A-4F8D-435D-8E10-EA44F796D1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8 Integration Opportunities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under the Continual Improvement Management System Framework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commit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Policy stat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Assessing areas for improv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al and other requir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Objectives and targ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anagement programs for performance improv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ining, awareness, and compet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on – internal and exter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cument 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ergency preparedness and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erational contr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he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easuring and monito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anagement review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udi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rrective and preventive a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 managemen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A230-7047-436B-BF86-BE38F4FD4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 and Tar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rmonizing objectives and targets: identify interdependencies, reconcile and align prior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a utility developing a CMOM program will likely also recognize SSOs as a significant environmental aspect under an EMS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rdinating/aligning process: leverage the same process for developing, harmonizing, and communicating objectives and targ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a utility establishing a community advisory panel to support setting objectives and targets under an EMS could involve the same panel to address other objectives and targe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03AE-151E-4068-B912-5C6E8B8FAC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63680" y="1704960"/>
            <a:ext cx="8218440" cy="4086360"/>
            <a:chOff x="463680" y="1704960"/>
            <a:chExt cx="8218440" cy="4086360"/>
          </a:xfrm>
        </p:grpSpPr>
        <p:sp>
          <p:nvSpPr>
            <p:cNvPr id="167" name=""/>
            <p:cNvSpPr/>
            <p:nvPr/>
          </p:nvSpPr>
          <p:spPr>
            <a:xfrm rot="5400000">
              <a:off x="4010760" y="3952080"/>
              <a:ext cx="533520" cy="1163520"/>
            </a:xfrm>
            <a:prstGeom prst="upArrow">
              <a:avLst>
                <a:gd name="adj1" fmla="val 39889"/>
                <a:gd name="adj2" fmla="val 77349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242760" y="3952080"/>
              <a:ext cx="533520" cy="1163520"/>
            </a:xfrm>
            <a:prstGeom prst="upArrow">
              <a:avLst>
                <a:gd name="adj1" fmla="val 39889"/>
                <a:gd name="adj2" fmla="val 77349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1751760" y="3952080"/>
              <a:ext cx="533520" cy="1163520"/>
            </a:xfrm>
            <a:prstGeom prst="upArrow">
              <a:avLst>
                <a:gd name="adj1" fmla="val 39889"/>
                <a:gd name="adj2" fmla="val 77349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995400" y="2190240"/>
              <a:ext cx="458640" cy="1000440"/>
            </a:xfrm>
            <a:prstGeom prst="upArrow">
              <a:avLst>
                <a:gd name="adj1" fmla="val 39889"/>
                <a:gd name="adj2" fmla="val 7736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680" y="1704960"/>
              <a:ext cx="1523880" cy="91440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QualSer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480" y="3276720"/>
              <a:ext cx="1447920" cy="251460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09">
                  <a:moveTo>
                    <a:pt x="3600" y="0"/>
                  </a:moveTo>
                  <a:arcTo wR="3600" hR="3600" stAng="16200000" swAng="-5400000"/>
                  <a:lnTo>
                    <a:pt x="0" y="33909"/>
                  </a:lnTo>
                  <a:arcTo wR="3600" hR="3600" stAng="10800000" swAng="-5400000"/>
                  <a:lnTo>
                    <a:pt x="18000" y="37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Self-assessment against best pract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4200" y="3276720"/>
              <a:ext cx="1447920" cy="251460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09">
                  <a:moveTo>
                    <a:pt x="3600" y="0"/>
                  </a:moveTo>
                  <a:arcTo wR="3600" hR="3600" stAng="16200000" swAng="-5400000"/>
                  <a:lnTo>
                    <a:pt x="0" y="33909"/>
                  </a:lnTo>
                  <a:arcTo wR="3600" hR="3600" stAng="10800000" swAng="-5400000"/>
                  <a:lnTo>
                    <a:pt x="18000" y="37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Continual improvement management system supporting all management areas and incorporating best pract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3246480" y="2209680"/>
              <a:ext cx="458640" cy="1000080"/>
            </a:xfrm>
            <a:prstGeom prst="upArrow">
              <a:avLst>
                <a:gd name="adj1" fmla="val 39889"/>
                <a:gd name="adj2" fmla="val 77338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1120" y="3276720"/>
              <a:ext cx="1447920" cy="251460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09">
                  <a:moveTo>
                    <a:pt x="3600" y="0"/>
                  </a:moveTo>
                  <a:arcTo wR="3600" hR="3600" stAng="16200000" swAng="-5400000"/>
                  <a:lnTo>
                    <a:pt x="0" y="33909"/>
                  </a:lnTo>
                  <a:arcTo wR="3600" hR="3600" stAng="10800000" swAng="-5400000"/>
                  <a:lnTo>
                    <a:pt x="18000" y="37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Develop goals for all management areas and plans for implementing best practices across oper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2960" y="1704960"/>
              <a:ext cx="1524240" cy="91440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Balanc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Scorecar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00000">
              <a:off x="5495400" y="2209680"/>
              <a:ext cx="459000" cy="1000080"/>
            </a:xfrm>
            <a:prstGeom prst="upArrow">
              <a:avLst>
                <a:gd name="adj1" fmla="val 39889"/>
                <a:gd name="adj2" fmla="val 77278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0760" y="3276720"/>
              <a:ext cx="1447560" cy="251460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18">
                  <a:moveTo>
                    <a:pt x="3600" y="0"/>
                  </a:moveTo>
                  <a:arcTo wR="3600" hR="3600" stAng="16200000" swAng="-5400000"/>
                  <a:lnTo>
                    <a:pt x="0" y="33918"/>
                  </a:lnTo>
                  <a:arcTo wR="3600" hR="3600" stAng="10800000" swAng="-5400000"/>
                  <a:lnTo>
                    <a:pt x="18000" y="375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Develop a </a:t>
              </a:r>
              <a:br>
                <a:rPr sz="1400"/>
              </a:b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P-D-C-A framework for regular checking and ac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4040" y="1704960"/>
              <a:ext cx="1524240" cy="91440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ISO 14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art by Planning and Self-Assess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FD45-0186-46B0-B2A5-BCEAD28812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8600" y="1812960"/>
            <a:ext cx="8529480" cy="3487680"/>
            <a:chOff x="228600" y="1812960"/>
            <a:chExt cx="8529480" cy="3487680"/>
          </a:xfrm>
        </p:grpSpPr>
        <p:sp>
          <p:nvSpPr>
            <p:cNvPr id="182" name=""/>
            <p:cNvSpPr/>
            <p:nvPr/>
          </p:nvSpPr>
          <p:spPr>
            <a:xfrm rot="5400000">
              <a:off x="681084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320076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00904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139104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771480" y="2412720"/>
              <a:ext cx="362160" cy="787320"/>
            </a:xfrm>
            <a:prstGeom prst="upArrow">
              <a:avLst>
                <a:gd name="adj1" fmla="val 39889"/>
                <a:gd name="adj2" fmla="val 7710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" y="1812960"/>
              <a:ext cx="144792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NBP E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Develop a PDCA framework for biosolids ope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2581200" y="2412720"/>
              <a:ext cx="362160" cy="787320"/>
            </a:xfrm>
            <a:prstGeom prst="upArrow">
              <a:avLst>
                <a:gd name="adj1" fmla="val 39889"/>
                <a:gd name="adj2" fmla="val 7710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9060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Expand scope of PDCA framework to collection systems and other wastewater treatment ope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38320" y="1812960"/>
              <a:ext cx="144792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CMO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4389120" y="2412720"/>
              <a:ext cx="361800" cy="787320"/>
            </a:xfrm>
            <a:prstGeom prst="upArrow">
              <a:avLst>
                <a:gd name="adj1" fmla="val 39889"/>
                <a:gd name="adj2" fmla="val 7718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888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Incorporate financial/ asset management area into PDCA framework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46600" y="1812960"/>
              <a:ext cx="144756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Asse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6198840" y="2412720"/>
              <a:ext cx="361800" cy="787320"/>
            </a:xfrm>
            <a:prstGeom prst="upArrow">
              <a:avLst>
                <a:gd name="adj1" fmla="val 39889"/>
                <a:gd name="adj2" fmla="val 7718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0860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Adopt best practices for all ope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56320" y="1812960"/>
              <a:ext cx="144792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APWA Management Accredi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6880" y="3319560"/>
              <a:ext cx="1141200" cy="1981080"/>
            </a:xfrm>
            <a:custGeom>
              <a:avLst/>
              <a:gdLst>
                <a:gd name="textAreaLeft" fmla="*/ 55440 w 1141200"/>
                <a:gd name="textAreaRight" fmla="*/ 1085760 w 114120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92">
                  <a:moveTo>
                    <a:pt x="3600" y="0"/>
                  </a:moveTo>
                  <a:arcTo wR="3600" hR="3600" stAng="16200000" swAng="-5400000"/>
                  <a:lnTo>
                    <a:pt x="0" y="33892"/>
                  </a:lnTo>
                  <a:arcTo wR="3600" hR="3600" stAng="10800000" swAng="-5400000"/>
                  <a:lnTo>
                    <a:pt x="18000" y="374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Continual improvement management system for all operations supporting environ. And financial/asset management are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anding Covered Op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EA69-0931-4736-911C-A04024955B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rot="5400000">
            <a:off x="4010760" y="3952080"/>
            <a:ext cx="533520" cy="1163520"/>
          </a:xfrm>
          <a:prstGeom prst="upArrow">
            <a:avLst>
              <a:gd name="adj1" fmla="val 39889"/>
              <a:gd name="adj2" fmla="val 77349"/>
            </a:avLst>
          </a:prstGeom>
          <a:solidFill>
            <a:srgbClr val="003399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6242760" y="3952080"/>
            <a:ext cx="533520" cy="1163520"/>
          </a:xfrm>
          <a:prstGeom prst="upArrow">
            <a:avLst>
              <a:gd name="adj1" fmla="val 39889"/>
              <a:gd name="adj2" fmla="val 77349"/>
            </a:avLst>
          </a:prstGeom>
          <a:solidFill>
            <a:srgbClr val="003399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751760" y="3952080"/>
            <a:ext cx="533520" cy="1163520"/>
          </a:xfrm>
          <a:prstGeom prst="upArrow">
            <a:avLst>
              <a:gd name="adj1" fmla="val 39889"/>
              <a:gd name="adj2" fmla="val 77349"/>
            </a:avLst>
          </a:prstGeom>
          <a:solidFill>
            <a:srgbClr val="003399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995400" y="2190240"/>
            <a:ext cx="458640" cy="1000440"/>
          </a:xfrm>
          <a:prstGeom prst="upArrow">
            <a:avLst>
              <a:gd name="adj1" fmla="val 39889"/>
              <a:gd name="adj2" fmla="val 7736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3680" y="1704960"/>
            <a:ext cx="1523880" cy="914400"/>
          </a:xfrm>
          <a:prstGeom prst="ellipse">
            <a:avLst/>
          </a:pr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PA EMS for Local Gover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1480" y="3276720"/>
            <a:ext cx="1447920" cy="2514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09">
                <a:moveTo>
                  <a:pt x="3600" y="0"/>
                </a:moveTo>
                <a:arcTo wR="3600" hR="3600" stAng="16200000" swAng="-5400000"/>
                <a:lnTo>
                  <a:pt x="0" y="33909"/>
                </a:lnTo>
                <a:arcTo wR="3600" hR="3600" stAng="10800000" swAng="-5400000"/>
                <a:lnTo>
                  <a:pt x="18000" y="37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Develop enterprise-wide PDCA framework for environ. management  a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4200" y="3276720"/>
            <a:ext cx="1447920" cy="2514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09">
                <a:moveTo>
                  <a:pt x="3600" y="0"/>
                </a:moveTo>
                <a:arcTo wR="3600" hR="3600" stAng="16200000" swAng="-5400000"/>
                <a:lnTo>
                  <a:pt x="0" y="33909"/>
                </a:lnTo>
                <a:arcTo wR="3600" hR="3600" stAng="10800000" swAng="-5400000"/>
                <a:lnTo>
                  <a:pt x="18000" y="37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nterprise-wide continual improvement management system covering all management ar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246480" y="2209680"/>
            <a:ext cx="458640" cy="1000080"/>
          </a:xfrm>
          <a:prstGeom prst="upArrow">
            <a:avLst>
              <a:gd name="adj1" fmla="val 39889"/>
              <a:gd name="adj2" fmla="val 7733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51120" y="3276720"/>
            <a:ext cx="1447920" cy="2514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09">
                <a:moveTo>
                  <a:pt x="3600" y="0"/>
                </a:moveTo>
                <a:arcTo wR="3600" hR="3600" stAng="16200000" swAng="-5400000"/>
                <a:lnTo>
                  <a:pt x="0" y="33909"/>
                </a:lnTo>
                <a:arcTo wR="3600" hR="3600" stAng="10800000" swAng="-5400000"/>
                <a:lnTo>
                  <a:pt x="18000" y="37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stablish goals, targets, and performance measures</a:t>
            </a:r>
            <a:br>
              <a:rPr sz="1400"/>
            </a:b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for all management ar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12960" y="1704960"/>
            <a:ext cx="1524240" cy="914400"/>
          </a:xfrm>
          <a:prstGeom prst="ellipse">
            <a:avLst/>
          </a:pr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Balan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Scorec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5495400" y="2209680"/>
            <a:ext cx="459000" cy="1000080"/>
          </a:xfrm>
          <a:prstGeom prst="upArrow">
            <a:avLst>
              <a:gd name="adj1" fmla="val 39889"/>
              <a:gd name="adj2" fmla="val 7727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0760" y="3276720"/>
            <a:ext cx="1447560" cy="2514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18">
                <a:moveTo>
                  <a:pt x="3600" y="0"/>
                </a:moveTo>
                <a:arcTo wR="3600" hR="3600" stAng="16200000" swAng="-5400000"/>
                <a:lnTo>
                  <a:pt x="0" y="33918"/>
                </a:lnTo>
                <a:arcTo wR="3600" hR="3600" stAng="10800000" swAng="-5400000"/>
                <a:lnTo>
                  <a:pt x="18000" y="375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Incorporate quality and safety &amp; health management areas into PDCA fra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4040" y="1704960"/>
            <a:ext cx="1524240" cy="914400"/>
          </a:xfrm>
          <a:prstGeom prst="ellipse">
            <a:avLst/>
          </a:pr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ISO 9001 and OSHA V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veraging Infrastructure and Increasing Management Are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81CB-4F14-4AC6-9065-9B8BAE92A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hase I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ject Workgroup Memb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tility Memb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hn Co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ve Hayash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dane McLemo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ian Orfe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y Or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ter Ruff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vin Shaf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chael Sween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ne Taniguchi-Denn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 Officio Advis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len Barret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bert Matthe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an Ri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ncy Wheatl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8831-0C25-4BD3-B516-3CE1466DC1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Are Utilities Integrating and Using “Plan, Do, Check, Act”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al improvement in targeted management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hanced operational consistency and relia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teamwork, interdepartmental coordination, and employee aware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customer responsiveness and recogn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55D4-01B7-4CBB-B358-C3AD39818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re The Primary Benefits of Integrat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rategic alignm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management system elements to ensure that organizational resource allocations are not in competition, but are coordinated and sufficient to meet a variety of desired management areas – “harmonize” across different management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everage of the management system infrastructu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support continual improvement in multiple areas, creating efficiencies and cost effective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CCF2-41FC-4112-9267-2138117545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rivers for Management Chang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increased investment in and attentiveness to infrastructure maintenance and replac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ety of new regulatory requirements (TMDLs, CMOM, ESA, GASB-3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expectations for service, costs, environmental performance, and transparen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ate competitiveness press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 force demographics driving need for well-documented, reproducible 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E9B4-4823-4B2E-900F-315A875E0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ment Initiatives Research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Management Too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PWA Management Accreditation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et 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WWA Proposed Accreditation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lanced Scoreca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ldrige Quality Awa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d-to-Go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M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SB-3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rtnership for Safe Wa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alS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Management System Framewor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O 140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O 90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ional Biosolids Partnership EMS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PA EMS for Local Government Initi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SHA Voluntary Protection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350040" y="4819680"/>
            <a:ext cx="633240" cy="233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50480" y="48499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83280" y="5261040"/>
            <a:ext cx="554040" cy="2318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42040" y="5289480"/>
            <a:ext cx="22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6440" y="5261040"/>
            <a:ext cx="608040" cy="2318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57920" y="52894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50040" y="5694480"/>
            <a:ext cx="633240" cy="234720"/>
          </a:xfrm>
          <a:prstGeom prst="rect">
            <a:avLst/>
          </a:prstGeom>
          <a:noFill/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85680" y="572616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983280" y="4921200"/>
            <a:ext cx="309240" cy="339480"/>
            <a:chOff x="6983280" y="4921200"/>
            <a:chExt cx="309240" cy="339480"/>
          </a:xfrm>
        </p:grpSpPr>
        <p:sp>
          <p:nvSpPr>
            <p:cNvPr id="119" name=""/>
            <p:cNvSpPr/>
            <p:nvPr/>
          </p:nvSpPr>
          <p:spPr>
            <a:xfrm>
              <a:off x="6983280" y="4921200"/>
              <a:ext cx="275040" cy="249120"/>
            </a:xfrm>
            <a:custGeom>
              <a:avLst/>
              <a:gdLst/>
              <a:ahLst/>
              <a:rect l="l" t="t" r="r" b="b"/>
              <a:pathLst>
                <a:path w="577" h="507">
                  <a:moveTo>
                    <a:pt x="0" y="0"/>
                  </a:moveTo>
                  <a:lnTo>
                    <a:pt x="0" y="55"/>
                  </a:lnTo>
                  <a:lnTo>
                    <a:pt x="21" y="57"/>
                  </a:lnTo>
                  <a:lnTo>
                    <a:pt x="43" y="58"/>
                  </a:lnTo>
                  <a:lnTo>
                    <a:pt x="43" y="30"/>
                  </a:lnTo>
                  <a:lnTo>
                    <a:pt x="38" y="58"/>
                  </a:lnTo>
                  <a:lnTo>
                    <a:pt x="60" y="60"/>
                  </a:lnTo>
                  <a:lnTo>
                    <a:pt x="81" y="65"/>
                  </a:lnTo>
                  <a:lnTo>
                    <a:pt x="124" y="76"/>
                  </a:lnTo>
                  <a:lnTo>
                    <a:pt x="130" y="50"/>
                  </a:lnTo>
                  <a:lnTo>
                    <a:pt x="120" y="75"/>
                  </a:lnTo>
                  <a:lnTo>
                    <a:pt x="162" y="91"/>
                  </a:lnTo>
                  <a:lnTo>
                    <a:pt x="204" y="111"/>
                  </a:lnTo>
                  <a:lnTo>
                    <a:pt x="244" y="135"/>
                  </a:lnTo>
                  <a:lnTo>
                    <a:pt x="255" y="110"/>
                  </a:lnTo>
                  <a:lnTo>
                    <a:pt x="235" y="129"/>
                  </a:lnTo>
                  <a:lnTo>
                    <a:pt x="274" y="156"/>
                  </a:lnTo>
                  <a:lnTo>
                    <a:pt x="312" y="187"/>
                  </a:lnTo>
                  <a:lnTo>
                    <a:pt x="348" y="221"/>
                  </a:lnTo>
                  <a:lnTo>
                    <a:pt x="382" y="256"/>
                  </a:lnTo>
                  <a:lnTo>
                    <a:pt x="414" y="296"/>
                  </a:lnTo>
                  <a:lnTo>
                    <a:pt x="443" y="337"/>
                  </a:lnTo>
                  <a:lnTo>
                    <a:pt x="462" y="318"/>
                  </a:lnTo>
                  <a:lnTo>
                    <a:pt x="437" y="328"/>
                  </a:lnTo>
                  <a:lnTo>
                    <a:pt x="464" y="371"/>
                  </a:lnTo>
                  <a:lnTo>
                    <a:pt x="487" y="416"/>
                  </a:lnTo>
                  <a:lnTo>
                    <a:pt x="508" y="462"/>
                  </a:lnTo>
                  <a:lnTo>
                    <a:pt x="525" y="507"/>
                  </a:lnTo>
                  <a:lnTo>
                    <a:pt x="577" y="491"/>
                  </a:lnTo>
                  <a:lnTo>
                    <a:pt x="558" y="440"/>
                  </a:lnTo>
                  <a:lnTo>
                    <a:pt x="538" y="394"/>
                  </a:lnTo>
                  <a:lnTo>
                    <a:pt x="514" y="349"/>
                  </a:lnTo>
                  <a:lnTo>
                    <a:pt x="488" y="306"/>
                  </a:lnTo>
                  <a:lnTo>
                    <a:pt x="482" y="298"/>
                  </a:lnTo>
                  <a:lnTo>
                    <a:pt x="453" y="256"/>
                  </a:lnTo>
                  <a:lnTo>
                    <a:pt x="421" y="217"/>
                  </a:lnTo>
                  <a:lnTo>
                    <a:pt x="387" y="181"/>
                  </a:lnTo>
                  <a:lnTo>
                    <a:pt x="352" y="148"/>
                  </a:lnTo>
                  <a:lnTo>
                    <a:pt x="314" y="117"/>
                  </a:lnTo>
                  <a:lnTo>
                    <a:pt x="274" y="90"/>
                  </a:lnTo>
                  <a:lnTo>
                    <a:pt x="266" y="84"/>
                  </a:lnTo>
                  <a:lnTo>
                    <a:pt x="226" y="60"/>
                  </a:lnTo>
                  <a:lnTo>
                    <a:pt x="184" y="40"/>
                  </a:lnTo>
                  <a:lnTo>
                    <a:pt x="142" y="24"/>
                  </a:lnTo>
                  <a:lnTo>
                    <a:pt x="136" y="22"/>
                  </a:lnTo>
                  <a:lnTo>
                    <a:pt x="93" y="10"/>
                  </a:lnTo>
                  <a:lnTo>
                    <a:pt x="71" y="6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1080" y="5158800"/>
              <a:ext cx="91440" cy="101880"/>
            </a:xfrm>
            <a:custGeom>
              <a:avLst/>
              <a:gdLst/>
              <a:ahLst/>
              <a:rect l="l" t="t" r="r" b="b"/>
              <a:pathLst>
                <a:path w="191" h="207">
                  <a:moveTo>
                    <a:pt x="0" y="31"/>
                  </a:moveTo>
                  <a:lnTo>
                    <a:pt x="125" y="207"/>
                  </a:lnTo>
                  <a:lnTo>
                    <a:pt x="19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88320" y="5491080"/>
            <a:ext cx="285120" cy="345960"/>
            <a:chOff x="6988320" y="5491080"/>
            <a:chExt cx="285120" cy="345960"/>
          </a:xfrm>
        </p:grpSpPr>
        <p:sp>
          <p:nvSpPr>
            <p:cNvPr id="122" name=""/>
            <p:cNvSpPr/>
            <p:nvPr/>
          </p:nvSpPr>
          <p:spPr>
            <a:xfrm>
              <a:off x="7071840" y="5491080"/>
              <a:ext cx="201600" cy="311040"/>
            </a:xfrm>
            <a:custGeom>
              <a:avLst/>
              <a:gdLst/>
              <a:ahLst/>
              <a:rect l="l" t="t" r="r" b="b"/>
              <a:pathLst>
                <a:path w="425" h="636">
                  <a:moveTo>
                    <a:pt x="425" y="0"/>
                  </a:moveTo>
                  <a:lnTo>
                    <a:pt x="370" y="0"/>
                  </a:lnTo>
                  <a:lnTo>
                    <a:pt x="367" y="48"/>
                  </a:lnTo>
                  <a:lnTo>
                    <a:pt x="395" y="48"/>
                  </a:lnTo>
                  <a:lnTo>
                    <a:pt x="369" y="42"/>
                  </a:lnTo>
                  <a:lnTo>
                    <a:pt x="363" y="89"/>
                  </a:lnTo>
                  <a:lnTo>
                    <a:pt x="352" y="137"/>
                  </a:lnTo>
                  <a:lnTo>
                    <a:pt x="340" y="183"/>
                  </a:lnTo>
                  <a:lnTo>
                    <a:pt x="366" y="189"/>
                  </a:lnTo>
                  <a:lnTo>
                    <a:pt x="341" y="178"/>
                  </a:lnTo>
                  <a:lnTo>
                    <a:pt x="325" y="224"/>
                  </a:lnTo>
                  <a:lnTo>
                    <a:pt x="305" y="267"/>
                  </a:lnTo>
                  <a:lnTo>
                    <a:pt x="283" y="310"/>
                  </a:lnTo>
                  <a:lnTo>
                    <a:pt x="258" y="352"/>
                  </a:lnTo>
                  <a:lnTo>
                    <a:pt x="283" y="363"/>
                  </a:lnTo>
                  <a:lnTo>
                    <a:pt x="263" y="344"/>
                  </a:lnTo>
                  <a:lnTo>
                    <a:pt x="236" y="383"/>
                  </a:lnTo>
                  <a:lnTo>
                    <a:pt x="206" y="421"/>
                  </a:lnTo>
                  <a:lnTo>
                    <a:pt x="173" y="456"/>
                  </a:lnTo>
                  <a:lnTo>
                    <a:pt x="140" y="488"/>
                  </a:lnTo>
                  <a:lnTo>
                    <a:pt x="104" y="518"/>
                  </a:lnTo>
                  <a:lnTo>
                    <a:pt x="67" y="546"/>
                  </a:lnTo>
                  <a:lnTo>
                    <a:pt x="87" y="566"/>
                  </a:lnTo>
                  <a:lnTo>
                    <a:pt x="76" y="540"/>
                  </a:lnTo>
                  <a:lnTo>
                    <a:pt x="38" y="563"/>
                  </a:lnTo>
                  <a:lnTo>
                    <a:pt x="0" y="584"/>
                  </a:lnTo>
                  <a:lnTo>
                    <a:pt x="20" y="636"/>
                  </a:lnTo>
                  <a:lnTo>
                    <a:pt x="60" y="614"/>
                  </a:lnTo>
                  <a:lnTo>
                    <a:pt x="98" y="591"/>
                  </a:lnTo>
                  <a:lnTo>
                    <a:pt x="106" y="585"/>
                  </a:lnTo>
                  <a:lnTo>
                    <a:pt x="143" y="557"/>
                  </a:lnTo>
                  <a:lnTo>
                    <a:pt x="179" y="527"/>
                  </a:lnTo>
                  <a:lnTo>
                    <a:pt x="213" y="495"/>
                  </a:lnTo>
                  <a:lnTo>
                    <a:pt x="245" y="460"/>
                  </a:lnTo>
                  <a:lnTo>
                    <a:pt x="275" y="422"/>
                  </a:lnTo>
                  <a:lnTo>
                    <a:pt x="303" y="383"/>
                  </a:lnTo>
                  <a:lnTo>
                    <a:pt x="309" y="374"/>
                  </a:lnTo>
                  <a:lnTo>
                    <a:pt x="334" y="332"/>
                  </a:lnTo>
                  <a:lnTo>
                    <a:pt x="356" y="289"/>
                  </a:lnTo>
                  <a:lnTo>
                    <a:pt x="375" y="245"/>
                  </a:lnTo>
                  <a:lnTo>
                    <a:pt x="392" y="200"/>
                  </a:lnTo>
                  <a:lnTo>
                    <a:pt x="394" y="195"/>
                  </a:lnTo>
                  <a:lnTo>
                    <a:pt x="407" y="148"/>
                  </a:lnTo>
                  <a:lnTo>
                    <a:pt x="417" y="101"/>
                  </a:lnTo>
                  <a:lnTo>
                    <a:pt x="423" y="54"/>
                  </a:lnTo>
                  <a:lnTo>
                    <a:pt x="423" y="48"/>
                  </a:lnTo>
                  <a:lnTo>
                    <a:pt x="423" y="4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88320" y="5743080"/>
              <a:ext cx="98640" cy="93960"/>
            </a:xfrm>
            <a:custGeom>
              <a:avLst/>
              <a:gdLst/>
              <a:ahLst/>
              <a:rect l="l" t="t" r="r" b="b"/>
              <a:pathLst>
                <a:path w="212" h="189">
                  <a:moveTo>
                    <a:pt x="168" y="0"/>
                  </a:moveTo>
                  <a:lnTo>
                    <a:pt x="0" y="138"/>
                  </a:lnTo>
                  <a:lnTo>
                    <a:pt x="212" y="18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992920" y="5491080"/>
            <a:ext cx="353160" cy="334800"/>
            <a:chOff x="5992920" y="5491080"/>
            <a:chExt cx="353160" cy="334800"/>
          </a:xfrm>
        </p:grpSpPr>
        <p:sp>
          <p:nvSpPr>
            <p:cNvPr id="125" name=""/>
            <p:cNvSpPr/>
            <p:nvPr/>
          </p:nvSpPr>
          <p:spPr>
            <a:xfrm>
              <a:off x="6024960" y="5578920"/>
              <a:ext cx="321120" cy="246960"/>
            </a:xfrm>
            <a:custGeom>
              <a:avLst/>
              <a:gdLst/>
              <a:ahLst/>
              <a:rect l="l" t="t" r="r" b="b"/>
              <a:pathLst>
                <a:path w="676" h="502">
                  <a:moveTo>
                    <a:pt x="676" y="502"/>
                  </a:moveTo>
                  <a:lnTo>
                    <a:pt x="676" y="447"/>
                  </a:lnTo>
                  <a:lnTo>
                    <a:pt x="650" y="446"/>
                  </a:lnTo>
                  <a:lnTo>
                    <a:pt x="624" y="444"/>
                  </a:lnTo>
                  <a:lnTo>
                    <a:pt x="624" y="472"/>
                  </a:lnTo>
                  <a:lnTo>
                    <a:pt x="629" y="444"/>
                  </a:lnTo>
                  <a:lnTo>
                    <a:pt x="604" y="442"/>
                  </a:lnTo>
                  <a:lnTo>
                    <a:pt x="579" y="438"/>
                  </a:lnTo>
                  <a:lnTo>
                    <a:pt x="528" y="426"/>
                  </a:lnTo>
                  <a:lnTo>
                    <a:pt x="522" y="454"/>
                  </a:lnTo>
                  <a:lnTo>
                    <a:pt x="532" y="428"/>
                  </a:lnTo>
                  <a:lnTo>
                    <a:pt x="483" y="412"/>
                  </a:lnTo>
                  <a:lnTo>
                    <a:pt x="433" y="392"/>
                  </a:lnTo>
                  <a:lnTo>
                    <a:pt x="386" y="368"/>
                  </a:lnTo>
                  <a:lnTo>
                    <a:pt x="340" y="342"/>
                  </a:lnTo>
                  <a:lnTo>
                    <a:pt x="328" y="367"/>
                  </a:lnTo>
                  <a:lnTo>
                    <a:pt x="348" y="347"/>
                  </a:lnTo>
                  <a:lnTo>
                    <a:pt x="304" y="317"/>
                  </a:lnTo>
                  <a:lnTo>
                    <a:pt x="261" y="284"/>
                  </a:lnTo>
                  <a:lnTo>
                    <a:pt x="222" y="248"/>
                  </a:lnTo>
                  <a:lnTo>
                    <a:pt x="184" y="210"/>
                  </a:lnTo>
                  <a:lnTo>
                    <a:pt x="149" y="168"/>
                  </a:lnTo>
                  <a:lnTo>
                    <a:pt x="118" y="127"/>
                  </a:lnTo>
                  <a:lnTo>
                    <a:pt x="98" y="146"/>
                  </a:lnTo>
                  <a:lnTo>
                    <a:pt x="124" y="135"/>
                  </a:lnTo>
                  <a:lnTo>
                    <a:pt x="96" y="91"/>
                  </a:lnTo>
                  <a:lnTo>
                    <a:pt x="72" y="45"/>
                  </a:lnTo>
                  <a:lnTo>
                    <a:pt x="52" y="0"/>
                  </a:lnTo>
                  <a:lnTo>
                    <a:pt x="0" y="18"/>
                  </a:lnTo>
                  <a:lnTo>
                    <a:pt x="21" y="67"/>
                  </a:lnTo>
                  <a:lnTo>
                    <a:pt x="45" y="113"/>
                  </a:lnTo>
                  <a:lnTo>
                    <a:pt x="73" y="157"/>
                  </a:lnTo>
                  <a:lnTo>
                    <a:pt x="79" y="166"/>
                  </a:lnTo>
                  <a:lnTo>
                    <a:pt x="110" y="208"/>
                  </a:lnTo>
                  <a:lnTo>
                    <a:pt x="144" y="249"/>
                  </a:lnTo>
                  <a:lnTo>
                    <a:pt x="183" y="287"/>
                  </a:lnTo>
                  <a:lnTo>
                    <a:pt x="222" y="323"/>
                  </a:lnTo>
                  <a:lnTo>
                    <a:pt x="265" y="357"/>
                  </a:lnTo>
                  <a:lnTo>
                    <a:pt x="308" y="387"/>
                  </a:lnTo>
                  <a:lnTo>
                    <a:pt x="318" y="392"/>
                  </a:lnTo>
                  <a:lnTo>
                    <a:pt x="364" y="419"/>
                  </a:lnTo>
                  <a:lnTo>
                    <a:pt x="411" y="443"/>
                  </a:lnTo>
                  <a:lnTo>
                    <a:pt x="461" y="463"/>
                  </a:lnTo>
                  <a:lnTo>
                    <a:pt x="510" y="479"/>
                  </a:lnTo>
                  <a:lnTo>
                    <a:pt x="516" y="480"/>
                  </a:lnTo>
                  <a:lnTo>
                    <a:pt x="567" y="492"/>
                  </a:lnTo>
                  <a:lnTo>
                    <a:pt x="592" y="496"/>
                  </a:lnTo>
                  <a:lnTo>
                    <a:pt x="618" y="499"/>
                  </a:lnTo>
                  <a:lnTo>
                    <a:pt x="624" y="500"/>
                  </a:lnTo>
                  <a:lnTo>
                    <a:pt x="650" y="501"/>
                  </a:lnTo>
                  <a:lnTo>
                    <a:pt x="676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2920" y="5491080"/>
              <a:ext cx="89280" cy="103320"/>
            </a:xfrm>
            <a:custGeom>
              <a:avLst/>
              <a:gdLst/>
              <a:ahLst/>
              <a:rect l="l" t="t" r="r" b="b"/>
              <a:pathLst>
                <a:path w="191" h="210">
                  <a:moveTo>
                    <a:pt x="191" y="173"/>
                  </a:moveTo>
                  <a:lnTo>
                    <a:pt x="58" y="0"/>
                  </a:lnTo>
                  <a:lnTo>
                    <a:pt x="0" y="210"/>
                  </a:lnTo>
                  <a:lnTo>
                    <a:pt x="191" y="1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06960" y="4906800"/>
            <a:ext cx="342720" cy="353880"/>
            <a:chOff x="6006960" y="4906800"/>
            <a:chExt cx="342720" cy="353880"/>
          </a:xfrm>
        </p:grpSpPr>
        <p:sp>
          <p:nvSpPr>
            <p:cNvPr id="128" name=""/>
            <p:cNvSpPr/>
            <p:nvPr/>
          </p:nvSpPr>
          <p:spPr>
            <a:xfrm>
              <a:off x="6006960" y="4939920"/>
              <a:ext cx="257040" cy="320760"/>
            </a:xfrm>
            <a:custGeom>
              <a:avLst/>
              <a:gdLst/>
              <a:ahLst/>
              <a:rect l="l" t="t" r="r" b="b"/>
              <a:pathLst>
                <a:path w="538" h="658">
                  <a:moveTo>
                    <a:pt x="0" y="658"/>
                  </a:moveTo>
                  <a:lnTo>
                    <a:pt x="55" y="658"/>
                  </a:lnTo>
                  <a:lnTo>
                    <a:pt x="57" y="632"/>
                  </a:lnTo>
                  <a:lnTo>
                    <a:pt x="58" y="607"/>
                  </a:lnTo>
                  <a:lnTo>
                    <a:pt x="30" y="607"/>
                  </a:lnTo>
                  <a:lnTo>
                    <a:pt x="58" y="613"/>
                  </a:lnTo>
                  <a:lnTo>
                    <a:pt x="61" y="588"/>
                  </a:lnTo>
                  <a:lnTo>
                    <a:pt x="66" y="563"/>
                  </a:lnTo>
                  <a:lnTo>
                    <a:pt x="70" y="538"/>
                  </a:lnTo>
                  <a:lnTo>
                    <a:pt x="77" y="513"/>
                  </a:lnTo>
                  <a:lnTo>
                    <a:pt x="51" y="508"/>
                  </a:lnTo>
                  <a:lnTo>
                    <a:pt x="76" y="518"/>
                  </a:lnTo>
                  <a:lnTo>
                    <a:pt x="94" y="469"/>
                  </a:lnTo>
                  <a:lnTo>
                    <a:pt x="114" y="422"/>
                  </a:lnTo>
                  <a:lnTo>
                    <a:pt x="140" y="375"/>
                  </a:lnTo>
                  <a:lnTo>
                    <a:pt x="170" y="330"/>
                  </a:lnTo>
                  <a:lnTo>
                    <a:pt x="144" y="319"/>
                  </a:lnTo>
                  <a:lnTo>
                    <a:pt x="164" y="339"/>
                  </a:lnTo>
                  <a:lnTo>
                    <a:pt x="196" y="295"/>
                  </a:lnTo>
                  <a:lnTo>
                    <a:pt x="232" y="255"/>
                  </a:lnTo>
                  <a:lnTo>
                    <a:pt x="270" y="215"/>
                  </a:lnTo>
                  <a:lnTo>
                    <a:pt x="312" y="179"/>
                  </a:lnTo>
                  <a:lnTo>
                    <a:pt x="356" y="146"/>
                  </a:lnTo>
                  <a:lnTo>
                    <a:pt x="336" y="126"/>
                  </a:lnTo>
                  <a:lnTo>
                    <a:pt x="348" y="152"/>
                  </a:lnTo>
                  <a:lnTo>
                    <a:pt x="393" y="122"/>
                  </a:lnTo>
                  <a:lnTo>
                    <a:pt x="440" y="95"/>
                  </a:lnTo>
                  <a:lnTo>
                    <a:pt x="490" y="72"/>
                  </a:lnTo>
                  <a:lnTo>
                    <a:pt x="538" y="53"/>
                  </a:lnTo>
                  <a:lnTo>
                    <a:pt x="521" y="0"/>
                  </a:lnTo>
                  <a:lnTo>
                    <a:pt x="468" y="21"/>
                  </a:lnTo>
                  <a:lnTo>
                    <a:pt x="418" y="44"/>
                  </a:lnTo>
                  <a:lnTo>
                    <a:pt x="371" y="71"/>
                  </a:lnTo>
                  <a:lnTo>
                    <a:pt x="326" y="101"/>
                  </a:lnTo>
                  <a:lnTo>
                    <a:pt x="316" y="107"/>
                  </a:lnTo>
                  <a:lnTo>
                    <a:pt x="273" y="140"/>
                  </a:lnTo>
                  <a:lnTo>
                    <a:pt x="231" y="176"/>
                  </a:lnTo>
                  <a:lnTo>
                    <a:pt x="193" y="215"/>
                  </a:lnTo>
                  <a:lnTo>
                    <a:pt x="157" y="256"/>
                  </a:lnTo>
                  <a:lnTo>
                    <a:pt x="125" y="300"/>
                  </a:lnTo>
                  <a:lnTo>
                    <a:pt x="119" y="308"/>
                  </a:lnTo>
                  <a:lnTo>
                    <a:pt x="89" y="353"/>
                  </a:lnTo>
                  <a:lnTo>
                    <a:pt x="64" y="400"/>
                  </a:lnTo>
                  <a:lnTo>
                    <a:pt x="43" y="447"/>
                  </a:lnTo>
                  <a:lnTo>
                    <a:pt x="25" y="496"/>
                  </a:lnTo>
                  <a:lnTo>
                    <a:pt x="23" y="502"/>
                  </a:lnTo>
                  <a:lnTo>
                    <a:pt x="16" y="526"/>
                  </a:lnTo>
                  <a:lnTo>
                    <a:pt x="12" y="551"/>
                  </a:lnTo>
                  <a:lnTo>
                    <a:pt x="7" y="577"/>
                  </a:lnTo>
                  <a:lnTo>
                    <a:pt x="4" y="601"/>
                  </a:lnTo>
                  <a:lnTo>
                    <a:pt x="2" y="607"/>
                  </a:lnTo>
                  <a:lnTo>
                    <a:pt x="2" y="607"/>
                  </a:lnTo>
                  <a:lnTo>
                    <a:pt x="1" y="632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2840" y="4906800"/>
              <a:ext cx="96840" cy="91800"/>
            </a:xfrm>
            <a:custGeom>
              <a:avLst/>
              <a:gdLst/>
              <a:ahLst/>
              <a:rect l="l" t="t" r="r" b="b"/>
              <a:pathLst>
                <a:path w="206" h="191">
                  <a:moveTo>
                    <a:pt x="32" y="191"/>
                  </a:moveTo>
                  <a:lnTo>
                    <a:pt x="206" y="64"/>
                  </a:lnTo>
                  <a:lnTo>
                    <a:pt x="0" y="0"/>
                  </a:lnTo>
                  <a:lnTo>
                    <a:pt x="32" y="19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0F17-4345-4616-AF10-B1DEAEBF5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ey Utility Management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and occupational health and saf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, product, and servic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performance (operations and capital asse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 resources and skil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CFEC-B938-457D-8343-D926D45F4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inual Improvement Management System Framewor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d on the “plan, do, check, act” approa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support performance improvement in any one of, or multiple, management areas (e.g., EMS support environmental performanc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4120" y="1066680"/>
            <a:ext cx="2629440" cy="3951720"/>
            <a:chOff x="5334120" y="1066680"/>
            <a:chExt cx="2629440" cy="3951720"/>
          </a:xfrm>
        </p:grpSpPr>
        <p:sp>
          <p:nvSpPr>
            <p:cNvPr id="135" name=""/>
            <p:cNvSpPr/>
            <p:nvPr/>
          </p:nvSpPr>
          <p:spPr>
            <a:xfrm>
              <a:off x="5619600" y="2454120"/>
              <a:ext cx="2106360" cy="2106720"/>
            </a:xfrm>
            <a:prstGeom prst="ellipse">
              <a:avLst/>
            </a:prstGeom>
            <a:solidFill>
              <a:srgbClr val="003399"/>
            </a:solidFill>
            <a:ln w="127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19600" y="1066680"/>
              <a:ext cx="2133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76840" y="3295440"/>
              <a:ext cx="466560" cy="397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4120" y="3294000"/>
              <a:ext cx="598320" cy="531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A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6320" y="2273040"/>
              <a:ext cx="799920" cy="703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PL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700000">
              <a:off x="5428800" y="3654360"/>
              <a:ext cx="456840" cy="243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9000000">
              <a:off x="7476480" y="3101400"/>
              <a:ext cx="456840" cy="243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3600000">
              <a:off x="6008760" y="2417040"/>
              <a:ext cx="457200" cy="242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00640" y="4314600"/>
              <a:ext cx="971280" cy="703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CHEC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4400000">
              <a:off x="6959880" y="4304520"/>
              <a:ext cx="457200" cy="2422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DE40-26DA-4351-87C7-AABF9BF79E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group Find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ility managers are feeling “initiative overload”, which inhibits initiative adoption or leads to piecemeal imple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 many (flavor of the mont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larity on how they relate to one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et, managers are finding benefits from the initiatives they impl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6A02-B7EB-4285-A540-64CAA3DD9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group Finding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ools and management system frameworks are complementary.  Collectively they cov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ire water, wastewater, and stormwater value chains (or core business process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 utility managemen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and occupational health and safe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, product, and service qu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ancial performance (operations and capital asse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man resources and skill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9BBA-AC37-4FDA-B52A-68197805E0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group Conclu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feasible and desirable to consider and integrate the management initiatives in the context of a continual improvement management system frame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S can be a natural starting point for introducing a continual improvement management system framework  because utilities focus on environmental and public health imp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xt step - develop guide or “roadmap” for utility managers (Phase 2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24DE-B49A-4B1D-9ECE-8793E8A62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22:47:11Z</dcterms:created>
  <dc:creator>Lori Ahouse</dc:creator>
  <dc:description/>
  <dc:language>en-US</dc:language>
  <cp:lastModifiedBy>Rob Greenwood</cp:lastModifiedBy>
  <dcterms:modified xsi:type="dcterms:W3CDTF">2004-02-05T17:08:04Z</dcterms:modified>
  <cp:revision>121</cp:revision>
  <dc:subject/>
  <dc:title>EMS Integration Project</dc:title>
</cp:coreProperties>
</file>