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BF04-B686-4142-AB86-F2DDD1EE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009C-2D83-4E8E-BC95-6B2AB801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1162-D936-435E-9F76-2AB5A969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1A79-6726-444B-BBE5-5FC97E995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FA53-352E-4F19-AED8-6FD09A0C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6406-CCA1-4A16-B028-818849E3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2E03-A9BA-499E-A221-A4C5F252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C80D-FEF5-4182-8423-7F10CE13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8110-CE8C-4521-8EC3-4A13E933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CA50-F3EE-4F49-A02E-B3D44339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016D-CF60-47AE-BEA9-1F6DD34A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9CB7-D6F3-4DCD-BED8-7BF881B9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B8BE-97AC-4D45-A325-FD69F93D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59CD-8776-4CDC-92FF-01FBF96B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99C5-CB48-45C4-A307-AD87953C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B470-5001-4998-956A-327BB0D5D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4829-B45D-4589-97A7-5B0FB53C9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77BF-994F-42BF-8BF9-8D25F0D8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4BD2-BD1B-42B8-BD60-B5CE61DF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6688-75B1-4F6C-86DA-FE124A5D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652E-50D6-4B6C-84FA-B9899F4C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0B39-E482-43D4-8AD5-3803FD55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BC3A-C633-4DBB-8027-EDBC924F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92C5-AB72-4F32-B7F5-2CEE2BC2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FFBA-6751-4F5F-A323-815DCF37C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5791-05EC-43CD-B160-7429CF9193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ptbackground-light" descr=""/>
          <p:cNvPicPr/>
          <p:nvPr/>
        </p:nvPicPr>
        <p:blipFill>
          <a:blip r:embed="rId1"/>
          <a:stretch/>
        </p:blipFill>
        <p:spPr>
          <a:xfrm>
            <a:off x="0" y="0"/>
            <a:ext cx="9352080" cy="70866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33"/>
                </a:solidFill>
                <a:uFillTx/>
                <a:latin typeface="Verdana"/>
              </a:rPr>
              <a:t>Enhancing Wastewater Utility Security</a:t>
            </a:r>
            <a:br>
              <a:rPr sz="2400"/>
            </a:br>
            <a:r>
              <a:rPr b="1" lang="en-US" sz="2400" spc="-1" strike="noStrike" u="sng">
                <a:solidFill>
                  <a:srgbClr val="cc3333"/>
                </a:solidFill>
                <a:uFillTx/>
                <a:latin typeface="Verdana"/>
              </a:rPr>
              <a:t>– The Nation Prepares</a:t>
            </a:r>
            <a:br>
              <a:rPr sz="3200"/>
            </a:br>
            <a:br>
              <a:rPr sz="1400"/>
            </a:br>
            <a:r>
              <a:rPr b="1" lang="en-US" sz="2400" spc="-1" strike="noStrike">
                <a:solidFill>
                  <a:srgbClr val="cc3333"/>
                </a:solidFill>
                <a:latin typeface="Verdana"/>
              </a:rPr>
              <a:t>2004 AMSA Winter Conference</a:t>
            </a:r>
            <a:br>
              <a:rPr sz="2400"/>
            </a:b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trengthening Your Utility’s Assets</a:t>
            </a:r>
            <a:br>
              <a:rPr sz="2000"/>
            </a:br>
            <a:br>
              <a:rPr sz="20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os Angeles, CA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riday, February 6, 2004</a:t>
            </a:r>
            <a:br>
              <a:rPr sz="1600"/>
            </a:b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WERF’s Research Program on Wastewater Security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770000"/>
                </a:solidFill>
                <a:latin typeface="Verdana"/>
              </a:rPr>
              <a:t>Glenn Reinhardt</a:t>
            </a:r>
            <a:br>
              <a:rPr sz="2000"/>
            </a:br>
            <a:r>
              <a:rPr b="1" lang="en-US" sz="2000" spc="-1" strike="noStrike">
                <a:solidFill>
                  <a:srgbClr val="770000"/>
                </a:solidFill>
                <a:latin typeface="Verdana"/>
              </a:rPr>
              <a:t>Executive Director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RF-EPA funded research projects on wastewater security issues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ences and Research Gaps to Secure Wastewater Infrastructure and Protect Public Heal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WERF project no. 03-CTS-1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posium in Washington D.C. (Aug 7-8, 200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 invitees from U.S. &amp; international partici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ed important research needs and g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d 32 comprehensive, prioritized list of research project 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king funding to initiate top-ranked research projects (top 3 currently funded by EPA &amp; underway by various organizations – e.g., AMSA, WEF, ASCE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initiate additional project in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RF-EPA funded research projects on wastewater security issues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, Screen, and Treat Contaminants to Ensure Wastewater Securit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WERF Project 03-CTS-2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risks &amp; toxicity associated with specific BCR (bio, chem, rad) agents introduced to se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fate &amp; transport, and treatment/inactivation through wastewater treatment fac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emergency operating/containment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ed team: Dr. Leonard Casson (Univ. of Pittsburgh), plus Pittsburgh Water &amp; Sewer Authority, Barry-Taylor Assoc.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$500,000 study starts in Spring 2004, duration 3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RF-EPA funded research projects on wastewater security issues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gency Planning for Wastewater Treatment Faciliti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WERF Project 03-CTS-4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es countermeasures &amp; develops flexible contingency planning tools that go beyond traditional guidance / resource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s disaster response &amp; recovery contingency planning tools for utilities to update their emergency preparedness, response &amp; recovery plans &amp;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ed team: Dr. Kenneth Rubin (PA Government Services) with Scientech, Inc., White Shield Safeguards and Security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$300,000 study starts in Spring 2004, duration 1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RF-EPA funded research projects on wastewater security issues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ergency Communications with Your Local Government and Communit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WERF project 03-CTS-5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model statements for public agencies (water &amp; wastewater) and elected offic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action plan to work with public to help avoid panic, build trust &amp; support from local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ed team: Dr. Thomas Rockaway (Univ. of Louisville Research Foundation), with Louisville Metro Sewer District, Louisville Water Company, &amp; Louisville Emergency Management Agency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$170,000 study starts Spring 2004, duration 1½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RF-EPA funded research projects on wastewater security issues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asibility Testing of Support Systems to Prevent Upset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WERF Project 03-CTS-7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framework for on-line, near real-time support to diagnose, rectify, &amp; recover from plant up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ed team: Andrew Shaw (Black &amp; Veatch), with Virginia Tech, Advanced Data Mining, Charleston Commissioner of Public Works, et 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$343,000 study starts in Spring 2004, duration 2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RF-EPA funded research projects on wastewater security issues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 Measures for Computerized and Automated Systems at Wastewater Facilities (RFP 03-CTS-3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posals due 1/16/04, currently under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necessary guidance to utilities on how to secure and protect computerized and automat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technology currently available (and being further developed) to sense and correct such security breaches and alert relevant autho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of $300,000 in WERF-EPA (and AwwaRF) funds available; 2 to 3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RF-EPA funded research projects on wastewater security issues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for Inventorying Wastewater Infrastructure for Vulnerability Considerations (RFP 03-CTS-6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posals due 1/16/04, currently under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es asset management  &amp; vuln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better decision making tool to manage / protect underground and above-the-ground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of $225,000 in WERF-EPA funds available, duration 1½ to 2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RF’s “Security Related”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into overall Research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s address the Research 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an we reduce the vulnerability and improve the recovery of wastewater plants and infrastructure to incidences of terroris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&amp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st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ank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Rounded MT Bold"/>
              </a:rPr>
              <a:t>For more information go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Rounded MT Bold"/>
              </a:rPr>
              <a:t>www.werf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Rounded MT Bold"/>
              </a:rPr>
              <a:t>Conta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lenn Reinhardt, Executive Dir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mit Pramanik, Ph.D., Director, Technical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Roy Ramani, Ph.D., P.E., Project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Water Environment Research Foun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Ph: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703-684-24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ax: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703-299-07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696080" cy="80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y Relevant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stewater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tewater Treatment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tec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uman Healt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&amp; th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nvironment/Eco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TPs serve &gt; 200 million (73%)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,000 major pumping 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,000 miles sanitary se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,000 miles storm se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site / decentralized systems serve about 25% of US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tewater Infrastructure (collection &amp; treatment) valued at &gt; $2 tr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3488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leva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stewater Infrastructu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ern with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conomic Disru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itary and Storm Sewers form extensive networks running near or beneath key buildings (including nationally sensitive facilities) and public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systems also contiguous to many utility (gas, water, etc), communication, and transportatio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06160"/>
            <a:ext cx="777240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search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earch is not just for fundamental understanding, but need to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 cost-effective tools for Utilities to integrate into their Operations &amp; longer range Capital plan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tilities are flexible, they adjust/evol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imble &amp; responsive, while also being fiscally prud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or 9/11/20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 to 9/11/2001, WERF working on more than 23 projects on issues related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tecting/Sensing Technolog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xicological and Environmental Eff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eatment Technolog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sset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arch has dual use – can help address man-made and natural disa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768240"/>
            <a:ext cx="80010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lated Research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going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and various other WERF research projects will provide informatio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velop sensor technologies for water quality monitoring of chemicals and biological ag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velop upset early warning systems for biological wastewater treat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derstand fate and transport of various contamina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crease “arsenal” of treatment &amp; disposal technologies or proces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earch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et Early Warning Systems for Biological Treatment Proces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 II - Fundamental Studies on Source-Cause-Effect Relationships” (01-CTS-2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:  Dr. Nancy Love, Virginia T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ying root causes of upsets from chemic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ing cause-effect relationships to better develop UEWS strategies and help with quicker biological system re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 9/11/20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RF’s close relationship with EPA (also pri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or research focused on being protective of Human &amp; Environmental Health – Added value now is protection from Economic Disru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 &amp; ongoing research served as the Building Blocks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RF &amp; EPA’s - strategic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an be expanded to meet the “new”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cost-effective use of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3488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lanned Research by WERF</a:t>
            </a:r>
            <a:br>
              <a:rPr sz="36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Current status as of 2/2/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PA awarded WERF a Cooperative Research grant ($2.1m) in Nov 2002 for seven (7) new proje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 completed, 4 under contract, 2 under review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arch gap / needs priorit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comple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, screen &amp; treat contaminan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under contr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measures for automated system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proposals due 1/16/04 are under revie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gency planning for WWTP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under contr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ng with communit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under contr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 / inventorize infrastructu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proposals due 1/16/04 are under revie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sibility testing of support system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under contr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13:26:27Z</dcterms:created>
  <dc:creator>dmorroni</dc:creator>
  <dc:description/>
  <dc:language>en-US</dc:language>
  <cp:lastModifiedBy>Jane Durham</cp:lastModifiedBy>
  <dcterms:modified xsi:type="dcterms:W3CDTF">2004-02-02T20:13:23Z</dcterms:modified>
  <cp:revision>109</cp:revision>
  <dc:subject/>
  <dc:title>Water Environment Research Foundation</dc:title>
</cp:coreProperties>
</file>