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C54-C0BE-41A6-9708-0F6D594A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A9C-06E2-41EC-9802-5BD297FC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632C-86F7-45AF-B550-55E67085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16B-DDAB-4650-9B3D-88BE2438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FB4A-F79B-4675-A2A9-35929CD3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FC2B-1EB1-404F-9C59-97B1812C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517A-CC12-4830-86D9-A03917EB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B669-E403-4266-A3CE-93E512F2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CB95-0392-443E-9309-0413DF37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F098-294E-4BFE-8609-19882645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6C3E-D781-4063-B0C3-8CEE0506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B09-193D-4EF1-B8D6-9207DE93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D4FD-BEF2-4EEF-A2E5-7BECF8AC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F86C-F7C2-4BEF-932B-2D178DED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892E-D986-4C1D-8671-B1C954CB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1A25-F3DA-4A47-A7FA-C2E85E67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877C-999D-464E-9927-18536542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04F-FC90-4A05-8017-6A382622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212A-763D-4D55-B8EA-D79A4C05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243-6448-47B9-9296-4DB3F4FE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531-E823-4A93-BD04-63E74B3D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82A-01F1-43D1-942F-9174F7A7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597F-B47C-4517-BE4E-2B3841D8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EA4-9721-4038-80F8-E2ECADCF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9336-1EDE-4491-9076-E26E9C8E8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E92E-B500-42C4-8CB2-F69945EF3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ptbackground-light" descr=""/>
          <p:cNvPicPr/>
          <p:nvPr/>
        </p:nvPicPr>
        <p:blipFill>
          <a:blip r:embed="rId1"/>
          <a:stretch/>
        </p:blipFill>
        <p:spPr>
          <a:xfrm>
            <a:off x="0" y="0"/>
            <a:ext cx="9352080" cy="7086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33"/>
                </a:solidFill>
                <a:uFillTx/>
                <a:latin typeface="Verdana"/>
              </a:rPr>
              <a:t>Enhancing Wastewater Utility Security</a:t>
            </a:r>
            <a:br>
              <a:rPr sz="2400"/>
            </a:br>
            <a:r>
              <a:rPr b="1" lang="en-US" sz="2400" spc="-1" strike="noStrike" u="sng">
                <a:solidFill>
                  <a:srgbClr val="cc3333"/>
                </a:solidFill>
                <a:uFillTx/>
                <a:latin typeface="Verdana"/>
              </a:rPr>
              <a:t>– The Nation Prepares</a:t>
            </a:r>
            <a:br>
              <a:rPr sz="3200"/>
            </a:br>
            <a:br>
              <a:rPr sz="1400"/>
            </a:br>
            <a:r>
              <a:rPr b="1" lang="en-US" sz="2400" spc="-1" strike="noStrike">
                <a:solidFill>
                  <a:srgbClr val="cc3333"/>
                </a:solidFill>
                <a:latin typeface="Verdana"/>
              </a:rPr>
              <a:t>2004 AMSA Winter Conference</a:t>
            </a:r>
            <a:br>
              <a:rPr sz="24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trengthening Your Utility’s Assets</a:t>
            </a:r>
            <a:br>
              <a:rPr sz="2000"/>
            </a:b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s Angeles, C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iday, February 6, 2004</a:t>
            </a:r>
            <a:br>
              <a:rPr sz="16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WERF’s Research Program on Wastewater Secur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70000"/>
                </a:solidFill>
                <a:latin typeface="Verdana"/>
              </a:rPr>
              <a:t>Glenn Reinhardt</a:t>
            </a:r>
            <a:br>
              <a:rPr sz="2000"/>
            </a:br>
            <a:r>
              <a:rPr b="1" lang="en-US" sz="2000" spc="-1" strike="noStrike">
                <a:solidFill>
                  <a:srgbClr val="770000"/>
                </a:solidFill>
                <a:latin typeface="Verdana"/>
              </a:rPr>
              <a:t>Executive Director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F-EPA funded research projects on wastewater security issue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s and Research Gaps to Secure Wastewater Infrastructure and Protect Public Heal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ERF project no. 03-CTS-1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osium in Washington D.C. (Aug 7-8, 200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 invitees from U.S. &amp; international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d important research needs and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32 comprehensive, prioritized list of research project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ing funding to initiate top-ranked research projects (top 3 currently funded by EPA &amp; underway by various organizations – e.g., AMSA, WEF, ASCE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initiate additional project 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F-EPA funded research projects on wastewater security issue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, Screen, and Treat Contaminants to Ensure Wastewater Securi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ERF Project 03-CTS-2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risks &amp; toxicity associated with specific BCR (bio, chem, rad) agents introduced to s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fate &amp; transport, and treatment/inactivation through wastewater treatment fac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emergency operating/containment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ed team: Dr. Leonard Casson (Univ. of Pittsburgh), plus Pittsburgh Water &amp; Sewer Authority, Barry-Taylor Assoc.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$500,000 study starts in Spring 2004, duration 3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F-EPA funded research projects on wastewater security issue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gency Planning for Wastewater Treatment Facilit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ERF Project 03-CTS-4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es countermeasures &amp; develops flexible contingency planning tools that go beyond traditional guidance / resource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s disaster response &amp; recovery contingency planning tools for utilities to update their emergency preparedness, response &amp; recovery plans &amp;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ed team: Dr. Kenneth Rubin (PA Government Services) with Scientech, Inc., White Shield Safeguards and Security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$300,000 study starts in Spring 2004, duration 1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F-EPA funded research projects on wastewater security issue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ergency Communications with Your Local Government and Communi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ERF project 03-CTS-5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model statements for public agencies (water &amp; wastewater) and elected offic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ction plan to work with public to help avoid panic, build trust &amp; support from local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ed team: Dr. Thomas Rockaway (Univ. of Louisville Research Foundation), with Louisville Metro Sewer District, Louisville Water Company, &amp; Louisville Emergency Management Agency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$170,000 study starts Spring 2004, duration 1½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F-EPA funded research projects on wastewater security issue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sibility Testing of Support Systems to Prevent Upse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ERF Project 03-CTS-7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framework for on-line, near real-time support to diagnose, rectify, &amp; recover from plant up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ed team: Andrew Shaw (Black &amp; Veatch), with Virginia Tech, Advanced Data Mining, Charleston Commissioner of Public Works, et 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$343,000 study starts in Spring 2004, duration 2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F-EPA funded research projects on wastewater security issue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Measures for Computerized and Automated Systems at Wastewater Facilities (RFP 03-CTS-3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posals due 1/16/04, currently under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necessary guidance to utilities on how to secure and protect computerized and automat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technology currently available (and being further developed) to sense and correct such security breaches and alert relevant auth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of $300,000 in WERF-EPA (and AwwaRF) funds available; 2 to 3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F-EPA funded research projects on wastewater security issue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for Inventorying Wastewater Infrastructure for Vulnerability Considerations (RFP 03-CTS-6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posals due 1/16/04, currently under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s asset management  &amp; vuln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better decision making tool to manage / protect underground and above-the-ground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of $225,000 in WERF-EPA funds available, duration 1½ to 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F’s “Security Related”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into overall Research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address the Research 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we reduce the vulnerability and improve the recovery of wastewater plants and infrastructure to incidences of terroris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&amp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st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ank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For more information go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www.werf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Cont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lenn Reinhardt, Executive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mit Pramanik, Ph.D., Director, Technic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oy Ramani, Ph.D., P.E., 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Water Environment Research Fou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h: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703-684-24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ax: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703-299-07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69608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y Relevant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tewater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tewater Treatment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tec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uman Healt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&amp;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vironment/Eco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TPs serve &gt; 200 million (73%)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,000 major pumping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,000 miles sanitary s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,000 miles storm s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site / decentralized systems serve about 25% of US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tewater Infrastructure (collection &amp; treatment) valued at &gt; $2 tr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3488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eva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tewater Infrastru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ern wi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conomic Disru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itary and Storm Sewers form extensive networks running near or beneath key buildings (including nationally sensitive facilities) and public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systems also contiguous to many utility (gas, water, etc), communication, and transportatio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06160"/>
            <a:ext cx="777240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earch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earch is not just for fundamental understanding, but need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 cost-effective tools for Utilities to integrate into their Operations &amp; longer range Capital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tilities are flexible, they adjust/evol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imble &amp; responsive, while also being fiscally pru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or 9/11/20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 to 9/11/2001, WERF working on more than 23 projects on issues relat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tecting/Sensing Technolog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xicological and Environmental Eff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eatment Technolog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set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has dual use – can help address man-made and natural disa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768240"/>
            <a:ext cx="80010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lated Research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oing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nd various other WERF research projects will provide informatio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velop sensor technologies for water quality monitoring of chemicals and biological ag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velop upset early warning systems for biological wastewater treat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derstand fate and transport of various contamin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rease “arsenal” of treatment &amp; disposal technologies or proce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et Early Warning Systems for Biological Treatment Proce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II - Fundamental Studies on Source-Cause-Effect Relationships” (01-CTS-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:  Dr. Nancy Love, Virgini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ing root causes of upsets from chemic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ng cause-effect relationships to better develop UEWS strategies and help with quicker biological system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 9/11/20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RF’s close relationship with EPA (also pri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 research focused on being protective of Human &amp; Environmental Health – Added value now is protection from Economic Dis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 &amp; ongoing research served as the Building Blocks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F &amp; EPA’s - strategic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be expanded to meet the “new”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st-effective use of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3488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lanned Research by WERF</a:t>
            </a:r>
            <a:br>
              <a:rPr sz="36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urrent status as of 2/2/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PA awarded WERF a Cooperative Research grant ($2.1m) in Nov 2002 for seven (7) new pro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 completed, 4 under contract, 2 under review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gap / needs priorit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mple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, screen &amp; treat contamina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under con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measures for automated system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proposals due 1/16/04 are under revie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gency planning for WWTP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under con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ng with communit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under con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/ inventorize infrastruc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proposals due 1/16/04 are under revie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ility testing of support system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under con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3:26:27Z</dcterms:created>
  <dc:creator>dmorroni</dc:creator>
  <dc:description/>
  <dc:language>en-US</dc:language>
  <cp:lastModifiedBy>Jane Durham</cp:lastModifiedBy>
  <dcterms:modified xsi:type="dcterms:W3CDTF">2004-02-02T20:13:23Z</dcterms:modified>
  <cp:revision>109</cp:revision>
  <dc:subject/>
  <dc:title>Water Environment Research Foundation</dc:title>
</cp:coreProperties>
</file>