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a4ef"/>
                </a:solidFill>
                <a:latin typeface="Lucida Sans Unicode"/>
              </a:rPr>
              <a:t>Click to move the slide</a:t>
            </a: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EE6C-65DB-4742-9E6C-3866C920E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Arial"/>
              </a:rPr>
              <a:t>This newly constructed wetland in Wicomico County, Maryland will provide good habitat for migrating waterfow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0b22"/>
            </a:gs>
            <a:gs pos="100000">
              <a:srgbClr val="1f18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a4ef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39000" y="5791320"/>
            <a:ext cx="862200" cy="914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80880" y="6248520"/>
            <a:ext cx="716292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0b22"/>
            </a:gs>
            <a:gs pos="100000">
              <a:srgbClr val="1f18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a4ef"/>
                </a:solidFill>
                <a:latin typeface="Lucida Sans Unicode"/>
              </a:rPr>
              <a:t>Using constructed wetlands to achieve water quality and wetland goals</a:t>
            </a:r>
            <a:r>
              <a:rPr b="0" lang="en-US" sz="4400" spc="-1" strike="noStrike">
                <a:solidFill>
                  <a:srgbClr val="0da4ef"/>
                </a:solidFill>
                <a:latin typeface="Lucida Sans Unicode"/>
              </a:rPr>
              <a:t> </a:t>
            </a:r>
            <a:r>
              <a:rPr b="0" lang="en-US" sz="4000" spc="-1" strike="noStrike">
                <a:solidFill>
                  <a:srgbClr val="0da4ef"/>
                </a:solidFill>
                <a:latin typeface="Lucida Sans Unicode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73915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John Meaghe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U.S. EPA Office of Wetlands, Oceans &amp; Watershed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RCSIA99036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3200" cy="5497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16292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NR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NRCSMD9100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305560" cy="5932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467480" y="6324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NR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NRCSMD91002" descr=""/>
          <p:cNvPicPr/>
          <p:nvPr/>
        </p:nvPicPr>
        <p:blipFill>
          <a:blip r:embed="rId1"/>
          <a:stretch/>
        </p:blipFill>
        <p:spPr>
          <a:xfrm>
            <a:off x="533520" y="434880"/>
            <a:ext cx="8229600" cy="5878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467480" y="6324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NR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NRCSNV00054" descr=""/>
          <p:cNvPicPr/>
          <p:nvPr/>
        </p:nvPicPr>
        <p:blipFill>
          <a:blip r:embed="rId1"/>
          <a:stretch/>
        </p:blipFill>
        <p:spPr>
          <a:xfrm>
            <a:off x="762120" y="598320"/>
            <a:ext cx="7772400" cy="5551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162920" y="61722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NR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0b22"/>
            </a:gs>
            <a:gs pos="100000">
              <a:srgbClr val="1f18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a4ef"/>
                </a:solidFill>
                <a:latin typeface="Lucida Sans Unicode"/>
              </a:rPr>
              <a:t>President Bush’s Wetlands Initiative</a:t>
            </a:r>
            <a:endParaRPr b="0" lang="en-US" sz="40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Net-Gain” National Goal (April 22, 2004)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ove beyond “no net loss” to an overall increase in nation’s wetland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estore, improve, and protect at least 3 million acres by 2009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Better tracking of wetland program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Increased funding for federal wetlands program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0b22"/>
            </a:gs>
            <a:gs pos="100000">
              <a:srgbClr val="1f18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a4ef"/>
                </a:solidFill>
                <a:latin typeface="Lucida Sans Unicode"/>
              </a:rPr>
              <a:t>Achieving “Net-Gain”</a:t>
            </a:r>
            <a:endParaRPr b="0" lang="en-US" sz="40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ederal Programs: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etlands and Conservation Reserve Program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cquisition and restoration grant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ffective implementation of CWA 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§404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State, tribal and local wetland program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0b22"/>
            </a:gs>
            <a:gs pos="100000">
              <a:srgbClr val="1f18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a4ef"/>
                </a:solidFill>
                <a:latin typeface="Lucida Sans Unicode"/>
              </a:rPr>
              <a:t>Constructed Wetlands</a:t>
            </a:r>
            <a:endParaRPr b="0" lang="en-US" sz="40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Use natural processes involving wetlands vegetation, soils and microbial assemblages to improve water qual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Can be cost-effective and technically feasible way to treat wastewater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Numerous environmental benefit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cotec2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68680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a4ef"/>
                </a:solidFill>
                <a:latin typeface="Lucida Sans Unicode"/>
              </a:rPr>
              <a:t>Small Scale Constructed Wetlands</a:t>
            </a:r>
            <a:endParaRPr b="0" lang="en-US" sz="3600" spc="-1" strike="noStrike">
              <a:solidFill>
                <a:srgbClr val="0da4ef"/>
              </a:solidFill>
              <a:latin typeface="Lucida Sans Unicode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1520" y="1600200"/>
            <a:ext cx="36684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29120" y="1600200"/>
            <a:ext cx="3476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70572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W. Mit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0b22"/>
            </a:gs>
            <a:gs pos="100000">
              <a:srgbClr val="1f18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a4ef"/>
                </a:solidFill>
                <a:latin typeface="Lucida Sans Unicode"/>
              </a:rPr>
              <a:t>Large Scale Projects</a:t>
            </a:r>
            <a:r>
              <a:rPr b="0" lang="en-US" sz="4400" spc="-1" strike="noStrike">
                <a:solidFill>
                  <a:srgbClr val="0da4ef"/>
                </a:solidFill>
                <a:latin typeface="Lucida Sans Unicode"/>
              </a:rPr>
              <a:t> </a:t>
            </a:r>
            <a:endParaRPr b="0" lang="en-US" sz="44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Nitrogen Farming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lood land with nutrient-rich water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ultiple benefit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ost-effective mechanism to meet nutrient criteria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38680" y="1600200"/>
            <a:ext cx="3857760" cy="218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867280" y="3886200"/>
            <a:ext cx="266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ite of 4000 acre nitrogen farm near Hennepin, Illin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341200">
            <a:off x="7542000" y="2589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tlands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0b22"/>
            </a:gs>
            <a:gs pos="100000">
              <a:srgbClr val="1f18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a4ef"/>
                </a:solidFill>
                <a:latin typeface="Lucida Sans Unicode"/>
              </a:rPr>
              <a:t>Concerns</a:t>
            </a:r>
            <a:endParaRPr b="0" lang="en-US" sz="40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Emphasizing one wetland value over another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Low plant and animal divers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Establishment and spread of non-native specie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0b22"/>
            </a:gs>
            <a:gs pos="100000">
              <a:srgbClr val="1f18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a4ef"/>
                </a:solidFill>
                <a:latin typeface="Lucida Sans Unicode"/>
              </a:rPr>
              <a:t>Clean Water State Revolving Fund</a:t>
            </a:r>
            <a:endParaRPr b="0" lang="en-US" sz="4000" spc="-1" strike="noStrike">
              <a:solidFill>
                <a:srgbClr val="0da4ef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Between $3 and $4 billion is loaned out each year to improve water qual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Low interest rates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lexible repayment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May be used to fund wetlands restoration and construction of treatment wetland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21:47:13Z</dcterms:created>
  <dc:creator> </dc:creator>
  <dc:description/>
  <dc:language>en-US</dc:language>
  <cp:lastModifiedBy>EPAUser</cp:lastModifiedBy>
  <dcterms:modified xsi:type="dcterms:W3CDTF">2004-07-22T18:49:24Z</dcterms:modified>
  <cp:revision>33</cp:revision>
  <dc:subject/>
  <dc:title>Slide 1</dc:title>
</cp:coreProperties>
</file>