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8323-A1BD-4E21-8B6B-862B5256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Arial"/>
              </a:rPr>
              <a:t>This newly constructed wetland in Wicomico County, Maryland will provide good habitat for migrating waterfow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39000" y="579132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6248520"/>
            <a:ext cx="716292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Using constructed wetlands to achieve water quality and wetland goals</a:t>
            </a: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John Meagh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.S. EPA Office of Wetlands, Oceans &amp; Watershed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RCSIA99036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3200" cy="5497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16292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RCSMD9100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593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4674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NRCSMD91002" descr=""/>
          <p:cNvPicPr/>
          <p:nvPr/>
        </p:nvPicPr>
        <p:blipFill>
          <a:blip r:embed="rId1"/>
          <a:stretch/>
        </p:blipFill>
        <p:spPr>
          <a:xfrm>
            <a:off x="533520" y="434880"/>
            <a:ext cx="8229600" cy="5878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4674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RCSNV00054" descr=""/>
          <p:cNvPicPr/>
          <p:nvPr/>
        </p:nvPicPr>
        <p:blipFill>
          <a:blip r:embed="rId1"/>
          <a:stretch/>
        </p:blipFill>
        <p:spPr>
          <a:xfrm>
            <a:off x="762120" y="598320"/>
            <a:ext cx="7772400" cy="5551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2920" y="61722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President Bush’s Wetlands Initiative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Net-Gain” National Goal (April 22, 2004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ve beyond “no net loss” to an overall increase in nation’s wetland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store, improve, and protect at least 3 million acres by 2009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tter tracking of wetland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creased funding for federal wetlands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Achieving “Net-Gain”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ederal Programs: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etlands and Conservation Reserve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cquisition and restoration gran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ffective implementation of CWA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§404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State, tribal and local wetland program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onstructed Wetlands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Use natural processes involving wetlands vegetation, soils and microbial assemblages to improve water qual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an be cost-effective and technically feasible way to treat wastewater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Numerous environmental 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cotec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868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4ef"/>
                </a:solidFill>
                <a:latin typeface="Lucida Sans Unicode"/>
              </a:rPr>
              <a:t>Small Scale Constructed Wetlands</a:t>
            </a:r>
            <a:endParaRPr b="0" lang="en-US" sz="3600" spc="-1" strike="noStrike">
              <a:solidFill>
                <a:srgbClr val="0da4ef"/>
              </a:solidFill>
              <a:latin typeface="Lucida Sans Unico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1520" y="1600200"/>
            <a:ext cx="36684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29120" y="1600200"/>
            <a:ext cx="347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. Mi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Large Scale Projects</a:t>
            </a: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itrogen Farm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lood land with nutrient-rich wate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ltiple benefi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st-effective mechanism to meet nutrient criteria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38680" y="1600200"/>
            <a:ext cx="3857760" cy="21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67280" y="388620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te of 4000 acre nitrogen farm near Hennepin, 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341200">
            <a:off x="7542000" y="2589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tlan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oncerns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mphasizing one wetland value over another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Low plant and animal divers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stablishment and spread of non-native speci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lean Water State Revolving Fund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Between $3 and $4 billion is loaned out each year to improve water qual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ow interest rate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lexible repayment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May be used to fund wetlands restoration and construction of treatment wetland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1:47:13Z</dcterms:created>
  <dc:creator> </dc:creator>
  <dc:description/>
  <dc:language>en-US</dc:language>
  <cp:lastModifiedBy>EPAUser</cp:lastModifiedBy>
  <dcterms:modified xsi:type="dcterms:W3CDTF">2004-07-22T18:49:24Z</dcterms:modified>
  <cp:revision>33</cp:revision>
  <dc:subject/>
  <dc:title>Slide 1</dc:title>
</cp:coreProperties>
</file>