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A9D-98F3-4B6F-A239-8913ECBED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090-E83C-4475-99E0-E4AEBDE7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5B6-B1F2-4CFD-8F7F-EE00E5E6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5E3-D91F-488B-B8C2-5EC1C44E6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5120" cy="3430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ur perspective, the possibility of getting a UAA approved falls somewhere between pigs flying and something that’s just not going to happe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EA5-8182-4447-A609-A0B8EA29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20E-3242-46A7-AE0C-A85DB9B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271-E3D3-4009-AD07-CEC6391D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F56-B44E-4557-9D29-8406947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F18-0A1D-4F39-9530-2E8F0833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E86-460A-486A-AD13-3CE24DB3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63C-5989-4E0A-B52F-3531264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DA2-4205-4E46-878D-75AD1CD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311-15A7-48B2-BF34-6E9AD9D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8EA-C903-4EAE-BEAE-40A1A92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5B6-06A7-49E7-897E-6EF7FFF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9C5-69ED-4E35-A0A0-0D85FEA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F37-56FA-4694-A115-1CC4F71B5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28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Arial"/>
              </a:rPr>
              <a:t>Uses: Attainment, Reviews and Dealing with the “E” Wor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60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3836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6520" y="0"/>
            <a:ext cx="51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43200" y="0"/>
            <a:ext cx="66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1680" y="0"/>
            <a:ext cx="921996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55920" y="0"/>
            <a:ext cx="537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5600" y="2998800"/>
            <a:ext cx="10063080" cy="742680"/>
            <a:chOff x="165600" y="2998800"/>
            <a:chExt cx="10063080" cy="742680"/>
          </a:xfrm>
        </p:grpSpPr>
        <p:sp>
          <p:nvSpPr>
            <p:cNvPr id="57" name=""/>
            <p:cNvSpPr/>
            <p:nvPr/>
          </p:nvSpPr>
          <p:spPr>
            <a:xfrm>
              <a:off x="788040" y="2998800"/>
              <a:ext cx="9283680" cy="208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600" y="325008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ahoma"/>
                </a:rPr>
                <a:t>Less Like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72440" y="32817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ahoma"/>
                </a:rPr>
                <a:t>More Like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54560" y="17640"/>
            <a:ext cx="2916000" cy="3148920"/>
            <a:chOff x="6154560" y="17640"/>
            <a:chExt cx="2916000" cy="31489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6154560" y="17640"/>
              <a:ext cx="2916000" cy="26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309800" y="2347560"/>
              <a:ext cx="289080" cy="819000"/>
            </a:xfrm>
            <a:prstGeom prst="downArrow">
              <a:avLst>
                <a:gd name="adj1" fmla="val 50000"/>
                <a:gd name="adj2" fmla="val 70828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541920" y="3166920"/>
            <a:ext cx="3212640" cy="3140640"/>
            <a:chOff x="6541920" y="3166920"/>
            <a:chExt cx="3212640" cy="3140640"/>
          </a:xfrm>
        </p:grpSpPr>
        <p:grpSp>
          <p:nvGrpSpPr>
            <p:cNvPr id="64" name=""/>
            <p:cNvGrpSpPr/>
            <p:nvPr/>
          </p:nvGrpSpPr>
          <p:grpSpPr>
            <a:xfrm>
              <a:off x="6541920" y="3776760"/>
              <a:ext cx="3212640" cy="2530800"/>
              <a:chOff x="6541920" y="3776760"/>
              <a:chExt cx="3212640" cy="253080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59000" y="3776760"/>
                <a:ext cx="2729520" cy="183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541920" y="5418720"/>
                <a:ext cx="321264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Living On Ma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925760" y="3166920"/>
              <a:ext cx="308880" cy="677880"/>
            </a:xfrm>
            <a:prstGeom prst="upArrow">
              <a:avLst>
                <a:gd name="adj1" fmla="val 50000"/>
                <a:gd name="adj2" fmla="val 54866"/>
              </a:avLst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833480" y="6257160"/>
            <a:ext cx="66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Relative Scale of Pos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543480" y="3087720"/>
            <a:ext cx="2410920" cy="2817720"/>
            <a:chOff x="3543480" y="3087720"/>
            <a:chExt cx="2410920" cy="281772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543480" y="3862440"/>
              <a:ext cx="24109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64800" y="3087720"/>
              <a:ext cx="328680" cy="834840"/>
            </a:xfrm>
            <a:prstGeom prst="upArrow">
              <a:avLst>
                <a:gd name="adj1" fmla="val 50000"/>
                <a:gd name="adj2" fmla="val 63499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3120" y="3011400"/>
            <a:ext cx="2355120" cy="3002760"/>
            <a:chOff x="573120" y="3011400"/>
            <a:chExt cx="2355120" cy="3002760"/>
          </a:xfrm>
        </p:grpSpPr>
        <p:grpSp>
          <p:nvGrpSpPr>
            <p:cNvPr id="73" name=""/>
            <p:cNvGrpSpPr/>
            <p:nvPr/>
          </p:nvGrpSpPr>
          <p:grpSpPr>
            <a:xfrm>
              <a:off x="573120" y="3726360"/>
              <a:ext cx="2355120" cy="2287800"/>
              <a:chOff x="573120" y="3726360"/>
              <a:chExt cx="2355120" cy="2287800"/>
            </a:xfrm>
          </p:grpSpPr>
          <p:sp>
            <p:nvSpPr>
              <p:cNvPr id="74" name=""/>
              <p:cNvSpPr/>
              <p:nvPr/>
            </p:nvSpPr>
            <p:spPr>
              <a:xfrm>
                <a:off x="573120" y="3726360"/>
                <a:ext cx="2355120" cy="2287800"/>
              </a:xfrm>
              <a:prstGeom prst="rect">
                <a:avLst/>
              </a:prstGeom>
              <a:solidFill>
                <a:srgbClr val="006699"/>
              </a:solidFill>
              <a:ln cap="sq"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Getting a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UA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Approve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48120" y="4867200"/>
                <a:ext cx="116388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"/>
            <p:cNvSpPr/>
            <p:nvPr/>
          </p:nvSpPr>
          <p:spPr>
            <a:xfrm>
              <a:off x="2116080" y="3011400"/>
              <a:ext cx="328320" cy="835200"/>
            </a:xfrm>
            <a:prstGeom prst="upArrow">
              <a:avLst>
                <a:gd name="adj1" fmla="val 50000"/>
                <a:gd name="adj2" fmla="val 63596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157560" y="212760"/>
            <a:ext cx="2528640" cy="2951280"/>
            <a:chOff x="3157560" y="212760"/>
            <a:chExt cx="2528640" cy="29512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3157560" y="212760"/>
              <a:ext cx="2528640" cy="24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632400" y="2381400"/>
              <a:ext cx="326160" cy="782640"/>
            </a:xfrm>
            <a:prstGeom prst="downArrow">
              <a:avLst>
                <a:gd name="adj1" fmla="val 50000"/>
                <a:gd name="adj2" fmla="val 59989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571920" y="5572080"/>
            <a:ext cx="246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LA Getting the Rai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13640" y="104760"/>
            <a:ext cx="2093400" cy="2998440"/>
            <a:chOff x="413640" y="104760"/>
            <a:chExt cx="2093400" cy="2998440"/>
          </a:xfrm>
        </p:grpSpPr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720720" y="104760"/>
              <a:ext cx="167148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3640" y="1691640"/>
              <a:ext cx="2093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ahoma"/>
                </a:rPr>
                <a:t>The    N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ahoma"/>
                </a:rPr>
                <a:t>Martha Stewar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840" y="2284200"/>
              <a:ext cx="289080" cy="819000"/>
            </a:xfrm>
            <a:prstGeom prst="downArrow">
              <a:avLst>
                <a:gd name="adj1" fmla="val 50000"/>
                <a:gd name="adj2" fmla="val 70828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AMSA</cp:lastModifiedBy>
  <cp:lastPrinted>2003-04-15T18:14:34Z</cp:lastPrinted>
  <dcterms:modified xsi:type="dcterms:W3CDTF">2004-07-21T16:50:49Z</dcterms:modified>
  <cp:revision>469</cp:revision>
  <dc:subject/>
  <dc:title>Title goes here</dc:title>
</cp:coreProperties>
</file>