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C6601-CF47-47A3-B76D-2403524838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09068-AF15-474D-9604-7EB9FC7C76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5A47B-B236-466D-AD40-C4E778CFD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29DAD-EDC0-4E56-9395-6C8887498B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858960" y="685800"/>
            <a:ext cx="5145120" cy="34304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our perspective, the possibility of getting a UAA approved falls somewhere between pigs flying and something that’s just not going to happen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D96B-A784-4C15-AEBE-BCFB5B44E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65CB-543B-4243-A5C6-756FFCA92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40CD-8291-4267-B695-BF96AB4C5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AC53-392D-4ED6-AA0D-94F524BB7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A8A1-5391-42BC-896A-3F9B2B1DE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4EB5-B1A8-487B-9D66-7EB2443E7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0239-DE23-477A-86CC-0AC44822D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9AEA-2F1E-4AE1-BFF9-EC12BEF5C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D40C-2DFC-405C-9549-563177A7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C5DE-2711-4369-A648-1326713F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C7A3-D5A8-43A1-BFC0-F1329675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D647-DBC8-406C-8DDA-D14D73CD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636D3-E0BE-49BF-9813-F3E6EFC556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680" y="274284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ccff"/>
                </a:solidFill>
                <a:latin typeface="Arial"/>
              </a:rPr>
              <a:t>Uses: Attainment, Reviews and Dealing with the “E” Word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09480" y="0"/>
            <a:ext cx="918216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22560" y="0"/>
            <a:ext cx="6041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638360" y="-1908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76520" y="0"/>
            <a:ext cx="5133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43200" y="0"/>
            <a:ext cx="66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71680" y="0"/>
            <a:ext cx="9219960" cy="69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455920" y="0"/>
            <a:ext cx="537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65600" y="2998800"/>
            <a:ext cx="10063080" cy="742680"/>
            <a:chOff x="165600" y="2998800"/>
            <a:chExt cx="10063080" cy="742680"/>
          </a:xfrm>
        </p:grpSpPr>
        <p:sp>
          <p:nvSpPr>
            <p:cNvPr id="57" name=""/>
            <p:cNvSpPr/>
            <p:nvPr/>
          </p:nvSpPr>
          <p:spPr>
            <a:xfrm>
              <a:off x="788040" y="2998800"/>
              <a:ext cx="9283680" cy="2080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65600" y="3250080"/>
              <a:ext cx="18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fff99"/>
                  </a:solidFill>
                  <a:uFillTx/>
                  <a:latin typeface="Tahoma"/>
                </a:rPr>
                <a:t>Less Likel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272440" y="3281760"/>
              <a:ext cx="195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fff99"/>
                  </a:solidFill>
                  <a:uFillTx/>
                  <a:latin typeface="Tahoma"/>
                </a:rPr>
                <a:t>More Likel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154560" y="17640"/>
            <a:ext cx="2916000" cy="3148920"/>
            <a:chOff x="6154560" y="17640"/>
            <a:chExt cx="2916000" cy="3148920"/>
          </a:xfrm>
        </p:grpSpPr>
        <p:pic>
          <p:nvPicPr>
            <p:cNvPr id="61" name="" descr=""/>
            <p:cNvPicPr/>
            <p:nvPr/>
          </p:nvPicPr>
          <p:blipFill>
            <a:blip r:embed="rId1"/>
            <a:stretch/>
          </p:blipFill>
          <p:spPr>
            <a:xfrm>
              <a:off x="6154560" y="17640"/>
              <a:ext cx="2916000" cy="268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7309800" y="2347560"/>
              <a:ext cx="289080" cy="819000"/>
            </a:xfrm>
            <a:prstGeom prst="downArrow">
              <a:avLst>
                <a:gd name="adj1" fmla="val 50000"/>
                <a:gd name="adj2" fmla="val 70828"/>
              </a:avLst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6541920" y="3166920"/>
            <a:ext cx="3212640" cy="3140640"/>
            <a:chOff x="6541920" y="3166920"/>
            <a:chExt cx="3212640" cy="3140640"/>
          </a:xfrm>
        </p:grpSpPr>
        <p:grpSp>
          <p:nvGrpSpPr>
            <p:cNvPr id="64" name=""/>
            <p:cNvGrpSpPr/>
            <p:nvPr/>
          </p:nvGrpSpPr>
          <p:grpSpPr>
            <a:xfrm>
              <a:off x="6541920" y="3776760"/>
              <a:ext cx="3212640" cy="2530800"/>
              <a:chOff x="6541920" y="3776760"/>
              <a:chExt cx="3212640" cy="2530800"/>
            </a:xfrm>
          </p:grpSpPr>
          <p:pic>
            <p:nvPicPr>
              <p:cNvPr id="6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759000" y="3776760"/>
                <a:ext cx="2729520" cy="183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" name=""/>
              <p:cNvSpPr/>
              <p:nvPr/>
            </p:nvSpPr>
            <p:spPr>
              <a:xfrm>
                <a:off x="6541920" y="5418720"/>
                <a:ext cx="3212640" cy="88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ahoma"/>
                  </a:rPr>
                  <a:t>Living On Mar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7925760" y="3166920"/>
              <a:ext cx="308880" cy="677880"/>
            </a:xfrm>
            <a:prstGeom prst="upArrow">
              <a:avLst>
                <a:gd name="adj1" fmla="val 50000"/>
                <a:gd name="adj2" fmla="val 54866"/>
              </a:avLst>
            </a:prstGeom>
            <a:solidFill>
              <a:srgbClr val="cc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1833480" y="6257160"/>
            <a:ext cx="661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Relative Scale of Possi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3543480" y="3087720"/>
            <a:ext cx="2410920" cy="2817720"/>
            <a:chOff x="3543480" y="3087720"/>
            <a:chExt cx="2410920" cy="2817720"/>
          </a:xfrm>
        </p:grpSpPr>
        <p:pic>
          <p:nvPicPr>
            <p:cNvPr id="70" name="" descr=""/>
            <p:cNvPicPr/>
            <p:nvPr/>
          </p:nvPicPr>
          <p:blipFill>
            <a:blip r:embed="rId3"/>
            <a:stretch/>
          </p:blipFill>
          <p:spPr>
            <a:xfrm>
              <a:off x="3543480" y="3862440"/>
              <a:ext cx="2410920" cy="20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4564800" y="3087720"/>
              <a:ext cx="328680" cy="834840"/>
            </a:xfrm>
            <a:prstGeom prst="upArrow">
              <a:avLst>
                <a:gd name="adj1" fmla="val 50000"/>
                <a:gd name="adj2" fmla="val 63499"/>
              </a:avLst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573120" y="3011400"/>
            <a:ext cx="2355120" cy="3002760"/>
            <a:chOff x="573120" y="3011400"/>
            <a:chExt cx="2355120" cy="3002760"/>
          </a:xfrm>
        </p:grpSpPr>
        <p:grpSp>
          <p:nvGrpSpPr>
            <p:cNvPr id="73" name=""/>
            <p:cNvGrpSpPr/>
            <p:nvPr/>
          </p:nvGrpSpPr>
          <p:grpSpPr>
            <a:xfrm>
              <a:off x="573120" y="3726360"/>
              <a:ext cx="2355120" cy="2287800"/>
              <a:chOff x="573120" y="3726360"/>
              <a:chExt cx="2355120" cy="2287800"/>
            </a:xfrm>
          </p:grpSpPr>
          <p:sp>
            <p:nvSpPr>
              <p:cNvPr id="74" name=""/>
              <p:cNvSpPr/>
              <p:nvPr/>
            </p:nvSpPr>
            <p:spPr>
              <a:xfrm>
                <a:off x="573120" y="3726360"/>
                <a:ext cx="2355120" cy="2287800"/>
              </a:xfrm>
              <a:prstGeom prst="rect">
                <a:avLst/>
              </a:prstGeom>
              <a:solidFill>
                <a:srgbClr val="006699"/>
              </a:solidFill>
              <a:ln cap="sq"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ccff"/>
                    </a:solidFill>
                    <a:latin typeface="Tahoma"/>
                  </a:rPr>
                  <a:t>Getting a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ccff"/>
                    </a:solidFill>
                    <a:latin typeface="Tahoma"/>
                  </a:rPr>
                  <a:t>UA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ccff"/>
                    </a:solidFill>
                    <a:latin typeface="Tahoma"/>
                  </a:rPr>
                  <a:t>Approved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7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248120" y="4867200"/>
                <a:ext cx="1163880" cy="1000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6" name=""/>
            <p:cNvSpPr/>
            <p:nvPr/>
          </p:nvSpPr>
          <p:spPr>
            <a:xfrm>
              <a:off x="2116080" y="3011400"/>
              <a:ext cx="328320" cy="835200"/>
            </a:xfrm>
            <a:prstGeom prst="upArrow">
              <a:avLst>
                <a:gd name="adj1" fmla="val 50000"/>
                <a:gd name="adj2" fmla="val 63596"/>
              </a:avLst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3157560" y="212760"/>
            <a:ext cx="2528640" cy="2951280"/>
            <a:chOff x="3157560" y="212760"/>
            <a:chExt cx="2528640" cy="2951280"/>
          </a:xfrm>
        </p:grpSpPr>
        <p:pic>
          <p:nvPicPr>
            <p:cNvPr id="78" name="" descr=""/>
            <p:cNvPicPr/>
            <p:nvPr/>
          </p:nvPicPr>
          <p:blipFill>
            <a:blip r:embed="rId5"/>
            <a:stretch/>
          </p:blipFill>
          <p:spPr>
            <a:xfrm>
              <a:off x="3157560" y="212760"/>
              <a:ext cx="2528640" cy="24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3632400" y="2381400"/>
              <a:ext cx="326160" cy="782640"/>
            </a:xfrm>
            <a:prstGeom prst="downArrow">
              <a:avLst>
                <a:gd name="adj1" fmla="val 50000"/>
                <a:gd name="adj2" fmla="val 59989"/>
              </a:avLst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3571920" y="5572080"/>
            <a:ext cx="24620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ahoma"/>
              </a:rPr>
              <a:t>LA Getting the Raid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ahoma"/>
              </a:rPr>
              <a:t>Bac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413640" y="104760"/>
            <a:ext cx="2093400" cy="2998440"/>
            <a:chOff x="413640" y="104760"/>
            <a:chExt cx="2093400" cy="2998440"/>
          </a:xfrm>
        </p:grpSpPr>
        <p:pic>
          <p:nvPicPr>
            <p:cNvPr id="82" name="" descr=""/>
            <p:cNvPicPr/>
            <p:nvPr/>
          </p:nvPicPr>
          <p:blipFill>
            <a:blip r:embed="rId6"/>
            <a:stretch/>
          </p:blipFill>
          <p:spPr>
            <a:xfrm>
              <a:off x="720720" y="104760"/>
              <a:ext cx="1671480" cy="19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413640" y="1691640"/>
              <a:ext cx="20934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8080"/>
                  </a:solidFill>
                  <a:latin typeface="Tahoma"/>
                </a:rPr>
                <a:t>The    N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8080"/>
                  </a:solidFill>
                  <a:latin typeface="Tahoma"/>
                </a:rPr>
                <a:t>Martha Stewart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63840" y="2284200"/>
              <a:ext cx="289080" cy="819000"/>
            </a:xfrm>
            <a:prstGeom prst="downArrow">
              <a:avLst>
                <a:gd name="adj1" fmla="val 50000"/>
                <a:gd name="adj2" fmla="val 70828"/>
              </a:avLst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10T17:16:50Z</dcterms:created>
  <dc:creator>Ann Terese Heil</dc:creator>
  <dc:description/>
  <dc:language>en-US</dc:language>
  <cp:lastModifiedBy>AMSA</cp:lastModifiedBy>
  <cp:lastPrinted>2003-04-15T18:14:34Z</cp:lastPrinted>
  <dcterms:modified xsi:type="dcterms:W3CDTF">2004-07-21T16:50:49Z</dcterms:modified>
  <cp:revision>469</cp:revision>
  <dc:subject/>
  <dc:title>Title goes here</dc:title>
</cp:coreProperties>
</file>