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786F-B87D-4429-947C-31AA0E6FC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1C1-B4D7-4A49-980A-CB9080FD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79C-DBBD-4C05-8563-E1E33A96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BF6-F1B8-4C47-8060-C4652E65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6BB-6023-42C7-A0DC-DA6A446F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18BE-1647-40BB-B1F3-E200BE36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15B0-78CB-4745-9CFA-C3E4D35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020D-DFAB-493A-8FD5-0CA655FB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CA90-C077-4529-9463-F4AADE63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F1B9-934C-4998-B2F4-6D5CEA46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0BAE-A681-4754-94EB-EDDC3349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E3B7-F108-4784-8E93-4BB46491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8CF-1AB7-4A12-8D5F-E03C9AC4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BF2B-053E-441B-88B9-0BF6AAA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DCFC-13B4-44AA-97EF-761F7BB6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57C6-927C-44E2-B2B4-2EB59849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422B-3C8B-4AAE-A51A-DB9D1D14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87EB-78BB-4C70-971F-572B9BF8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22E-B600-413F-91F4-E6A94A81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191-A483-4140-AC56-A19A7B9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9C4-E4BD-480B-A444-C7D709C7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194-297E-45C3-B916-5FB9F95B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1AF-C737-42F6-B41A-B0E11C08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C47-8C91-47EC-AE47-42C410E3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4E7-3C39-45BC-9468-5126A19D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383F-CE18-44AB-9A6A-55E96287B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4429-42B4-4520-9EE2-DE11332FC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The Mess in Missouri</a:t>
            </a:r>
            <a:br>
              <a:rPr sz="54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A Recreational Use Attainment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 Case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tud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SA Summer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ly 21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rris Be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Pollution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ty of Independence,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O Disinfection Requirements</a:t>
            </a:r>
            <a:br>
              <a:rPr sz="40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POTWs and Other Domestic WWTF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harges within two miles upstream of WBC ar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harges to streams with 7-day Q10 flow of zero in metropolitan areas where stream is readily accessible to the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cal coliform li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thly average – 400/10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ly maximum – 1000/100 m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CSR 20-7.0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Disinfection Waiver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ssouri Dept of Natural Resources (MDNR) May Waive Dis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WTF demonstrates that neither health nor water quality will be endangered by failure to disinf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 to losing streams or scenic waterway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ther Designated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creational Us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Health Prot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sh consu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ary contact re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es limited physical contact with the water without likelihood of in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merical bacteria standard 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19814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ther Designated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creational Us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ating and Canoe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mited contact with the water assum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8% of classified lakes designa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% of classified stream seg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merical bacteria standard 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issouri WBC 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A review of Missouri Water Quality Standards (WQ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 and environmental activist group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562720" y="2590920"/>
          <a:ext cx="281916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590920"/>
                    <a:ext cx="281916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PA Review of Missouri WQ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A Region 7 letter of Sept 8, 2000,  responded to 1994 and 1996 Missouri WQS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approved items (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isting provisions identified to be inconsistent with the Clean Water Act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ems for attention for next triennial review (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PA Region 7 Sept 2000 Let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 7 intent to request the EPA Administrator to make a finding of inconsistency under the CWA for two existing standards pro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2286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PA Region 7 Sept 2000 Let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isting standards provisions identifi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tanding National Resource W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ssouri’s failure to       adequately justify a use designation lower than a ‘fishable/swimmable’ for all classified waters of the State that currently lack a whole body contact use designation. . 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PA Region 7 Sept 2000 Let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d MDNR’s 1984 “A Whole Body Contact Recreation Use Attainability Analys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ed the Stat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se use classifications to protect fishable/swimmable uses for all classified waters,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uct a more thorough U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spo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8/01 – MDNR letter to EP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th a three year phased WQS revis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ase 1, High Priorit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/revised provisions disapproved by E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isting provisions Region 7 identified as inconsistent with C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flow exe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items of State conc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he Mess in Missour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an Water Act (CWA) use designation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souri designated recreational uses and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souri Whole Body Contact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W Concerns and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spo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/21/01 Missouri Clean Water Commission (MCWC) meeting – MDNR briefing on WQS revision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 stakeholder meetings April – June 20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QS Phase 1 proposed rulemaking delay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issouri Coalition for the Environment Notice of Int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/7/03 – Missouri Coalition for the Environment (MCE) Notice of Intent to sue E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ited EPA’s failure to fulfill its duty under CWA to establish WQS for Missou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action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/30/03 MCWC meeting – MDNR briefing on proposed WQS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ft Memorandum of Understanding (MOU) for WBC use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ased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evaluated waters to be designated for WBC effective July 1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CE v. Leavit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aint filed Oct 7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claims for relief based on Region 7 Sept 2000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eks EPA promulgation of revised WQS for Missouri,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BC recreation use designation for all w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lassified w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a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/24 and 11/4/03 – Stakeholder meetings on draft MOU; no consensus reached with MCE and Sierra Clu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/7/04  – MCWC voted to designate classified lakes and streams as WBC upon effective date of WQS rule to be proposed July 2004; directed staff to determine compliance procedures and time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a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/9/04 – MDNR Water Protection Program Director indicated that MDNR does not have the resources to conduct UAAs; UAAs will have to be performed by permitted facilities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10/04 MCWC meeting – MCWC directed staff to research Kansas UAA procedures and report back 4/28/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Urban Areas Coalition mee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a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/28/04 MCWC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osed WQS rule to be published July 200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nal rule July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ff report on Kansas UAA protoc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ff to adapt Kansas UAA protocol and work with stakehol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raft UAA Guid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DNR distributed draft UAA guidance June 7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keholder meeting June 15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ritten comments by July 16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DNR intends promulgation by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13516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TW Concer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BC unrealistic use for many w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flow, restricted access, steep banks, channeliz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velocity, barge traf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terial contamination not control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appropriate WBC designation may mislead the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TW Cost Concer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WTF effluent dis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 storm                                     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733920" y="3048120"/>
            <a:ext cx="365760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WA Section 101(a)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tional goal, wherever attainable, of “water quality which provides for . . . recreation in and on the water . . . 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only referred to as the “fishable/swimmable”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isinfection Concer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fety issues (chlorin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ter qu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tal residual chlorine WQS = 10 µg/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ihalomethanes SDWA MCL = 80 mg/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asibility of disinfection alterna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TW UAA Concer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ft UAA Guidance excludes urban ar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lementation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orkable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ly approval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UAA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MDNR or stakeholde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documentation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how much of stream seg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e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to collect dat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ll UAAs be evaluate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 How much evidence = “existing use”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TW O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1981080"/>
            <a:ext cx="2743200" cy="259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2971800"/>
            <a:ext cx="22096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gula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72200" y="2971800"/>
            <a:ext cx="228600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gisla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981080"/>
            <a:ext cx="2743200" cy="259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2057400"/>
            <a:ext cx="2743200" cy="259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38480" y="2971800"/>
            <a:ext cx="121932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g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egulatory Ar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rban Areas Coalition (UAC); other organiz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etings and informal cont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ritten com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ublic stat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egal Ar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SA/UAC Intervention – MCE v. Leav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rcRect l="0" t="0" r="11999" b="0"/>
          <a:stretch/>
        </p:blipFill>
        <p:spPr>
          <a:xfrm>
            <a:off x="3886200" y="3352680"/>
            <a:ext cx="40384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egislative Ar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nitor legislative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ft proposed legisl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e.g., Kansas Senate Bill 20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issouri WBC 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be continued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22740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40 CFR 131.10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esignation of Us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a) Each State must specify appropriate water uses to be achieved and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g) States may remove a designated use which is not an existing use or establish sub-categories of a use if the State can demonstrate that attaining the designated use is not fea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least one of six listed factors must be satisfied to justify removal of designated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40 CFR 131.10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esignation of Us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j) A State must conduct a use attainability analysis (UAA) whenever 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ates uses that do not include “fishable/swimmable”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s a designated “fishable/swimmable”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pts subcategories of “fishable/swimmable” uses which require less stringent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issouri Designated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creational Us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le-body-contact re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health protection (Fish consumption and secondary contact recre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ating and canoe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29671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Whole Body Contact Recre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ies in which there is direct human contact with the raw surface water to the point of complete body submergence. . . . Water so designated is    intended to be used for        swimming,water skiing               or skin diving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1224000" cy="18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CSR 20-7.031(1)(C)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assified Waters Designated for Whole Body Contact Recre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981080"/>
                <a:gridCol w="838440"/>
                <a:gridCol w="1600200"/>
                <a:gridCol w="1447560"/>
                <a:gridCol w="533520"/>
                <a:gridCol w="1828800"/>
              </a:tblGrid>
              <a:tr h="565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gnated U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res/Mi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3,257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CR 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2,51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,74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rea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217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CR strea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53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strea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686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ssouri DNR, April 28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issouri Bacteria Crite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ed to classified waters designated for WBC re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mption for periods when the stream or lake is affected by stormwater run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cal coliform shall not exceed 200/100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asonal from April to Octo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ear-round for losing streams and scenic water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5:11:53Z</dcterms:created>
  <dc:creator>DBender</dc:creator>
  <dc:description/>
  <dc:language>en-US</dc:language>
  <cp:lastModifiedBy>DBender</cp:lastModifiedBy>
  <dcterms:modified xsi:type="dcterms:W3CDTF">2004-07-06T15:42:54Z</dcterms:modified>
  <cp:revision>119</cp:revision>
  <dc:subject/>
  <dc:title>The Mess in Missouri</dc:title>
</cp:coreProperties>
</file>