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BAC8-7700-4ED7-A187-10AD0217C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DB0-AB50-4D9A-A3BA-DC480501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81BF-8293-4B06-ACED-5091B6B8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30D3-BED4-4D78-9DDA-C6447783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E2A-D2DE-4EAD-AFE9-77B1ED89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04A2-A24A-4EA5-A979-83563400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EF82-AEA7-4DB0-A3AC-D8F29094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BD58-B197-454B-8153-3BD25A5F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DDE7-15C7-463B-BA8C-F5AF6A10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BCF8-74FA-4888-B677-7EFEFA7B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52CD-B124-422B-A93E-8864E815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CC59-8504-4940-9772-AC6A698D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303-E6EF-4541-92E1-B8209896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CD8B-F296-4A9B-9B6F-9C1E336B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B3B4-49A4-441A-86C8-3B917716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131F-BC22-4D38-AF06-0E6B8161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7CDD-C40C-41B8-B470-E410AED3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98C4-84CF-4C7C-B730-33D85DFA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5DE2-1F61-40A7-9BB7-5B3147B0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3D46-6C92-4E4E-B2F9-2CF4BAA8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169B-DD7C-45D8-B86D-3BD1F157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D2C3-D3C0-4670-80CE-C223F1F9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922-FA43-4CF0-AE33-35492BC7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3B01-2243-433D-B686-EEA9A48C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218-CFED-4542-8C18-B2D0ABA1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5EF5-0957-421F-9677-CF191367A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E6F9-AAD6-4261-A658-9B0C315DC3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The Mess in Missouri</a:t>
            </a:r>
            <a:br>
              <a:rPr sz="54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A Recreational Use Attainment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 Case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Stud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43000" y="335268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SA Summer Con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ly 21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rris Be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er Pollution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ty of Independence, 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MO Disinfection Requirements</a:t>
            </a:r>
            <a:br>
              <a:rPr sz="40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POTWs and Other Domestic WWTF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harges within two miles upstream of WBC are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harges to streams with 7-day Q10 flow of zero in metropolitan areas where stream is readily accessible to the 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cal coliform lim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thly average – 400/100 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ly maximum – 1000/100 m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CSR 20-7.0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Disinfection Waiver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issouri Dept of Natural Resources (MDNR) May Waive Disinf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WTF demonstrates that neither health nor water quality will be endangered by failure to disinf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A to losing streams or scenic waterway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Other Designated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Recreational Us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man Health Prote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sh consum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ary contact re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umes limited physical contact with the water without likelihood of ing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cl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umerical bacteria standard 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5880" y="1523880"/>
            <a:ext cx="198144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Other Designated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Recreational Us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ating and Canoe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mited contact with the water assum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8% of classified lakes designa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% of classified stream seg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merical bacteria standard 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Missouri WBC 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A review of Missouri Water Quality Standards (WQ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e and environmental activist group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562720" y="2590920"/>
          <a:ext cx="281916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590920"/>
                    <a:ext cx="281916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PA Review of Missouri WQ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A Region 7 letter of Sept 8, 2000,  responded to 1994 and 1996 Missouri WQS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approved items (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isting provisions identified to be inconsistent with the Clean Water Act 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ems for attention for next triennial review (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PA Region 7 Sept 2000 Lett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 7 intent to request the EPA Administrator to make a finding of inconsistency under the CWA for two existing standards prov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638680" y="3200400"/>
            <a:ext cx="2286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PA Region 7 Sept 2000 Lett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isting standards provisions identifi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standing National Resource Wa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ssouri’s failure to       adequately justify a use designation lower than a ‘fishable/swimmable’ for all classified waters of the State that currently lack a whole body contact use designation. . 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PA Region 7 Sept 2000 Lett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erenced MDNR’s 1984 “A Whole Body Contact Recreation Use Attainability Analysi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ed the State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ise use classifications to protect fishable/swimmable uses for all classified waters, 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duct a more thorough U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tate Respon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/8/01 – MDNR letter to EP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th a three year phased WQS revision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ase 1, High Priority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/revised provisions disapproved by E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isting provisions Region 7 identified as inconsistent with CW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 flow exem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ther items of State conc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he Mess in Missour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601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ean Water Act (CWA) use designation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ssouri designated recreational uses and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ssouri Whole Body Contact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TW Concerns and 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tate Respon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901"/>
              </a:spcBef>
              <a:spcAft>
                <a:spcPts val="22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/21/01 Missouri Clean Water Commission (MCWC) meeting – MDNR briefing on WQS revision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901"/>
              </a:spcBef>
              <a:spcAft>
                <a:spcPts val="22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 stakeholder meetings April – June 200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901"/>
              </a:spcBef>
              <a:spcAft>
                <a:spcPts val="22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QS Phase 1 proposed rulemaking delay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Missouri Coalition for the Environment Notice of Int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/7/03 – Missouri Coalition for the Environment (MCE) Notice of Intent to sue EP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ited EPA’s failure to fulfill its duty under CWA to establish WQS for Missour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tate Reaction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/30/03 MCWC meeting – MDNR briefing on proposed WQS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aft Memorandum of Understanding (MOU) for WBC use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ased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evaluated waters to be designated for WBC effective July 1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MCE v. Leavit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aint filed Oct 7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 claims for relief based on Region 7 Sept 2000 l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eks EPA promulgation of revised WQS for Missouri, inclu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BC recreation use designation for all wa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classified wa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tate Rea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/24 and 11/4/03 – Stakeholder meetings on draft MOU; no consensus reached with MCE and Sierra Club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/7/04  – MCWC voted to designate classified lakes and streams as WBC upon effective date of WQS rule to be proposed July 2004; directed staff to determine compliance procedures and timel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tate Rea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/9/04 – MDNR Water Protection Program Director indicated that MDNR does not have the resources to conduct UAAs; UAAs will have to be performed by permitted facilities*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/10/04 MCWC meeting – MCWC directed staff to research Kansas UAA procedures and report back 4/28/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*Urban Areas Coalition mee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tate Rea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/28/04 MCWC me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posed WQS rule to be published July 200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nal rule July 20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ff report on Kansas UAA protoc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5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ff to adapt Kansas UAA protocol and work with stakehol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Draft UAA Guid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DNR distributed draft UAA guidance June 7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keholder meeting June 15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ritten comments by July 16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DNR intends promulgation by r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13516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OTW Concer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BC unrealistic use for many wa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flow, restricted access, steep banks, channelizatio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rent velocity, barge traff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terial contamination not control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appropriate WBC designation may mislead the 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OTW Cost Concer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WTF effluent dis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ban storm                                     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733920" y="3048120"/>
            <a:ext cx="365760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WA Section 101(a)(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ational goal, wherever attainable, of “water quality which provides for . . . recreation in and on the water . . . 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monly referred to as the “fishable/swimmable” go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Disinfection Concer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fety issues (chlorin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ter quality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tal residual chlorine WQS = 10 µg/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ihalomethanes SDWA MCL = 80 mg/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easibility of disinfection alterna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OTW UAA Concer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raft UAA Guidance excludes urban are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plementation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orkable proced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mely approval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UAA Ques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MDNR or stakeholder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Wha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documentation nee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Wher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how much of stream segme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Whe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to collect dat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How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ll UAAs be evaluated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 How much evidence = “existing use”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OTW Op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1981080"/>
            <a:ext cx="2743200" cy="2590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2971800"/>
            <a:ext cx="22096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gulat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172200" y="2971800"/>
            <a:ext cx="228600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gislati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1981080"/>
            <a:ext cx="2743200" cy="2590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2057400"/>
            <a:ext cx="2743200" cy="2590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038480" y="2971800"/>
            <a:ext cx="121932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g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Regulatory Are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rban Areas Coalition (UAC); other organiz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etings and informal conta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ritten com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ublic stat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Legal Are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SA/UAC Intervention – MCE v. Leavi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rcRect l="0" t="0" r="11999" b="0"/>
          <a:stretch/>
        </p:blipFill>
        <p:spPr>
          <a:xfrm>
            <a:off x="3886200" y="3352680"/>
            <a:ext cx="403848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Legislative Are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nitor legislative a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raft proposed legisla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e.g., Kansas Senate Bill 20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Missouri WBC 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be continued. .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322740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40 CFR 131.10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Designation of Us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a) Each State must specify appropriate water uses to be achieved and prot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g) States may remove a designated use which is not an existing use or establish sub-categories of a use if the State can demonstrate that attaining the designated use is not fea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least one of six listed factors must be satisfied to justify removal of designated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40 CFR 131.10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Designation of Us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j) A State must conduct a use attainability analysis (UAA) whenever i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gnates uses that do not include “fishable/swimmable” 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oves a designated “fishable/swimmable”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opts subcategories of “fishable/swimmable” uses which require less stringent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Missouri Designated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Recreational Us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ole-body-contact re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man health protection (Fish consumption and secondary contact recre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ating and canoe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29671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Whole Body Contact Recre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ies in which there is direct human contact with the raw surface water to the point of complete body submergence. . . . Water so designated is    intended to be used for        swimming,water skiing               or skin diving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400800" y="3733920"/>
            <a:ext cx="1224000" cy="18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CSR 20-7.031(1)(C)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lassified Waters Designated for Whole Body Contact Recre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981080"/>
                <a:gridCol w="838440"/>
                <a:gridCol w="1600200"/>
                <a:gridCol w="1447560"/>
                <a:gridCol w="533520"/>
                <a:gridCol w="1828800"/>
              </a:tblGrid>
              <a:tr h="565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ignated U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g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res/Mi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lak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3,257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BCR lak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2,517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lak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,740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trea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,217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BCR strea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531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strea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6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,686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ssouri DNR, April 28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001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Missouri Bacteria Criter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ed to classified waters designated for WBC re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emption for periods when the stream or lake is affected by stormwater run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cal coliform shall not exceed 200/100 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asonal from April to Octo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ear-round for losing streams and scenic water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5:11:53Z</dcterms:created>
  <dc:creator>DBender</dc:creator>
  <dc:description/>
  <dc:language>en-US</dc:language>
  <cp:lastModifiedBy>DBender</cp:lastModifiedBy>
  <dcterms:modified xsi:type="dcterms:W3CDTF">2004-07-06T15:42:54Z</dcterms:modified>
  <cp:revision>119</cp:revision>
  <dc:subject/>
  <dc:title>The Mess in Missouri</dc:title>
</cp:coreProperties>
</file>