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278-2C9B-42B0-8003-DBF20C64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A18-19BD-47C6-820C-2651DA6B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3EA-8DEE-417E-A111-B9A1CD98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29A-235F-4C60-835D-32D918C1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E26A-C63D-4A74-A502-6B01678B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47C-CDA3-4B4F-8C6C-4B7EEFE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47AE-734B-4B8C-89D0-C655D179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6973-77AE-4B45-BFE2-F73288A7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984-78A0-4A7E-B629-77B7C1C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838-781C-44FC-A2AA-9C9223AD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1B7-8A16-4842-83A6-8DD194F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D1D-8DE8-4BB5-B2DE-2AB67575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5A23-845F-4002-AD42-1E2CB89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0F4-DF1B-4A81-AB7C-7BEC06D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B605-8D73-4DF0-9BA1-B8EAC219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11D0-818D-427C-B1CA-C12CBB3D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B092-E95F-4328-A3A4-A1001282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375-47D1-416B-B47A-991EB129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CEC-1F98-4C0B-8CB1-0AACD17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6A7-B7C8-40A2-926B-0097A3C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5A8-C4D6-4CFE-94A4-147535D8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78D-44CB-429A-9ED4-02943D8C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52F-1764-4176-A5C4-68AF5317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394-08CF-42E1-B485-8188E37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14CF-D0BB-4CA6-99FD-8F681EBDD60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0D2-A2EC-4B12-979A-CBDA89633D7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AN FRANCISCO B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286000"/>
            <a:ext cx="666288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TMDL PROCES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743200" y="2860560"/>
            <a:ext cx="43434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SSUES - </a:t>
            </a: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POT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Limited to Current Loading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mpliance Problem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rict Requiremen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F BAY AREA WASTEWATER AGENCIES EFFORT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ollution Prevention Program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ntal Mercury Progr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lourescent bulb recyc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an Francisco Combined Sewer 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~60% TSS Removal in Storm Wa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SSUES – </a:t>
            </a:r>
            <a:r>
              <a:rPr b="1" i="1" lang="en-US" sz="4400" spc="-1" strike="noStrike">
                <a:solidFill>
                  <a:srgbClr val="003366"/>
                </a:solidFill>
                <a:latin typeface="Times New Roman"/>
              </a:rPr>
              <a:t>STORM WA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al – 50% Waste Reduc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orm Water Treatment Facilit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 Controls on Aerial Depos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SSUES – ENVIRONMENTAL GROUP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nadequate Protection of Fishing Commun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o Controls on Aerial Depos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NANSWERED 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s Mercury Contamination Controllable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Does the Mercury TMDL Matter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ill Hg TMDL Controls be Compatible with Other TMDL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at Ultimate Costs can be Shouldered to Protect the Watershed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URRENT TMDL PROJEC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652840" y="1447920"/>
          <a:ext cx="40860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1447920"/>
                    <a:ext cx="4086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ORDINATED APPRO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ean Estuary Partnership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an Francisco Bay Regional Water Quality Control Boar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y Area Clean Water Agenc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RCURY TMDL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556000" y="1295280"/>
            <a:ext cx="410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RCURY TMDL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10544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343400" y="2286000"/>
            <a:ext cx="1295280" cy="533520"/>
          </a:xfrm>
          <a:prstGeom prst="leftArrow">
            <a:avLst>
              <a:gd name="adj1" fmla="val 50000"/>
              <a:gd name="adj2" fmla="val 60695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6019920"/>
            <a:ext cx="1295280" cy="533160"/>
          </a:xfrm>
          <a:prstGeom prst="leftArrow">
            <a:avLst>
              <a:gd name="adj1" fmla="val 50000"/>
              <a:gd name="adj2" fmla="val 60736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286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ierra Gold Mi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56386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Guadalupe River (Mercury Min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320040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gacy Sources Throughout Bay Sedi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ERCURY TMDL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7877160" cy="36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Problem:  Toxic, Persistent, Transforms to Methylmercury, Bioaccumulativ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eneficial Uses Impacted: Sport  (Subsistence) Fishing, Wildlife Habitat, Rare and Endangered Speci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urrent Mercury Loads /Proposed Alloc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809640" y="2214720"/>
          <a:ext cx="7958160" cy="4167000"/>
        </p:xfrm>
        <a:graphic>
          <a:graphicData uri="http://schemas.openxmlformats.org/drawingml/2006/table">
            <a:tbl>
              <a:tblPr/>
              <a:tblGrid>
                <a:gridCol w="3838680"/>
                <a:gridCol w="1295280"/>
                <a:gridCol w="1371600"/>
                <a:gridCol w="1452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Existing kg/y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Allocation kg/y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Per Cent Redu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ediment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pstream Sources (Central Valley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rban Runof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ural Runof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storic Mercury Mine Drainage (Guadalupe River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tewat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800000"/>
                          </a:solidFill>
                          <a:uFillTx/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,2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70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MDL SU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entral Valley &amp; Guadalupe Watersheds – TMDL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Urban Runoff – Storm Water Management Pla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diment – Natural Remedi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GULATORY A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ury Basin Plan Amendment proposed June 2004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ury Watershed Permi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1:17Z</dcterms:created>
  <dc:creator>SFPUC</dc:creator>
  <dc:description/>
  <dc:language>en-US</dc:language>
  <cp:lastModifiedBy>SFPUC</cp:lastModifiedBy>
  <dcterms:modified xsi:type="dcterms:W3CDTF">2004-07-14T19:48:03Z</dcterms:modified>
  <cp:revision>23</cp:revision>
  <dc:subject/>
  <dc:title>SAN FRANCISCO BAY</dc:title>
</cp:coreProperties>
</file>