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FDA-F769-4FF7-8DEB-773CA8F8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A07-5688-410C-A58D-4B32CADF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AF1-9348-47C7-8C32-9C13ADF7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5C9-527D-48ED-B6A0-75E00507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BC07-9CD4-4BE4-BC2C-172F1815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0385-A035-406B-AA4E-A35A8F82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2C63-506A-4CA0-B41B-57F20B1E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2F5C-7BF8-4DB9-A5E2-C6CC2F27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2A07-5A46-49CD-95B2-1754C23D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1902-5EB7-4384-8FA3-BB7899F8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3B8F-2BBF-4124-A366-33EB9C1D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AA7-6DD9-4FE3-A43F-4EC72FC1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84D4-0326-482A-A634-894F442B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D3FB-0EC1-49AE-8FFF-316A4051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931A-5C94-444C-994B-F310A8DA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3FE5-5CB8-4F80-A8F9-CECA0CE4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C8A1-C77D-4488-A3AE-88F7452B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3E9-33D2-437F-9037-3FDF574F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738-79D9-4C9F-AE0A-B4EAA547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B9B-D04E-40CB-8317-DFFF1F5D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0B2-3381-4328-97DB-246BFD2C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9EC-31C1-40FE-83B8-6EAA7004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A2D-B1CA-4F0F-AC82-50FDC84E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345-6542-4501-B17B-B2BECAA9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C134-DB46-4A1E-87FC-CB940C65AB1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CA88-A163-4085-AD43-BCF3E3B0AB2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AN FRANCISCO B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286000"/>
            <a:ext cx="666288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HE TMDL PROCES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743200" y="2860560"/>
            <a:ext cx="434340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SSUES - </a:t>
            </a:r>
            <a:r>
              <a:rPr b="1" i="1" lang="en-US" sz="4400" spc="-1" strike="noStrike">
                <a:solidFill>
                  <a:srgbClr val="003366"/>
                </a:solidFill>
                <a:latin typeface="Times New Roman"/>
              </a:rPr>
              <a:t>POTW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imited to Current Loading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ompliance Problem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rict Requiremen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F BAY AREA WASTEWATER AGENCIES EFFORT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ollution Prevention Program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ntal Mercury Progra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lourescent bulb recycl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an Francisco Combined Sewer Syste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~60% TSS Removal in Storm Wa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SSUES – </a:t>
            </a:r>
            <a:r>
              <a:rPr b="1" i="1" lang="en-US" sz="4400" spc="-1" strike="noStrike">
                <a:solidFill>
                  <a:srgbClr val="003366"/>
                </a:solidFill>
                <a:latin typeface="Times New Roman"/>
              </a:rPr>
              <a:t>STORM WA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oal – 50% Waste Reduc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orm Water Treatment Faciliti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 Controls on Aerial Deposi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ISSUES – ENVIRONMENTAL GROUP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Inadequate Protection of Fishing Communit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 Controls on Aerial Deposi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UNANSWERED ??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Is Mercury Contamination Controllable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Does the Mercury TMDL Matter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ill Hg TMDL Controls be Compatible with Other TMDLs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hat Ultimate Costs can be Shouldered to Protect the Watershed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URRENT TMDL PROJEC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652840" y="1447920"/>
          <a:ext cx="40860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2840" y="1447920"/>
                    <a:ext cx="4086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ORDINATED APPROA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ean Estuary Partnership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an Francisco Bay Regional Water Quality Control Boar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y Area Clean Water Agenci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ERCURY TMDL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556000" y="1295280"/>
            <a:ext cx="410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ERCURY TMDL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105440" cy="5257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343400" y="2286000"/>
            <a:ext cx="1295280" cy="533520"/>
          </a:xfrm>
          <a:prstGeom prst="leftArrow">
            <a:avLst>
              <a:gd name="adj1" fmla="val 50000"/>
              <a:gd name="adj2" fmla="val 60695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33920" y="6019920"/>
            <a:ext cx="1295280" cy="533160"/>
          </a:xfrm>
          <a:prstGeom prst="leftArrow">
            <a:avLst>
              <a:gd name="adj1" fmla="val 50000"/>
              <a:gd name="adj2" fmla="val 60736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15000" y="2286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ierra Gold Mi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81480" y="563868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Guadalupe River (Mercury Mine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3200400"/>
            <a:ext cx="312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egacy Sources Throughout Bay Sedim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ERCURY TMDL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877160" cy="36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he Problem:  Toxic, Persistent, Transforms to Methylmercury, Bioaccumulativ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eneficial Uses Impacted: Sport  (Subsistence) Fishing, Wildlife Habitat, Rare and Endangered Speci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urrent Mercury Loads /Proposed Alloc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809640" y="2214720"/>
          <a:ext cx="7958160" cy="4167000"/>
        </p:xfrm>
        <a:graphic>
          <a:graphicData uri="http://schemas.openxmlformats.org/drawingml/2006/table">
            <a:tbl>
              <a:tblPr/>
              <a:tblGrid>
                <a:gridCol w="3838680"/>
                <a:gridCol w="1295280"/>
                <a:gridCol w="1371600"/>
                <a:gridCol w="1452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</a:rPr>
                        <a:t>Existing kg/y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</a:rPr>
                        <a:t>Allocation kg/y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</a:rPr>
                        <a:t>Per Cent Reduc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ediment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pstream Sources (Central Valley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rban Runof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ural Runof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istoric Mercury Mine Drainage (Guadalupe River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stewate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,2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70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42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MDL SUC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entral Valley &amp; Guadalupe Watersheds – TMDL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Urban Runoff – Storm Water Management Pla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ediment – Natural Remedi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REGULATORY AC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ury Basin Plan Amendment proposed June 2004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ury Watershed Permi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9:01:17Z</dcterms:created>
  <dc:creator>SFPUC</dc:creator>
  <dc:description/>
  <dc:language>en-US</dc:language>
  <cp:lastModifiedBy>SFPUC</cp:lastModifiedBy>
  <dcterms:modified xsi:type="dcterms:W3CDTF">2004-07-14T19:48:03Z</dcterms:modified>
  <cp:revision>23</cp:revision>
  <dc:subject/>
  <dc:title>SAN FRANCISCO BAY</dc:title>
</cp:coreProperties>
</file>