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9.jpeg" ContentType="image/jpeg"/>
  <Override PartName="/ppt/media/image13.jpeg" ContentType="image/jpeg"/>
  <Override PartName="/ppt/media/image23.png" ContentType="image/png"/>
  <Override PartName="/ppt/media/image7.wmf" ContentType="image/x-wmf"/>
  <Override PartName="/ppt/media/image6.jpeg" ContentType="image/jpeg"/>
  <Override PartName="/ppt/media/image27.jpeg" ContentType="image/jpeg"/>
  <Override PartName="/ppt/media/image26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22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4.png" ContentType="image/png"/>
  <Override PartName="/ppt/media/image19.gif" ContentType="image/gif"/>
  <Override PartName="/ppt/media/image12.jpeg" ContentType="image/jpeg"/>
  <Override PartName="/ppt/media/image4.jpeg" ContentType="image/jpeg"/>
  <Override PartName="/ppt/media/image2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0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0000" y="677520"/>
            <a:ext cx="4519440" cy="33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294080"/>
            <a:ext cx="50292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7E4A-427F-4EB0-87CD-C0E467584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0000" y="67788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294080"/>
            <a:ext cx="50292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1522800"/>
            <a:ext cx="9144000" cy="30492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flipV="1">
            <a:off x="0" y="3276360"/>
            <a:ext cx="9144000" cy="30456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AMSA Summer Conference </a:t>
            </a:r>
            <a:br>
              <a:rPr sz="3600"/>
            </a:b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Water Reclamation/Reuse</a:t>
            </a:r>
            <a:br>
              <a:rPr sz="3600"/>
            </a:b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Regulatory and Resource Drivers</a:t>
            </a:r>
            <a:br>
              <a:rPr sz="3600"/>
            </a:b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325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885"/>
                </a:solidFill>
                <a:latin typeface="Arial"/>
              </a:rPr>
              <a:t>Margie Nell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logo1" descr=""/>
          <p:cNvPicPr/>
          <p:nvPr/>
        </p:nvPicPr>
        <p:blipFill>
          <a:blip r:embed="rId1"/>
          <a:stretch/>
        </p:blipFill>
        <p:spPr>
          <a:xfrm>
            <a:off x="2182680" y="4702320"/>
            <a:ext cx="4776840" cy="12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cae"/>
                </a:solidFill>
                <a:latin typeface="Arial"/>
              </a:rPr>
              <a:t>The Ultimate in Water Conservation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6880" y="1943280"/>
            <a:ext cx="6621120" cy="4847400"/>
            <a:chOff x="146880" y="1943280"/>
            <a:chExt cx="6621120" cy="4847400"/>
          </a:xfrm>
        </p:grpSpPr>
        <p:pic>
          <p:nvPicPr>
            <p:cNvPr id="161" name="MargieWater1%20Outhouse%20Springs" descr=""/>
            <p:cNvPicPr/>
            <p:nvPr/>
          </p:nvPicPr>
          <p:blipFill>
            <a:blip r:embed="rId1"/>
            <a:stretch/>
          </p:blipFill>
          <p:spPr>
            <a:xfrm>
              <a:off x="409320" y="1943280"/>
              <a:ext cx="58669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6880" y="6330960"/>
              <a:ext cx="66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ttp://www.outhousesprings.com/index.ht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400800" y="1447920"/>
            <a:ext cx="2743200" cy="1600200"/>
          </a:xfrm>
          <a:prstGeom prst="wedgeEllipseCallout">
            <a:avLst>
              <a:gd name="adj1" fmla="val -67537"/>
              <a:gd name="adj2" fmla="val 68949"/>
            </a:avLst>
          </a:prstGeom>
          <a:solidFill>
            <a:srgbClr val="ccff66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’re No. 1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No.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3962520"/>
            <a:ext cx="2743200" cy="1447560"/>
          </a:xfrm>
          <a:prstGeom prst="wedgeEllipseCallout">
            <a:avLst>
              <a:gd name="adj1" fmla="val -75175"/>
              <a:gd name="adj2" fmla="val -4956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iginally in C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cae"/>
                </a:solidFill>
                <a:latin typeface="Arial"/>
              </a:rPr>
              <a:t>The Ultimate in Water Conservation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pic>
        <p:nvPicPr>
          <p:cNvPr id="166" name="SaveLighthousePoster_lrg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229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cae"/>
                </a:solidFill>
                <a:latin typeface="Arial"/>
              </a:rPr>
              <a:t>2002 Washington Post Style Invitational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bdicat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-v., to give up all hope of ever having a flat stomach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Hipatiti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-adj., terminal coolnes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ntaxicatio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-n., euphoria at getting a tax refund, which lasts until you realize it was your money to start with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yster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-n., a person who sprinkles his conversation with Yiddish expressio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intarnatio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-n., coming back to life as a hillbilly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ffbd"/>
                </a:solidFill>
                <a:latin typeface="Arial"/>
              </a:rPr>
              <a:t>Recycling Nominee . . .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63400" y="2165400"/>
            <a:ext cx="8017200" cy="4016160"/>
            <a:chOff x="563400" y="2165400"/>
            <a:chExt cx="8017200" cy="4016160"/>
          </a:xfrm>
        </p:grpSpPr>
        <p:sp>
          <p:nvSpPr>
            <p:cNvPr id="171" name=""/>
            <p:cNvSpPr/>
            <p:nvPr/>
          </p:nvSpPr>
          <p:spPr>
            <a:xfrm>
              <a:off x="563400" y="2165400"/>
              <a:ext cx="80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ccff"/>
                  </a:solidFill>
                  <a:latin typeface="Arial"/>
                  <a:ea typeface="Times New Roman"/>
                </a:rPr>
                <a:t>Peecycling: </a:t>
              </a:r>
              <a:r>
                <a:rPr b="1" lang="en-US" sz="3200" spc="-1" strike="noStrike">
                  <a:solidFill>
                    <a:srgbClr val="ccccff"/>
                  </a:solidFill>
                  <a:latin typeface="Arial"/>
                  <a:ea typeface="Times New Roman"/>
                </a:rPr>
                <a:t>- n.,</a:t>
              </a:r>
              <a:r>
                <a:rPr b="1" lang="en-US" sz="3600" spc="-1" strike="noStrike">
                  <a:solidFill>
                    <a:srgbClr val="ccccff"/>
                  </a:solidFill>
                  <a:latin typeface="Arial"/>
                  <a:ea typeface="Times New Roman"/>
                </a:rPr>
                <a:t> a shorter term for aficionados of Toilet-to-Tap.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" name="toilet.tap.anim" descr=""/>
            <p:cNvPicPr/>
            <p:nvPr/>
          </p:nvPicPr>
          <p:blipFill>
            <a:blip r:embed="rId1"/>
            <a:stretch/>
          </p:blipFill>
          <p:spPr>
            <a:xfrm>
              <a:off x="2895480" y="3554280"/>
              <a:ext cx="3353040" cy="2627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ffbd"/>
                </a:solidFill>
                <a:latin typeface="Arial"/>
              </a:rPr>
              <a:t>Sniglet: Any word that should appear in the dictionary but doesn’t</a:t>
            </a: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2280" y="1828800"/>
            <a:ext cx="3886200" cy="4940280"/>
            <a:chOff x="152280" y="1828800"/>
            <a:chExt cx="3886200" cy="4940280"/>
          </a:xfrm>
        </p:grpSpPr>
        <p:pic>
          <p:nvPicPr>
            <p:cNvPr id="175" name="cheerios" descr=""/>
            <p:cNvPicPr/>
            <p:nvPr/>
          </p:nvPicPr>
          <p:blipFill>
            <a:blip r:embed="rId1"/>
            <a:stretch/>
          </p:blipFill>
          <p:spPr>
            <a:xfrm>
              <a:off x="609480" y="1828800"/>
              <a:ext cx="311148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2280" y="4114800"/>
              <a:ext cx="38862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Cheeriomagnetizatio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(cheer ee oh mag net i zay' shun) - n. The tendency of the last four or five Cheerios in the bowl to cling together for survival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114800" y="2819520"/>
            <a:ext cx="4816440" cy="3766680"/>
            <a:chOff x="4114800" y="2819520"/>
            <a:chExt cx="4816440" cy="3766680"/>
          </a:xfrm>
        </p:grpSpPr>
        <p:pic>
          <p:nvPicPr>
            <p:cNvPr id="178" name="mustgo" descr=""/>
            <p:cNvPicPr/>
            <p:nvPr/>
          </p:nvPicPr>
          <p:blipFill>
            <a:blip r:embed="rId2"/>
            <a:stretch/>
          </p:blipFill>
          <p:spPr>
            <a:xfrm>
              <a:off x="4114800" y="2819520"/>
              <a:ext cx="480060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114800" y="5029200"/>
              <a:ext cx="4816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Mustgo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- n. Any item of food that has been sitting in the refrigerator so long it has become a science projec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ffbd"/>
                </a:solidFill>
                <a:latin typeface="Arial"/>
              </a:rPr>
              <a:t>Water Recycling Sniglets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5040" y="1511280"/>
            <a:ext cx="8413920" cy="5043960"/>
            <a:chOff x="365040" y="1511280"/>
            <a:chExt cx="8413920" cy="5043960"/>
          </a:xfrm>
        </p:grpSpPr>
        <p:pic>
          <p:nvPicPr>
            <p:cNvPr id="182" name="tilecomet" descr=""/>
            <p:cNvPicPr/>
            <p:nvPr/>
          </p:nvPicPr>
          <p:blipFill>
            <a:blip r:embed="rId1"/>
            <a:stretch/>
          </p:blipFill>
          <p:spPr>
            <a:xfrm>
              <a:off x="365040" y="1511280"/>
              <a:ext cx="841392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65040" y="5181480"/>
              <a:ext cx="838188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ilecomet (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l  KOM'it)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n. The piece of toilet paper that clings to your foot after you've left a public restroo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ffbd"/>
                </a:solidFill>
                <a:latin typeface="Arial"/>
              </a:rPr>
              <a:t>Water Recycling Sniglets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Seatl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\ SEET'uld \ (n.) The act of being startled by the sound of the toilet seat hitting the bowl too hard.The effect is exceptionally pronounced when it occurs at night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14400" y="3733920"/>
            <a:ext cx="7055640" cy="3124080"/>
            <a:chOff x="914400" y="3733920"/>
            <a:chExt cx="7055640" cy="3124080"/>
          </a:xfrm>
        </p:grpSpPr>
        <p:pic>
          <p:nvPicPr>
            <p:cNvPr id="187" name="Toilet_landing_lights_2" descr="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2516040" cy="312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4706280" y="3886200"/>
              <a:ext cx="3263760" cy="2328120"/>
              <a:chOff x="4706280" y="3886200"/>
              <a:chExt cx="3263760" cy="2328120"/>
            </a:xfrm>
          </p:grpSpPr>
          <p:pic>
            <p:nvPicPr>
              <p:cNvPr id="189" name="jl_toilet2_small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4120" y="3886200"/>
                <a:ext cx="1809720" cy="183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4706280" y="5754600"/>
                <a:ext cx="326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ff66"/>
                    </a:solidFill>
                    <a:latin typeface="Arial"/>
                  </a:rPr>
                  <a:t>Toilet Landing Light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3429000" y="4876560"/>
              <a:ext cx="1828800" cy="99036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ffbd"/>
                </a:solidFill>
                <a:latin typeface="Arial"/>
              </a:rPr>
              <a:t>Water Recycling Sniglets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Thermalophob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\ thur'muh'lo'FO'be'uh \ (n.) The fear when showering that someone will sneak in, flush the toilet, and scald you to death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Uroniu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\ yer'OH'nee'um \ (n.) </a:t>
            </a:r>
            <a:r>
              <a:rPr b="1" lang="en-US" sz="2800" spc="-1" strike="noStrike">
                <a:solidFill>
                  <a:srgbClr val="ffbe07"/>
                </a:solidFill>
                <a:latin typeface="Arial"/>
                <a:ea typeface="Arial"/>
              </a:rPr>
              <a:t>(Chemical symbol: Un, atomic number 327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odoriferous brown substance that usually exists between the toilet seat hinges and the bowl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1928880"/>
            <a:ext cx="8424360" cy="4506840"/>
            <a:chOff x="228600" y="1928880"/>
            <a:chExt cx="8424360" cy="4506840"/>
          </a:xfrm>
        </p:grpSpPr>
        <p:grpSp>
          <p:nvGrpSpPr>
            <p:cNvPr id="196" name=""/>
            <p:cNvGrpSpPr/>
            <p:nvPr/>
          </p:nvGrpSpPr>
          <p:grpSpPr>
            <a:xfrm>
              <a:off x="228600" y="1928880"/>
              <a:ext cx="8424360" cy="2986200"/>
              <a:chOff x="228600" y="1928880"/>
              <a:chExt cx="8424360" cy="2986200"/>
            </a:xfrm>
          </p:grpSpPr>
          <p:sp>
            <p:nvSpPr>
              <p:cNvPr id="197" name=""/>
              <p:cNvSpPr/>
              <p:nvPr/>
            </p:nvSpPr>
            <p:spPr>
              <a:xfrm>
                <a:off x="488160" y="1928880"/>
                <a:ext cx="816480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What's in a name? That which we call a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rose by any other name would smell as sweet.”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(W. Shakespeare)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8" name="ws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819520"/>
                <a:ext cx="1712880" cy="2095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9" name="Roses1" descr=""/>
            <p:cNvPicPr/>
            <p:nvPr/>
          </p:nvPicPr>
          <p:blipFill>
            <a:blip r:embed="rId2"/>
            <a:stretch/>
          </p:blipFill>
          <p:spPr>
            <a:xfrm>
              <a:off x="2209680" y="3352680"/>
              <a:ext cx="4038840" cy="308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5638680" y="5486400"/>
            <a:ext cx="3657600" cy="957240"/>
            <a:chOff x="5638680" y="5486400"/>
            <a:chExt cx="3657600" cy="957240"/>
          </a:xfrm>
        </p:grpSpPr>
        <p:pic>
          <p:nvPicPr>
            <p:cNvPr id="201" name="Hose" descr=""/>
            <p:cNvPicPr/>
            <p:nvPr/>
          </p:nvPicPr>
          <p:blipFill>
            <a:blip r:embed="rId3"/>
            <a:stretch/>
          </p:blipFill>
          <p:spPr>
            <a:xfrm>
              <a:off x="5638680" y="5486400"/>
              <a:ext cx="35053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943600" y="57150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7b7ff"/>
                  </a:solidFill>
                  <a:latin typeface="Arial"/>
                </a:rPr>
                <a:t>Reclaimed/recycled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Water Reclamation/Reuse Panel</a:t>
            </a: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04920" y="1905120"/>
            <a:ext cx="8610480" cy="1819080"/>
            <a:chOff x="304920" y="1905120"/>
            <a:chExt cx="8610480" cy="1819080"/>
          </a:xfrm>
        </p:grpSpPr>
        <p:sp>
          <p:nvSpPr>
            <p:cNvPr id="205" name=""/>
            <p:cNvSpPr/>
            <p:nvPr/>
          </p:nvSpPr>
          <p:spPr>
            <a:xfrm>
              <a:off x="304920" y="1905120"/>
              <a:ext cx="8610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Steve Rogowski, Metro Wastewater Reclamation Distric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6" name="coloradocap" descr=""/>
            <p:cNvPicPr/>
            <p:nvPr/>
          </p:nvPicPr>
          <p:blipFill>
            <a:blip r:embed="rId1"/>
            <a:stretch/>
          </p:blipFill>
          <p:spPr>
            <a:xfrm>
              <a:off x="4651200" y="2438280"/>
              <a:ext cx="243540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460240" y="3809880"/>
            <a:ext cx="5921640" cy="2009880"/>
            <a:chOff x="2460240" y="3809880"/>
            <a:chExt cx="5921640" cy="2009880"/>
          </a:xfrm>
        </p:grpSpPr>
        <p:sp>
          <p:nvSpPr>
            <p:cNvPr id="208" name=""/>
            <p:cNvSpPr/>
            <p:nvPr/>
          </p:nvSpPr>
          <p:spPr>
            <a:xfrm>
              <a:off x="2460240" y="3809880"/>
              <a:ext cx="3260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Paul Kinshella,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City of Phoeni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9" name="beavers-14" descr=""/>
            <p:cNvPicPr/>
            <p:nvPr/>
          </p:nvPicPr>
          <p:blipFill>
            <a:blip r:embed="rId2"/>
            <a:stretch/>
          </p:blipFill>
          <p:spPr>
            <a:xfrm>
              <a:off x="5715000" y="3886200"/>
              <a:ext cx="2666880" cy="19335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228600" y="4876920"/>
            <a:ext cx="4724280" cy="1981080"/>
            <a:chOff x="228600" y="4876920"/>
            <a:chExt cx="4724280" cy="1981080"/>
          </a:xfrm>
        </p:grpSpPr>
        <p:sp>
          <p:nvSpPr>
            <p:cNvPr id="211" name=""/>
            <p:cNvSpPr/>
            <p:nvPr/>
          </p:nvSpPr>
          <p:spPr>
            <a:xfrm>
              <a:off x="228600" y="4876920"/>
              <a:ext cx="3657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Jo Ann Jackson, PBS &amp; J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2" name="gatrhead" descr=""/>
            <p:cNvPicPr/>
            <p:nvPr/>
          </p:nvPicPr>
          <p:blipFill>
            <a:blip r:embed="rId3"/>
            <a:stretch/>
          </p:blipFill>
          <p:spPr>
            <a:xfrm>
              <a:off x="2057400" y="5424480"/>
              <a:ext cx="2895480" cy="14335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ishingwella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3151440" cy="3565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33920" y="2971800"/>
            <a:ext cx="5181480" cy="2743200"/>
          </a:xfrm>
          <a:prstGeom prst="cloudCallout">
            <a:avLst>
              <a:gd name="adj1" fmla="val -73620"/>
              <a:gd name="adj2" fmla="val 20546"/>
            </a:avLst>
          </a:prstGeom>
          <a:solidFill>
            <a:srgbClr val="ffffff"/>
          </a:solidFill>
          <a:ln cap="sq"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en the well runs dry, we shall know the true worth of   water.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 Benjamin Frank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800600" y="4191120"/>
            <a:ext cx="1981080" cy="1076040"/>
            <a:chOff x="4800600" y="4191120"/>
            <a:chExt cx="1981080" cy="1076040"/>
          </a:xfrm>
        </p:grpSpPr>
        <p:grpSp>
          <p:nvGrpSpPr>
            <p:cNvPr id="93" name=""/>
            <p:cNvGrpSpPr/>
            <p:nvPr/>
          </p:nvGrpSpPr>
          <p:grpSpPr>
            <a:xfrm>
              <a:off x="4800600" y="4191120"/>
              <a:ext cx="1981080" cy="457200"/>
              <a:chOff x="4800600" y="4191120"/>
              <a:chExt cx="1981080" cy="457200"/>
            </a:xfrm>
          </p:grpSpPr>
          <p:sp>
            <p:nvSpPr>
              <p:cNvPr id="94" name=""/>
              <p:cNvSpPr/>
              <p:nvPr/>
            </p:nvSpPr>
            <p:spPr>
              <a:xfrm>
                <a:off x="4888080" y="4191120"/>
                <a:ext cx="189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33ff"/>
                    </a:solidFill>
                    <a:latin typeface="Arial Black"/>
                  </a:rPr>
                  <a:t>reclaim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4800600" y="4419720"/>
                <a:ext cx="152280" cy="228600"/>
                <a:chOff x="4800600" y="4419720"/>
                <a:chExt cx="152280" cy="228600"/>
              </a:xfrm>
            </p:grpSpPr>
            <p:sp>
              <p:nvSpPr>
                <p:cNvPr id="96" name=""/>
                <p:cNvSpPr/>
                <p:nvPr/>
              </p:nvSpPr>
              <p:spPr>
                <a:xfrm flipH="1">
                  <a:off x="4800600" y="4419720"/>
                  <a:ext cx="76320" cy="228600"/>
                </a:xfrm>
                <a:prstGeom prst="line">
                  <a:avLst/>
                </a:prstGeom>
                <a:ln cap="sq" w="2844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876920" y="4419720"/>
                  <a:ext cx="75960" cy="228600"/>
                </a:xfrm>
                <a:prstGeom prst="line">
                  <a:avLst/>
                </a:prstGeom>
                <a:ln cap="sq" w="2844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5502240" y="47480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58960" y="423720"/>
            <a:ext cx="742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AMSA Summer Conference </a:t>
            </a:r>
            <a:br>
              <a:rPr sz="3600"/>
            </a:b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Water Reclamation/Reuse</a:t>
            </a:r>
            <a:br>
              <a:rPr sz="3600"/>
            </a:b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Regulatory and Resource Driv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1928880"/>
            <a:ext cx="8424360" cy="4506840"/>
            <a:chOff x="228600" y="1928880"/>
            <a:chExt cx="8424360" cy="4506840"/>
          </a:xfrm>
        </p:grpSpPr>
        <p:grpSp>
          <p:nvGrpSpPr>
            <p:cNvPr id="102" name=""/>
            <p:cNvGrpSpPr/>
            <p:nvPr/>
          </p:nvGrpSpPr>
          <p:grpSpPr>
            <a:xfrm>
              <a:off x="228600" y="1928880"/>
              <a:ext cx="8424360" cy="2986200"/>
              <a:chOff x="228600" y="1928880"/>
              <a:chExt cx="8424360" cy="2986200"/>
            </a:xfrm>
          </p:grpSpPr>
          <p:sp>
            <p:nvSpPr>
              <p:cNvPr id="103" name=""/>
              <p:cNvSpPr/>
              <p:nvPr/>
            </p:nvSpPr>
            <p:spPr>
              <a:xfrm>
                <a:off x="488160" y="1928880"/>
                <a:ext cx="816480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What's in a name? That which we call a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rose by any other name would smell as sweet.”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(W. Shakespeare)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4" name="ws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819520"/>
                <a:ext cx="1712880" cy="2095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5" name="Roses1" descr=""/>
            <p:cNvPicPr/>
            <p:nvPr/>
          </p:nvPicPr>
          <p:blipFill>
            <a:blip r:embed="rId2"/>
            <a:stretch/>
          </p:blipFill>
          <p:spPr>
            <a:xfrm>
              <a:off x="2209680" y="3352680"/>
              <a:ext cx="4038840" cy="308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5638680" y="5486400"/>
            <a:ext cx="3657600" cy="957240"/>
            <a:chOff x="5638680" y="5486400"/>
            <a:chExt cx="3657600" cy="957240"/>
          </a:xfrm>
        </p:grpSpPr>
        <p:pic>
          <p:nvPicPr>
            <p:cNvPr id="107" name="Hose" descr=""/>
            <p:cNvPicPr/>
            <p:nvPr/>
          </p:nvPicPr>
          <p:blipFill>
            <a:blip r:embed="rId3"/>
            <a:stretch/>
          </p:blipFill>
          <p:spPr>
            <a:xfrm>
              <a:off x="5638680" y="5486400"/>
              <a:ext cx="35053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019920" y="57913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7b7ff"/>
                  </a:solidFill>
                  <a:latin typeface="Arial"/>
                </a:rPr>
                <a:t>Reclaimed/recycled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3200" y="1866960"/>
            <a:ext cx="7965000" cy="5568480"/>
            <a:chOff x="493200" y="1866960"/>
            <a:chExt cx="7965000" cy="5568480"/>
          </a:xfrm>
        </p:grpSpPr>
        <p:sp>
          <p:nvSpPr>
            <p:cNvPr id="111" name=""/>
            <p:cNvSpPr/>
            <p:nvPr/>
          </p:nvSpPr>
          <p:spPr>
            <a:xfrm>
              <a:off x="592200" y="2424240"/>
              <a:ext cx="45165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-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eclaimed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Recycled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Recycled waste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93200" y="1866960"/>
              <a:ext cx="7965000" cy="5568480"/>
              <a:chOff x="493200" y="1866960"/>
              <a:chExt cx="7965000" cy="55684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5638680" y="1981080"/>
                <a:ext cx="2819520" cy="5454360"/>
                <a:chOff x="5638680" y="1981080"/>
                <a:chExt cx="2819520" cy="545436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5638680" y="1981080"/>
                  <a:ext cx="2819520" cy="5454360"/>
                  <a:chOff x="5638680" y="1981080"/>
                  <a:chExt cx="2819520" cy="5454360"/>
                </a:xfrm>
              </p:grpSpPr>
              <p:pic>
                <p:nvPicPr>
                  <p:cNvPr id="115" name="coco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865840" y="1981080"/>
                    <a:ext cx="2287440" cy="3403800"/>
                  </a:xfrm>
                  <a:prstGeom prst="rect">
                    <a:avLst/>
                  </a:prstGeom>
                  <a:ln w="9360">
                    <a:solidFill>
                      <a:srgbClr val="ffff75"/>
                    </a:solidFill>
                    <a:miter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>
                    <a:off x="5638680" y="5388120"/>
                    <a:ext cx="2819520" cy="204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99"/>
                      </a:spcBef>
                      <a:spcAft>
                        <a:spcPts val="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75"/>
                        </a:solidFill>
                        <a:latin typeface="Arial"/>
                      </a:rPr>
                      <a:t>Coco Chanel in one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spcBef>
                        <a:spcPts val="99"/>
                      </a:spcBef>
                      <a:spcAft>
                        <a:spcPts val="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75"/>
                        </a:solidFill>
                        <a:latin typeface="Arial"/>
                      </a:rPr>
                      <a:t>of her </a:t>
                    </a:r>
                    <a:r>
                      <a:rPr b="1" lang="en-US" sz="2000" spc="-1" strike="noStrike" u="sng">
                        <a:solidFill>
                          <a:srgbClr val="ffff75"/>
                        </a:solidFill>
                        <a:uFillTx/>
                        <a:latin typeface="Arial"/>
                      </a:rPr>
                      <a:t>classic</a:t>
                    </a:r>
                    <a:r>
                      <a:rPr b="1" lang="en-US" sz="2000" spc="-1" strike="noStrike">
                        <a:solidFill>
                          <a:srgbClr val="ffff75"/>
                        </a:solidFill>
                        <a:latin typeface="Arial"/>
                      </a:rPr>
                      <a:t> outfit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spcBef>
                        <a:spcPts val="99"/>
                      </a:spcBef>
                      <a:spcAft>
                        <a:spcPts val="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75"/>
                        </a:solidFill>
                        <a:latin typeface="Arial"/>
                      </a:rPr>
                      <a:t>celebrating with </a:t>
                    </a:r>
                    <a:r>
                      <a:rPr b="1" lang="en-US" sz="2000" spc="-1" strike="noStrike">
                        <a:solidFill>
                          <a:srgbClr val="c9c9ff"/>
                        </a:solidFill>
                        <a:latin typeface="Arial"/>
                      </a:rPr>
                      <a:t>reclaimed water</a:t>
                    </a:r>
                    <a:br>
                      <a:rPr sz="2000"/>
                    </a:b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8880" y="2749680"/>
                  <a:ext cx="838440" cy="76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8" name=""/>
              <p:cNvSpPr/>
              <p:nvPr/>
            </p:nvSpPr>
            <p:spPr>
              <a:xfrm>
                <a:off x="493200" y="1866960"/>
                <a:ext cx="304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Classic Name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532800" y="4305240"/>
            <a:ext cx="4314960" cy="1564200"/>
            <a:chOff x="532800" y="4305240"/>
            <a:chExt cx="4314960" cy="1564200"/>
          </a:xfrm>
        </p:grpSpPr>
        <p:sp>
          <p:nvSpPr>
            <p:cNvPr id="120" name=""/>
            <p:cNvSpPr/>
            <p:nvPr/>
          </p:nvSpPr>
          <p:spPr>
            <a:xfrm>
              <a:off x="532800" y="4800600"/>
              <a:ext cx="3681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-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epurified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Recovered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5320" y="4305240"/>
              <a:ext cx="431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Distinguished Nam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9320" y="1828800"/>
            <a:ext cx="9094680" cy="3860640"/>
            <a:chOff x="49320" y="1828800"/>
            <a:chExt cx="9094680" cy="3860640"/>
          </a:xfrm>
        </p:grpSpPr>
        <p:sp>
          <p:nvSpPr>
            <p:cNvPr id="124" name=""/>
            <p:cNvSpPr/>
            <p:nvPr/>
          </p:nvSpPr>
          <p:spPr>
            <a:xfrm>
              <a:off x="49320" y="2057400"/>
              <a:ext cx="4903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ff"/>
                  </a:solidFill>
                  <a:uFillTx/>
                  <a:latin typeface="Arial"/>
                </a:rPr>
                <a:t>Enterprising Nam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029200" y="1828800"/>
              <a:ext cx="4114800" cy="3860640"/>
              <a:chOff x="5029200" y="1828800"/>
              <a:chExt cx="4114800" cy="3860640"/>
            </a:xfrm>
          </p:grpSpPr>
          <p:pic>
            <p:nvPicPr>
              <p:cNvPr id="126" name="oldenter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2209680"/>
                <a:ext cx="4114800" cy="34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Defaul1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5257800"/>
                <a:ext cx="12952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6781680" y="1828800"/>
                <a:ext cx="1600200" cy="838080"/>
              </a:xfrm>
              <a:prstGeom prst="wedgeEllipseCallout">
                <a:avLst>
                  <a:gd name="adj1" fmla="val -45337"/>
                  <a:gd name="adj2" fmla="val 124240"/>
                </a:avLst>
              </a:prstGeom>
              <a:solidFill>
                <a:srgbClr val="b7b7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eam m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 Donnie!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109800" y="2744640"/>
            <a:ext cx="46886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stainable 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 Renewable 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 Retainable 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 Restorable 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 Clear Re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NASA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913040"/>
            <a:ext cx="8686800" cy="4576320"/>
            <a:chOff x="457200" y="1913040"/>
            <a:chExt cx="8686800" cy="4576320"/>
          </a:xfrm>
        </p:grpSpPr>
        <p:sp>
          <p:nvSpPr>
            <p:cNvPr id="132" name=""/>
            <p:cNvSpPr/>
            <p:nvPr/>
          </p:nvSpPr>
          <p:spPr>
            <a:xfrm>
              <a:off x="457200" y="1913040"/>
              <a:ext cx="3634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Innovative Nam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“Well”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Vintage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Dinosaur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NE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Lagniap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343400" y="2133720"/>
              <a:ext cx="4800600" cy="4355640"/>
              <a:chOff x="4343400" y="2133720"/>
              <a:chExt cx="4800600" cy="4355640"/>
            </a:xfrm>
          </p:grpSpPr>
          <p:pic>
            <p:nvPicPr>
              <p:cNvPr id="134" name="10a" descr=""/>
              <p:cNvPicPr/>
              <p:nvPr/>
            </p:nvPicPr>
            <p:blipFill>
              <a:blip r:embed="rId1"/>
              <a:stretch/>
            </p:blipFill>
            <p:spPr>
              <a:xfrm>
                <a:off x="4343400" y="2133720"/>
                <a:ext cx="4800600" cy="38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4343400" y="5638680"/>
                <a:ext cx="4800600" cy="850680"/>
              </a:xfrm>
              <a:prstGeom prst="rect">
                <a:avLst/>
              </a:prstGeom>
              <a:solidFill>
                <a:srgbClr val="b7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9"/>
                  </a:spcBef>
                  <a:spcAft>
                    <a:spcPts val="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Women engineers listening t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9"/>
                  </a:spcBef>
                  <a:spcAft>
                    <a:spcPts val="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n Edison portable phonograp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1143000" y="5334120"/>
            <a:ext cx="2895480" cy="1523880"/>
          </a:xfrm>
          <a:prstGeom prst="cloudCallout">
            <a:avLst>
              <a:gd name="adj1" fmla="val -54712"/>
              <a:gd name="adj2" fmla="val -83023"/>
            </a:avLst>
          </a:prstGeom>
          <a:solidFill>
            <a:srgbClr val="ff505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 Yop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Little Some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 for F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31840" y="2211480"/>
            <a:ext cx="4263480" cy="4265640"/>
            <a:chOff x="231840" y="2211480"/>
            <a:chExt cx="4263480" cy="4265640"/>
          </a:xfrm>
        </p:grpSpPr>
        <p:sp>
          <p:nvSpPr>
            <p:cNvPr id="139" name=""/>
            <p:cNvSpPr/>
            <p:nvPr/>
          </p:nvSpPr>
          <p:spPr>
            <a:xfrm>
              <a:off x="231840" y="2211480"/>
              <a:ext cx="41734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-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ewer water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 Toilet to Turf </a:t>
              </a:r>
              <a:r>
                <a:rPr b="1" i="1" lang="en-US" sz="2400" spc="-1" strike="noStrike">
                  <a:solidFill>
                    <a:srgbClr val="c489ff"/>
                  </a:solidFill>
                  <a:latin typeface="Arial"/>
                </a:rPr>
                <a:t>(new)</a:t>
              </a:r>
              <a:br>
                <a:rPr sz="3600"/>
              </a:b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 Toilet to Tap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 Earle Hartling’s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everage of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hoic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311560" y="4800600"/>
              <a:ext cx="2183760" cy="1676520"/>
              <a:chOff x="2311560" y="4800600"/>
              <a:chExt cx="2183760" cy="1676520"/>
            </a:xfrm>
          </p:grpSpPr>
          <p:pic>
            <p:nvPicPr>
              <p:cNvPr id="1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0" y="4800600"/>
                <a:ext cx="1255320" cy="12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earle" descr=""/>
              <p:cNvPicPr/>
              <p:nvPr/>
            </p:nvPicPr>
            <p:blipFill>
              <a:blip r:embed="rId2"/>
              <a:stretch/>
            </p:blipFill>
            <p:spPr>
              <a:xfrm>
                <a:off x="2311560" y="5257800"/>
                <a:ext cx="92844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3" name=""/>
          <p:cNvGrpSpPr/>
          <p:nvPr/>
        </p:nvGrpSpPr>
        <p:grpSpPr>
          <a:xfrm>
            <a:off x="306000" y="1523880"/>
            <a:ext cx="8609400" cy="5410440"/>
            <a:chOff x="306000" y="1523880"/>
            <a:chExt cx="8609400" cy="5410440"/>
          </a:xfrm>
        </p:grpSpPr>
        <p:grpSp>
          <p:nvGrpSpPr>
            <p:cNvPr id="144" name=""/>
            <p:cNvGrpSpPr/>
            <p:nvPr/>
          </p:nvGrpSpPr>
          <p:grpSpPr>
            <a:xfrm>
              <a:off x="306000" y="1523880"/>
              <a:ext cx="8552160" cy="5410440"/>
              <a:chOff x="306000" y="1523880"/>
              <a:chExt cx="8552160" cy="5410440"/>
            </a:xfrm>
          </p:grpSpPr>
          <p:pic>
            <p:nvPicPr>
              <p:cNvPr id="145" name="Martha9K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0600" y="1523880"/>
                <a:ext cx="4057560" cy="541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306000" y="1731960"/>
                <a:ext cx="3966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5353"/>
                    </a:solidFill>
                    <a:uFillTx/>
                    <a:latin typeface="Arial"/>
                  </a:rPr>
                  <a:t>Notorious Name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7620120" y="2700360"/>
              <a:ext cx="1295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ree Martha Stewart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Good Toilets... Go </a:t>
            </a: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BAD!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home.att.net/~toyletbowlbbs/toilets2.ht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ttot1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3504960" cy="3962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838080" y="2895480"/>
            <a:ext cx="2057400" cy="762120"/>
            <a:chOff x="838080" y="2895480"/>
            <a:chExt cx="2057400" cy="762120"/>
          </a:xfrm>
        </p:grpSpPr>
        <p:sp>
          <p:nvSpPr>
            <p:cNvPr id="152" name=""/>
            <p:cNvSpPr/>
            <p:nvPr/>
          </p:nvSpPr>
          <p:spPr>
            <a:xfrm>
              <a:off x="838080" y="2895480"/>
              <a:ext cx="2057400" cy="762120"/>
            </a:xfrm>
            <a:prstGeom prst="rightArrow">
              <a:avLst>
                <a:gd name="adj1" fmla="val 50000"/>
                <a:gd name="adj2" fmla="val 67489"/>
              </a:avLst>
            </a:prstGeom>
            <a:solidFill>
              <a:srgbClr val="ff505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960" y="30416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oliet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162920" y="2971800"/>
            <a:ext cx="1981080" cy="1523880"/>
          </a:xfrm>
          <a:prstGeom prst="wedgeEllipseCallout">
            <a:avLst>
              <a:gd name="adj1" fmla="val -71152"/>
              <a:gd name="adj2" fmla="val -59689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onger On-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mon Misspellings of the Word “Toilet”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6120" y="1940040"/>
          <a:ext cx="6104160" cy="49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40040"/>
                    <a:ext cx="610416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848720" y="914400"/>
            <a:ext cx="1242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0T19:51:22Z</dcterms:created>
  <dc:creator>computer services</dc:creator>
  <dc:description/>
  <dc:language>en-US</dc:language>
  <cp:lastModifiedBy>mnellor</cp:lastModifiedBy>
  <cp:lastPrinted>2002-05-30T20:43:13Z</cp:lastPrinted>
  <dcterms:modified xsi:type="dcterms:W3CDTF">2004-07-16T21:33:19Z</dcterms:modified>
  <cp:revision>457</cp:revision>
  <dc:subject/>
  <dc:title>Calabasas Landfill NPS Permit </dc:title>
</cp:coreProperties>
</file>