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9.jpeg" ContentType="image/jpeg"/>
  <Override PartName="/ppt/media/image13.jpeg" ContentType="image/jpeg"/>
  <Override PartName="/ppt/media/image23.png" ContentType="image/png"/>
  <Override PartName="/ppt/media/image7.wmf" ContentType="image/x-wmf"/>
  <Override PartName="/ppt/media/image6.jpeg" ContentType="image/jpeg"/>
  <Override PartName="/ppt/media/image27.jpeg" ContentType="image/jpeg"/>
  <Override PartName="/ppt/media/image2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22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media/image19.gif" ContentType="image/gif"/>
  <Override PartName="/ppt/media/image12.jpeg" ContentType="image/jpeg"/>
  <Override PartName="/ppt/media/image4.jpeg" ContentType="image/jpe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A589-D862-4BCE-A0E6-812B6FAC3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000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294080"/>
            <a:ext cx="50292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522800"/>
            <a:ext cx="9144000" cy="3049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flipV="1">
            <a:off x="0" y="3276360"/>
            <a:ext cx="9144000" cy="30456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Summer Conference 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Regulatory and Resource Drivers</a:t>
            </a:r>
            <a:br>
              <a:rPr sz="3600"/>
            </a:b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32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885"/>
                </a:solidFill>
                <a:latin typeface="Arial"/>
              </a:rPr>
              <a:t>Margie Nell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ogo1" descr=""/>
          <p:cNvPicPr/>
          <p:nvPr/>
        </p:nvPicPr>
        <p:blipFill>
          <a:blip r:embed="rId1"/>
          <a:stretch/>
        </p:blipFill>
        <p:spPr>
          <a:xfrm>
            <a:off x="2182680" y="4702320"/>
            <a:ext cx="477684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The Ultimate in Water Conservat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6880" y="1943280"/>
            <a:ext cx="6621120" cy="4847400"/>
            <a:chOff x="146880" y="1943280"/>
            <a:chExt cx="6621120" cy="4847400"/>
          </a:xfrm>
        </p:grpSpPr>
        <p:pic>
          <p:nvPicPr>
            <p:cNvPr id="161" name="MargieWater1%20Outhouse%20Springs" descr=""/>
            <p:cNvPicPr/>
            <p:nvPr/>
          </p:nvPicPr>
          <p:blipFill>
            <a:blip r:embed="rId1"/>
            <a:stretch/>
          </p:blipFill>
          <p:spPr>
            <a:xfrm>
              <a:off x="409320" y="1943280"/>
              <a:ext cx="58669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6880" y="6330960"/>
              <a:ext cx="66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ttp://www.outhousesprings.com/index.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400800" y="1447920"/>
            <a:ext cx="2743200" cy="1600200"/>
          </a:xfrm>
          <a:prstGeom prst="wedgeEllipseCallout">
            <a:avLst>
              <a:gd name="adj1" fmla="val -67537"/>
              <a:gd name="adj2" fmla="val 68949"/>
            </a:avLst>
          </a:prstGeom>
          <a:solidFill>
            <a:srgbClr val="ccff66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’re No. 1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No.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962520"/>
            <a:ext cx="2743200" cy="1447560"/>
          </a:xfrm>
          <a:prstGeom prst="wedgeEllipseCallout">
            <a:avLst>
              <a:gd name="adj1" fmla="val -75175"/>
              <a:gd name="adj2" fmla="val -4956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ly in 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The Ultimate in Water Conservation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pic>
        <p:nvPicPr>
          <p:cNvPr id="166" name="SaveLighthousePoster_lrg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29600" cy="37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ecae"/>
                </a:solidFill>
                <a:latin typeface="Arial"/>
              </a:rPr>
              <a:t>2002 Washington Post Style Invitational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bdicat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v., to give up all hope of ever having a flat stomach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Hipatiti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adj., terminal coolnes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taxicat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euphoria at getting a tax refund, which lasts until you realize it was your money to start wi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Oyster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a person who sprinkles his conversation with Yiddish expressio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intarnat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-n., coming back to life as a hillbilly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Recycling Nominee . . .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63400" y="2165400"/>
            <a:ext cx="8017200" cy="4016160"/>
            <a:chOff x="563400" y="2165400"/>
            <a:chExt cx="8017200" cy="4016160"/>
          </a:xfrm>
        </p:grpSpPr>
        <p:sp>
          <p:nvSpPr>
            <p:cNvPr id="171" name=""/>
            <p:cNvSpPr/>
            <p:nvPr/>
          </p:nvSpPr>
          <p:spPr>
            <a:xfrm>
              <a:off x="563400" y="2165400"/>
              <a:ext cx="801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Peecycling: </a:t>
              </a:r>
              <a:r>
                <a:rPr b="1" lang="en-US" sz="32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- n.,</a:t>
              </a:r>
              <a:r>
                <a:rPr b="1" lang="en-US" sz="3600" spc="-1" strike="noStrike">
                  <a:solidFill>
                    <a:srgbClr val="ccccff"/>
                  </a:solidFill>
                  <a:latin typeface="Arial"/>
                  <a:ea typeface="Times New Roman"/>
                </a:rPr>
                <a:t> a shorter term for aficionados of Toilet-to-Tap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toilet.tap.anim" descr=""/>
            <p:cNvPicPr/>
            <p:nvPr/>
          </p:nvPicPr>
          <p:blipFill>
            <a:blip r:embed="rId1"/>
            <a:stretch/>
          </p:blipFill>
          <p:spPr>
            <a:xfrm>
              <a:off x="2895480" y="3554280"/>
              <a:ext cx="3353040" cy="2627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ffbd"/>
                </a:solidFill>
                <a:latin typeface="Arial"/>
              </a:rPr>
              <a:t>Sniglet: Any word that should appear in the dictionary but doesn’t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2280" y="1828800"/>
            <a:ext cx="3886200" cy="4940280"/>
            <a:chOff x="152280" y="1828800"/>
            <a:chExt cx="3886200" cy="4940280"/>
          </a:xfrm>
        </p:grpSpPr>
        <p:pic>
          <p:nvPicPr>
            <p:cNvPr id="175" name="cheerios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311148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52280" y="4114800"/>
              <a:ext cx="3886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Cheeriomagnetiza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(cheer ee oh mag net i zay' shun) - n. The tendency of the last four or five Cheerios in the bowl to cling together for surviva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14800" y="2819520"/>
            <a:ext cx="4816440" cy="3766680"/>
            <a:chOff x="4114800" y="2819520"/>
            <a:chExt cx="4816440" cy="3766680"/>
          </a:xfrm>
        </p:grpSpPr>
        <p:pic>
          <p:nvPicPr>
            <p:cNvPr id="178" name="mustgo" descr=""/>
            <p:cNvPicPr/>
            <p:nvPr/>
          </p:nvPicPr>
          <p:blipFill>
            <a:blip r:embed="rId2"/>
            <a:stretch/>
          </p:blipFill>
          <p:spPr>
            <a:xfrm>
              <a:off x="4114800" y="2819520"/>
              <a:ext cx="480060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114800" y="5029200"/>
              <a:ext cx="4816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Mustgo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- n. Any item of food that has been sitting in the refrigerator so long it has become a science project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040" y="1511280"/>
            <a:ext cx="8413920" cy="5043960"/>
            <a:chOff x="365040" y="1511280"/>
            <a:chExt cx="8413920" cy="5043960"/>
          </a:xfrm>
        </p:grpSpPr>
        <p:pic>
          <p:nvPicPr>
            <p:cNvPr id="182" name="tilecomet" descr=""/>
            <p:cNvPicPr/>
            <p:nvPr/>
          </p:nvPicPr>
          <p:blipFill>
            <a:blip r:embed="rId1"/>
            <a:stretch/>
          </p:blipFill>
          <p:spPr>
            <a:xfrm>
              <a:off x="365040" y="1511280"/>
              <a:ext cx="841392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65040" y="5181480"/>
              <a:ext cx="838188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ilecomet 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l  KOM'it)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n. The piece of toilet paper that clings to your foot after you've left a public restroo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Seatl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SEET'uld \ (n.) The act of being startled by the sound of the toilet seat hitting the bowl too hard.The effect is exceptionally pronounced when it occurs at night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14400" y="3733920"/>
            <a:ext cx="7055640" cy="3124080"/>
            <a:chOff x="914400" y="3733920"/>
            <a:chExt cx="7055640" cy="3124080"/>
          </a:xfrm>
        </p:grpSpPr>
        <p:pic>
          <p:nvPicPr>
            <p:cNvPr id="187" name="Toilet_landing_lights_2" descr=""/>
            <p:cNvPicPr/>
            <p:nvPr/>
          </p:nvPicPr>
          <p:blipFill>
            <a:blip r:embed="rId1"/>
            <a:stretch/>
          </p:blipFill>
          <p:spPr>
            <a:xfrm>
              <a:off x="914400" y="3733920"/>
              <a:ext cx="251604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4706280" y="3886200"/>
              <a:ext cx="3263760" cy="2328120"/>
              <a:chOff x="4706280" y="3886200"/>
              <a:chExt cx="3263760" cy="2328120"/>
            </a:xfrm>
          </p:grpSpPr>
          <p:pic>
            <p:nvPicPr>
              <p:cNvPr id="189" name="jl_toilet2_small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4120" y="3886200"/>
                <a:ext cx="1809720" cy="18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706280" y="5754600"/>
                <a:ext cx="326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ff66"/>
                    </a:solidFill>
                    <a:latin typeface="Arial"/>
                  </a:rPr>
                  <a:t>Toilet Landing Light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3429000" y="4876560"/>
              <a:ext cx="1828800" cy="990360"/>
            </a:xfrm>
            <a:prstGeom prst="line">
              <a:avLst/>
            </a:prstGeom>
            <a:ln cap="sq" w="57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ffbd"/>
                </a:solidFill>
                <a:latin typeface="Arial"/>
              </a:rPr>
              <a:t>Water Recycling Sniglets</a:t>
            </a:r>
            <a:endParaRPr b="1" lang="en-US" sz="40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Thermalophob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thur'muh'lo'FO'be'uh \ (n.) The fear when showering that someone will sneak in, flush the toilet, and scald you to death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Uroniu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\ yer'OH'nee'um \ (n.) </a:t>
            </a:r>
            <a:r>
              <a:rPr b="1" lang="en-US" sz="2800" spc="-1" strike="noStrike">
                <a:solidFill>
                  <a:srgbClr val="ffbe07"/>
                </a:solidFill>
                <a:latin typeface="Arial"/>
                <a:ea typeface="Arial"/>
              </a:rPr>
              <a:t>(Chemical symbol: Un, atomic number 327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odoriferous brown substance that usually exists between the toilet seat hinges and the bowl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1928880"/>
            <a:ext cx="8424360" cy="4506840"/>
            <a:chOff x="228600" y="1928880"/>
            <a:chExt cx="8424360" cy="4506840"/>
          </a:xfrm>
        </p:grpSpPr>
        <p:grpSp>
          <p:nvGrpSpPr>
            <p:cNvPr id="196" name=""/>
            <p:cNvGrpSpPr/>
            <p:nvPr/>
          </p:nvGrpSpPr>
          <p:grpSpPr>
            <a:xfrm>
              <a:off x="228600" y="1928880"/>
              <a:ext cx="8424360" cy="2986200"/>
              <a:chOff x="228600" y="1928880"/>
              <a:chExt cx="8424360" cy="2986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88160" y="1928880"/>
                <a:ext cx="81648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hat's in a name? That which we call a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ose by any other name would smell as sweet.”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(W. Shakespeare)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98" name="ws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819520"/>
                <a:ext cx="1712880" cy="209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Roses1" descr="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4038840" cy="308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638680" y="5486400"/>
            <a:ext cx="3657600" cy="957240"/>
            <a:chOff x="5638680" y="5486400"/>
            <a:chExt cx="3657600" cy="957240"/>
          </a:xfrm>
        </p:grpSpPr>
        <p:pic>
          <p:nvPicPr>
            <p:cNvPr id="201" name="Hose" descr=""/>
            <p:cNvPicPr/>
            <p:nvPr/>
          </p:nvPicPr>
          <p:blipFill>
            <a:blip r:embed="rId3"/>
            <a:stretch/>
          </p:blipFill>
          <p:spPr>
            <a:xfrm>
              <a:off x="5638680" y="5486400"/>
              <a:ext cx="3505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943600" y="57150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7b7ff"/>
                  </a:solidFill>
                  <a:latin typeface="Arial"/>
                </a:rPr>
                <a:t>Reclaimed/recycl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 Panel</a:t>
            </a:r>
            <a:endParaRPr b="1" lang="en-US" sz="36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04920" y="1905120"/>
            <a:ext cx="8610480" cy="1819080"/>
            <a:chOff x="304920" y="1905120"/>
            <a:chExt cx="8610480" cy="1819080"/>
          </a:xfrm>
        </p:grpSpPr>
        <p:sp>
          <p:nvSpPr>
            <p:cNvPr id="205" name=""/>
            <p:cNvSpPr/>
            <p:nvPr/>
          </p:nvSpPr>
          <p:spPr>
            <a:xfrm>
              <a:off x="304920" y="190512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Steve Rogowski, Metro Wastewater Reclamation Distric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6" name="coloradocap" descr=""/>
            <p:cNvPicPr/>
            <p:nvPr/>
          </p:nvPicPr>
          <p:blipFill>
            <a:blip r:embed="rId1"/>
            <a:stretch/>
          </p:blipFill>
          <p:spPr>
            <a:xfrm>
              <a:off x="4651200" y="2438280"/>
              <a:ext cx="243540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460240" y="3809880"/>
            <a:ext cx="5921640" cy="2009880"/>
            <a:chOff x="2460240" y="3809880"/>
            <a:chExt cx="5921640" cy="2009880"/>
          </a:xfrm>
        </p:grpSpPr>
        <p:sp>
          <p:nvSpPr>
            <p:cNvPr id="208" name=""/>
            <p:cNvSpPr/>
            <p:nvPr/>
          </p:nvSpPr>
          <p:spPr>
            <a:xfrm>
              <a:off x="2460240" y="3809880"/>
              <a:ext cx="3260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Paul Kinshella,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City of Phoeni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9" name="beavers-14" descr=""/>
            <p:cNvPicPr/>
            <p:nvPr/>
          </p:nvPicPr>
          <p:blipFill>
            <a:blip r:embed="rId2"/>
            <a:stretch/>
          </p:blipFill>
          <p:spPr>
            <a:xfrm>
              <a:off x="5715000" y="3886200"/>
              <a:ext cx="2666880" cy="1933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228600" y="4876920"/>
            <a:ext cx="4724280" cy="1981080"/>
            <a:chOff x="228600" y="4876920"/>
            <a:chExt cx="4724280" cy="1981080"/>
          </a:xfrm>
        </p:grpSpPr>
        <p:sp>
          <p:nvSpPr>
            <p:cNvPr id="211" name=""/>
            <p:cNvSpPr/>
            <p:nvPr/>
          </p:nvSpPr>
          <p:spPr>
            <a:xfrm>
              <a:off x="228600" y="4876920"/>
              <a:ext cx="365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Jo Ann Jackson, PBS &amp; J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2" name="gatrhead" descr=""/>
            <p:cNvPicPr/>
            <p:nvPr/>
          </p:nvPicPr>
          <p:blipFill>
            <a:blip r:embed="rId3"/>
            <a:stretch/>
          </p:blipFill>
          <p:spPr>
            <a:xfrm>
              <a:off x="2057400" y="5424480"/>
              <a:ext cx="2895480" cy="14335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ishingwella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151440" cy="3565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3920" y="2971800"/>
            <a:ext cx="5181480" cy="2743200"/>
          </a:xfrm>
          <a:prstGeom prst="cloudCallout">
            <a:avLst>
              <a:gd name="adj1" fmla="val -73620"/>
              <a:gd name="adj2" fmla="val 20546"/>
            </a:avLst>
          </a:prstGeom>
          <a:solidFill>
            <a:srgbClr val="ffffff"/>
          </a:solidFill>
          <a:ln cap="sq"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en the well runs dry, we shall know the true worth of   water.</a:t>
            </a:r>
            <a:r>
              <a:rPr b="1" i="1" lang="en-US" sz="2000" spc="-1" strike="noStrike">
                <a:solidFill>
                  <a:srgbClr val="333333"/>
                </a:solidFill>
                <a:latin typeface="Arial"/>
              </a:rPr>
              <a:t> Benjamin Frankl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00600" y="4191120"/>
            <a:ext cx="1981080" cy="1076040"/>
            <a:chOff x="4800600" y="4191120"/>
            <a:chExt cx="1981080" cy="1076040"/>
          </a:xfrm>
        </p:grpSpPr>
        <p:grpSp>
          <p:nvGrpSpPr>
            <p:cNvPr id="93" name=""/>
            <p:cNvGrpSpPr/>
            <p:nvPr/>
          </p:nvGrpSpPr>
          <p:grpSpPr>
            <a:xfrm>
              <a:off x="4800600" y="4191120"/>
              <a:ext cx="1981080" cy="457200"/>
              <a:chOff x="4800600" y="4191120"/>
              <a:chExt cx="1981080" cy="457200"/>
            </a:xfrm>
          </p:grpSpPr>
          <p:sp>
            <p:nvSpPr>
              <p:cNvPr id="94" name=""/>
              <p:cNvSpPr/>
              <p:nvPr/>
            </p:nvSpPr>
            <p:spPr>
              <a:xfrm>
                <a:off x="4888080" y="4191120"/>
                <a:ext cx="189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9933ff"/>
                    </a:solidFill>
                    <a:latin typeface="Arial Black"/>
                  </a:rPr>
                  <a:t>reclaim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800600" y="4419720"/>
                <a:ext cx="152280" cy="228600"/>
                <a:chOff x="4800600" y="4419720"/>
                <a:chExt cx="152280" cy="228600"/>
              </a:xfrm>
            </p:grpSpPr>
            <p:sp>
              <p:nvSpPr>
                <p:cNvPr id="96" name=""/>
                <p:cNvSpPr/>
                <p:nvPr/>
              </p:nvSpPr>
              <p:spPr>
                <a:xfrm flipH="1">
                  <a:off x="4800600" y="4419720"/>
                  <a:ext cx="76320" cy="228600"/>
                </a:xfrm>
                <a:prstGeom prst="line">
                  <a:avLst/>
                </a:prstGeom>
                <a:ln cap="sq" w="2844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876920" y="4419720"/>
                  <a:ext cx="75960" cy="228600"/>
                </a:xfrm>
                <a:prstGeom prst="line">
                  <a:avLst/>
                </a:prstGeom>
                <a:ln cap="sq" w="2844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5502240" y="474804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58960" y="423720"/>
            <a:ext cx="742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AMSA Summer Conference 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Water Reclamation/Reuse</a:t>
            </a:r>
            <a:br>
              <a:rPr sz="3600"/>
            </a:br>
            <a:r>
              <a:rPr b="1" lang="en-US" sz="3600" spc="-1" strike="noStrike">
                <a:solidFill>
                  <a:srgbClr val="00febb"/>
                </a:solidFill>
                <a:latin typeface="Arial"/>
              </a:rPr>
              <a:t>Regulatory and Resource Driv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1928880"/>
            <a:ext cx="8424360" cy="4506840"/>
            <a:chOff x="228600" y="1928880"/>
            <a:chExt cx="8424360" cy="4506840"/>
          </a:xfrm>
        </p:grpSpPr>
        <p:grpSp>
          <p:nvGrpSpPr>
            <p:cNvPr id="102" name=""/>
            <p:cNvGrpSpPr/>
            <p:nvPr/>
          </p:nvGrpSpPr>
          <p:grpSpPr>
            <a:xfrm>
              <a:off x="228600" y="1928880"/>
              <a:ext cx="8424360" cy="2986200"/>
              <a:chOff x="228600" y="1928880"/>
              <a:chExt cx="8424360" cy="2986200"/>
            </a:xfrm>
          </p:grpSpPr>
          <p:sp>
            <p:nvSpPr>
              <p:cNvPr id="103" name=""/>
              <p:cNvSpPr/>
              <p:nvPr/>
            </p:nvSpPr>
            <p:spPr>
              <a:xfrm>
                <a:off x="488160" y="1928880"/>
                <a:ext cx="81648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hat's in a name? That which we call a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ose by any other name would smell as sweet.”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(W. Shakespeare)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4" name="ws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819520"/>
                <a:ext cx="1712880" cy="2095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" name="Roses1" descr=""/>
            <p:cNvPicPr/>
            <p:nvPr/>
          </p:nvPicPr>
          <p:blipFill>
            <a:blip r:embed="rId2"/>
            <a:stretch/>
          </p:blipFill>
          <p:spPr>
            <a:xfrm>
              <a:off x="2209680" y="3352680"/>
              <a:ext cx="4038840" cy="308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5638680" y="5486400"/>
            <a:ext cx="3657600" cy="957240"/>
            <a:chOff x="5638680" y="5486400"/>
            <a:chExt cx="3657600" cy="957240"/>
          </a:xfrm>
        </p:grpSpPr>
        <p:pic>
          <p:nvPicPr>
            <p:cNvPr id="107" name="Hose" descr=""/>
            <p:cNvPicPr/>
            <p:nvPr/>
          </p:nvPicPr>
          <p:blipFill>
            <a:blip r:embed="rId3"/>
            <a:stretch/>
          </p:blipFill>
          <p:spPr>
            <a:xfrm>
              <a:off x="5638680" y="5486400"/>
              <a:ext cx="35053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019920" y="57913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7b7ff"/>
                  </a:solidFill>
                  <a:latin typeface="Arial"/>
                </a:rPr>
                <a:t>Reclaimed/recycled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3200" y="1866960"/>
            <a:ext cx="7965000" cy="5568480"/>
            <a:chOff x="493200" y="1866960"/>
            <a:chExt cx="7965000" cy="5568480"/>
          </a:xfrm>
        </p:grpSpPr>
        <p:sp>
          <p:nvSpPr>
            <p:cNvPr id="111" name=""/>
            <p:cNvSpPr/>
            <p:nvPr/>
          </p:nvSpPr>
          <p:spPr>
            <a:xfrm>
              <a:off x="592200" y="2424240"/>
              <a:ext cx="45165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claim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ycl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ycled waste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93200" y="1866960"/>
              <a:ext cx="7965000" cy="5568480"/>
              <a:chOff x="493200" y="1866960"/>
              <a:chExt cx="7965000" cy="55684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638680" y="1981080"/>
                <a:ext cx="2819520" cy="5454360"/>
                <a:chOff x="5638680" y="1981080"/>
                <a:chExt cx="2819520" cy="54543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5638680" y="1981080"/>
                  <a:ext cx="2819520" cy="5454360"/>
                  <a:chOff x="5638680" y="1981080"/>
                  <a:chExt cx="2819520" cy="5454360"/>
                </a:xfrm>
              </p:grpSpPr>
              <p:pic>
                <p:nvPicPr>
                  <p:cNvPr id="115" name="coco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865840" y="1981080"/>
                    <a:ext cx="2287440" cy="3403800"/>
                  </a:xfrm>
                  <a:prstGeom prst="rect">
                    <a:avLst/>
                  </a:prstGeom>
                  <a:ln w="9360">
                    <a:solidFill>
                      <a:srgbClr val="ffff75"/>
                    </a:solidFill>
                    <a:miter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5638680" y="5388120"/>
                    <a:ext cx="2819520" cy="204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Coco Chanel in one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of her </a:t>
                    </a:r>
                    <a:r>
                      <a:rPr b="1" lang="en-US" sz="2000" spc="-1" strike="noStrike" u="sng">
                        <a:solidFill>
                          <a:srgbClr val="ffff75"/>
                        </a:solidFill>
                        <a:uFillTx/>
                        <a:latin typeface="Arial"/>
                      </a:rPr>
                      <a:t>classic</a:t>
                    </a: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 outfit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99"/>
                      </a:spcBef>
                      <a:spcAft>
                        <a:spcPts val="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75"/>
                        </a:solidFill>
                        <a:latin typeface="Arial"/>
                      </a:rPr>
                      <a:t>celebrating with </a:t>
                    </a:r>
                    <a:r>
                      <a:rPr b="1" lang="en-US" sz="2000" spc="-1" strike="noStrike">
                        <a:solidFill>
                          <a:srgbClr val="c9c9ff"/>
                        </a:solidFill>
                        <a:latin typeface="Arial"/>
                      </a:rPr>
                      <a:t>reclaimed water</a:t>
                    </a:r>
                    <a:br>
                      <a:rPr sz="2000"/>
                    </a:b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38880" y="2749680"/>
                  <a:ext cx="83844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8" name=""/>
              <p:cNvSpPr/>
              <p:nvPr/>
            </p:nvSpPr>
            <p:spPr>
              <a:xfrm>
                <a:off x="493200" y="1866960"/>
                <a:ext cx="304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Classic Nam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532800" y="4305240"/>
            <a:ext cx="4314960" cy="1564200"/>
            <a:chOff x="532800" y="4305240"/>
            <a:chExt cx="4314960" cy="1564200"/>
          </a:xfrm>
        </p:grpSpPr>
        <p:sp>
          <p:nvSpPr>
            <p:cNvPr id="120" name=""/>
            <p:cNvSpPr/>
            <p:nvPr/>
          </p:nvSpPr>
          <p:spPr>
            <a:xfrm>
              <a:off x="532800" y="4800600"/>
              <a:ext cx="3681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purifi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Recovered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5320" y="4305240"/>
              <a:ext cx="431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Distinguished Na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9320" y="1828800"/>
            <a:ext cx="9094680" cy="3860640"/>
            <a:chOff x="49320" y="1828800"/>
            <a:chExt cx="9094680" cy="3860640"/>
          </a:xfrm>
        </p:grpSpPr>
        <p:sp>
          <p:nvSpPr>
            <p:cNvPr id="124" name=""/>
            <p:cNvSpPr/>
            <p:nvPr/>
          </p:nvSpPr>
          <p:spPr>
            <a:xfrm>
              <a:off x="49320" y="2057400"/>
              <a:ext cx="490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ff"/>
                  </a:solidFill>
                  <a:uFillTx/>
                  <a:latin typeface="Arial"/>
                </a:rPr>
                <a:t>Enterprising Nam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029200" y="1828800"/>
              <a:ext cx="4114800" cy="3860640"/>
              <a:chOff x="5029200" y="1828800"/>
              <a:chExt cx="4114800" cy="3860640"/>
            </a:xfrm>
          </p:grpSpPr>
          <p:pic>
            <p:nvPicPr>
              <p:cNvPr id="126" name="olde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2209680"/>
                <a:ext cx="4114800" cy="345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Defaul1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5257800"/>
                <a:ext cx="1295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6781680" y="1828800"/>
                <a:ext cx="1600200" cy="838080"/>
              </a:xfrm>
              <a:prstGeom prst="wedgeEllipseCallout">
                <a:avLst>
                  <a:gd name="adj1" fmla="val -45337"/>
                  <a:gd name="adj2" fmla="val 124240"/>
                </a:avLst>
              </a:prstGeom>
              <a:solidFill>
                <a:srgbClr val="b7b7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eam m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 Donnie!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109800" y="2744640"/>
            <a:ext cx="46886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stain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new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tain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Restorable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Clear Re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NASA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913040"/>
            <a:ext cx="8686800" cy="4576320"/>
            <a:chOff x="457200" y="1913040"/>
            <a:chExt cx="8686800" cy="4576320"/>
          </a:xfrm>
        </p:grpSpPr>
        <p:sp>
          <p:nvSpPr>
            <p:cNvPr id="132" name=""/>
            <p:cNvSpPr/>
            <p:nvPr/>
          </p:nvSpPr>
          <p:spPr>
            <a:xfrm>
              <a:off x="457200" y="1913040"/>
              <a:ext cx="3634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Innovative Nam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“Well”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Vintage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Dinosaur 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NEWa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- Lagniap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343400" y="2133720"/>
              <a:ext cx="4800600" cy="4355640"/>
              <a:chOff x="4343400" y="2133720"/>
              <a:chExt cx="4800600" cy="4355640"/>
            </a:xfrm>
          </p:grpSpPr>
          <p:pic>
            <p:nvPicPr>
              <p:cNvPr id="134" name="10a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3400" y="2133720"/>
                <a:ext cx="4800600" cy="38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343400" y="5638680"/>
                <a:ext cx="4800600" cy="850680"/>
              </a:xfrm>
              <a:prstGeom prst="rect">
                <a:avLst/>
              </a:prstGeom>
              <a:solidFill>
                <a:srgbClr val="b7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9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Women engineers listening 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9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n Edison portable phonograp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1143000" y="5334120"/>
            <a:ext cx="2895480" cy="1523880"/>
          </a:xfrm>
          <a:prstGeom prst="cloudCallout">
            <a:avLst>
              <a:gd name="adj1" fmla="val -54712"/>
              <a:gd name="adj2" fmla="val -83023"/>
            </a:avLst>
          </a:prstGeom>
          <a:solidFill>
            <a:srgbClr val="ff505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 Yop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ttle Some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 for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31840" y="2211480"/>
            <a:ext cx="4263480" cy="4265640"/>
            <a:chOff x="231840" y="2211480"/>
            <a:chExt cx="4263480" cy="4265640"/>
          </a:xfrm>
        </p:grpSpPr>
        <p:sp>
          <p:nvSpPr>
            <p:cNvPr id="139" name=""/>
            <p:cNvSpPr/>
            <p:nvPr/>
          </p:nvSpPr>
          <p:spPr>
            <a:xfrm>
              <a:off x="231840" y="2211480"/>
              <a:ext cx="4173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-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wer wate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Toilet to Turf </a:t>
              </a:r>
              <a:r>
                <a:rPr b="1" i="1" lang="en-US" sz="2400" spc="-1" strike="noStrike">
                  <a:solidFill>
                    <a:srgbClr val="c489ff"/>
                  </a:solidFill>
                  <a:latin typeface="Arial"/>
                </a:rPr>
                <a:t>(new)</a:t>
              </a:r>
              <a:br>
                <a:rPr sz="3600"/>
              </a:b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Toilet to Ta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- Earle Hartling’s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everage of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hoic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311560" y="4800600"/>
              <a:ext cx="2183760" cy="1676520"/>
              <a:chOff x="2311560" y="4800600"/>
              <a:chExt cx="2183760" cy="167652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4800600"/>
                <a:ext cx="1255320" cy="12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earle" descr=""/>
              <p:cNvPicPr/>
              <p:nvPr/>
            </p:nvPicPr>
            <p:blipFill>
              <a:blip r:embed="rId2"/>
              <a:stretch/>
            </p:blipFill>
            <p:spPr>
              <a:xfrm>
                <a:off x="2311560" y="5257800"/>
                <a:ext cx="92844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3" name=""/>
          <p:cNvGrpSpPr/>
          <p:nvPr/>
        </p:nvGrpSpPr>
        <p:grpSpPr>
          <a:xfrm>
            <a:off x="306000" y="1523880"/>
            <a:ext cx="8609400" cy="5410440"/>
            <a:chOff x="306000" y="1523880"/>
            <a:chExt cx="8609400" cy="5410440"/>
          </a:xfrm>
        </p:grpSpPr>
        <p:grpSp>
          <p:nvGrpSpPr>
            <p:cNvPr id="144" name=""/>
            <p:cNvGrpSpPr/>
            <p:nvPr/>
          </p:nvGrpSpPr>
          <p:grpSpPr>
            <a:xfrm>
              <a:off x="306000" y="1523880"/>
              <a:ext cx="8552160" cy="5410440"/>
              <a:chOff x="306000" y="1523880"/>
              <a:chExt cx="8552160" cy="5410440"/>
            </a:xfrm>
          </p:grpSpPr>
          <p:pic>
            <p:nvPicPr>
              <p:cNvPr id="145" name="Martha9K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1523880"/>
                <a:ext cx="4057560" cy="54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306000" y="1731960"/>
                <a:ext cx="3966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5353"/>
                    </a:solidFill>
                    <a:uFillTx/>
                    <a:latin typeface="Arial"/>
                  </a:rPr>
                  <a:t>Notorious Name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620120" y="2700360"/>
              <a:ext cx="129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Free Martha Stewart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The 3 R’s</a:t>
            </a:r>
            <a:br>
              <a:rPr sz="4400"/>
            </a:br>
            <a:r>
              <a:rPr b="1" lang="en-US" sz="4400" spc="-1" strike="noStrike">
                <a:solidFill>
                  <a:srgbClr val="b7b7ff"/>
                </a:solidFill>
                <a:latin typeface="Arial"/>
              </a:rPr>
              <a:t>A Rose By Any Other Name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Good Toilets... Go 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BAD!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home.att.net/~toyletbowlbbs/toilets2.ht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ttot1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504960" cy="3962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838080" y="2895480"/>
            <a:ext cx="2057400" cy="762120"/>
            <a:chOff x="838080" y="2895480"/>
            <a:chExt cx="2057400" cy="762120"/>
          </a:xfrm>
        </p:grpSpPr>
        <p:sp>
          <p:nvSpPr>
            <p:cNvPr id="152" name=""/>
            <p:cNvSpPr/>
            <p:nvPr/>
          </p:nvSpPr>
          <p:spPr>
            <a:xfrm>
              <a:off x="838080" y="2895480"/>
              <a:ext cx="2057400" cy="762120"/>
            </a:xfrm>
            <a:prstGeom prst="rightArrow">
              <a:avLst>
                <a:gd name="adj1" fmla="val 50000"/>
                <a:gd name="adj2" fmla="val 67489"/>
              </a:avLst>
            </a:prstGeom>
            <a:solidFill>
              <a:srgbClr val="ff505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960" y="30416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li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162920" y="2971800"/>
            <a:ext cx="1981080" cy="1523880"/>
          </a:xfrm>
          <a:prstGeom prst="wedgeEllipseCallout">
            <a:avLst>
              <a:gd name="adj1" fmla="val -71152"/>
              <a:gd name="adj2" fmla="val -59689"/>
            </a:avLst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onger On-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Misspellings of the Word “Toilet”</a:t>
            </a:r>
            <a:endParaRPr b="1" lang="en-US" sz="4400" spc="-1" strike="noStrike">
              <a:solidFill>
                <a:srgbClr val="00cc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6120" y="1940040"/>
          <a:ext cx="6104160" cy="49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40040"/>
                    <a:ext cx="610416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848720" y="914400"/>
            <a:ext cx="1242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51:22Z</dcterms:created>
  <dc:creator>computer services</dc:creator>
  <dc:description/>
  <dc:language>en-US</dc:language>
  <cp:lastModifiedBy>mnellor</cp:lastModifiedBy>
  <cp:lastPrinted>2002-05-30T20:43:13Z</cp:lastPrinted>
  <dcterms:modified xsi:type="dcterms:W3CDTF">2004-07-16T21:33:19Z</dcterms:modified>
  <cp:revision>457</cp:revision>
  <dc:subject/>
  <dc:title>Calabasas Landfill NPS Permit </dc:title>
</cp:coreProperties>
</file>