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2B0F-6559-4124-A5B0-B1D8203F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21F8-8DF0-4413-8644-8F0F6214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C05-55AA-4644-B024-1776EC97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E1C-A0F0-4E02-A1BB-CDC02B36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EC06-4DF0-426E-8377-284D0B35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D9FE-217C-4438-BF32-8403C2DF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7CD2-6992-4D93-89E1-FD76E090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D771-A1A3-4831-99F9-FCE24AC1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A127-6445-477D-A6BA-DE636665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6BA1-DDF1-422B-A006-E4D71495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0C60-FA83-48C0-9A8A-CB688510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B76-3D44-4678-B54C-2DA8FC0E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E1AE-A9A4-4307-93CD-6AC59AA8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BA4B-79B7-4262-B2E5-4652CE59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ECE8-8EC8-4C86-8DD6-F1585009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967E-68ED-45F5-97F6-F78F098C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AC41-EF4F-458F-AF52-0C91C5C6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8CF-F1CD-4972-98EF-FDA1B198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C80-B5A5-4FA4-BF22-F88B3316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35F-EAE7-4AC3-8C17-41C59F78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065-8BC2-478A-AC72-CF035861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DC5-F447-4FE1-B089-BD1D9631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5DD-60EB-4E8A-970E-93C82EC5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024-BD62-4BD9-90AA-FCE25457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3064-253F-40CB-8437-0DA7DEDA0D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52B7-F0D1-43B2-BE9B-34043243792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powers@btlaw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reating Successful TMDLs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ore Art than Science?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4191120"/>
            <a:ext cx="60325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ika  K. P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SA Summer Confer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uly 22, 200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ting Successful TMD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re Art than Scienc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MDLs cannot be created using an entirely scientific approa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and (many) other constra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y deci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book is a handy roadma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the science to…get better science in TMD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the art to draw an alternate route when you need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your own successful TMD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5" name=""/>
          <p:cNvCxnSpPr/>
          <p:nvPr/>
        </p:nvCxnSpPr>
        <p:spPr>
          <a:xfrm flipH="1" flipV="1" rot="10800000">
            <a:off x="684720" y="952200"/>
            <a:ext cx="3848760" cy="876960"/>
          </a:xfrm>
          <a:prstGeom prst="curvedConnector5">
            <a:avLst>
              <a:gd name="adj1" fmla="val -5930"/>
              <a:gd name="adj2" fmla="val 42546"/>
              <a:gd name="adj3" fmla="val -5930"/>
            </a:avLst>
          </a:prstGeom>
          <a:ln w="57240">
            <a:solidFill>
              <a:srgbClr val="703dff"/>
            </a:solidFill>
            <a:miter/>
          </a:ln>
        </p:spPr>
      </p:cxnSp>
      <p:cxnSp>
        <p:nvCxnSpPr>
          <p:cNvPr id="206" name=""/>
          <p:cNvCxnSpPr/>
          <p:nvPr/>
        </p:nvCxnSpPr>
        <p:spPr>
          <a:xfrm flipH="1">
            <a:off x="4533480" y="952560"/>
            <a:ext cx="3023280" cy="876960"/>
          </a:xfrm>
          <a:prstGeom prst="curvedConnector5">
            <a:avLst>
              <a:gd name="adj1" fmla="val -7562"/>
              <a:gd name="adj2" fmla="val 43901"/>
              <a:gd name="adj3" fmla="val -7562"/>
            </a:avLst>
          </a:prstGeom>
          <a:ln w="57240">
            <a:solidFill>
              <a:srgbClr val="703d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ting Successful TMD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re Art than Scienc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9" name=""/>
          <p:cNvCxnSpPr/>
          <p:nvPr/>
        </p:nvCxnSpPr>
        <p:spPr>
          <a:xfrm flipH="1" flipV="1" rot="10800000">
            <a:off x="684720" y="952200"/>
            <a:ext cx="3848760" cy="876960"/>
          </a:xfrm>
          <a:prstGeom prst="curvedConnector5">
            <a:avLst>
              <a:gd name="adj1" fmla="val -5930"/>
              <a:gd name="adj2" fmla="val 42546"/>
              <a:gd name="adj3" fmla="val -5930"/>
            </a:avLst>
          </a:prstGeom>
          <a:ln w="57240">
            <a:solidFill>
              <a:srgbClr val="703dff"/>
            </a:solidFill>
            <a:miter/>
          </a:ln>
        </p:spPr>
      </p:cxnSp>
      <p:cxnSp>
        <p:nvCxnSpPr>
          <p:cNvPr id="210" name=""/>
          <p:cNvCxnSpPr/>
          <p:nvPr/>
        </p:nvCxnSpPr>
        <p:spPr>
          <a:xfrm flipH="1">
            <a:off x="4533480" y="952560"/>
            <a:ext cx="3023280" cy="876960"/>
          </a:xfrm>
          <a:prstGeom prst="curvedConnector5">
            <a:avLst>
              <a:gd name="adj1" fmla="val -7562"/>
              <a:gd name="adj2" fmla="val 42258"/>
              <a:gd name="adj3" fmla="val -7562"/>
            </a:avLst>
          </a:prstGeom>
          <a:ln w="57240">
            <a:solidFill>
              <a:srgbClr val="703dff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1295280" y="2438280"/>
            <a:ext cx="579132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ika K.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rnes &amp; Thornburg L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North Wacker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ite 4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cago, IL 606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12) 338-59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x (312) 759-56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epowers@btlaw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MDL Highw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2559" r="0" b="42032"/>
          <a:stretch/>
        </p:blipFill>
        <p:spPr>
          <a:xfrm>
            <a:off x="2743200" y="1295280"/>
            <a:ext cx="4038480" cy="4419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590920" y="137160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219320"/>
            <a:ext cx="16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er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y T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94120" y="191124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 WQ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819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ing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3048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L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657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17680" y="404496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e wa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4495680"/>
            <a:ext cx="2757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e Categor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W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5113440"/>
            <a:ext cx="47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elcome to Impaired Wa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3" idx="1"/>
          </p:cNvCxnSpPr>
          <p:nvPr/>
        </p:nvCxnSpPr>
        <p:spPr>
          <a:xfrm flipH="1" flipV="1" rot="10800000">
            <a:off x="685440" y="609120"/>
            <a:ext cx="6477840" cy="534240"/>
          </a:xfrm>
          <a:prstGeom prst="curvedConnector5">
            <a:avLst>
              <a:gd name="adj1" fmla="val -3523"/>
              <a:gd name="adj2" fmla="val 49966"/>
              <a:gd name="adj3" fmla="val -3523"/>
            </a:avLst>
          </a:prstGeom>
          <a:ln w="57240">
            <a:solidFill>
              <a:srgbClr val="703d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MDL Highw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49855" r="0" b="0"/>
          <a:stretch/>
        </p:blipFill>
        <p:spPr>
          <a:xfrm>
            <a:off x="2362320" y="1828800"/>
            <a:ext cx="3806640" cy="3657600"/>
          </a:xfrm>
          <a:prstGeom prst="rect">
            <a:avLst/>
          </a:prstGeom>
          <a:ln w="0">
            <a:noFill/>
          </a:ln>
        </p:spPr>
      </p:pic>
      <p:cxnSp>
        <p:nvCxnSpPr>
          <p:cNvPr id="167" name=""/>
          <p:cNvCxnSpPr/>
          <p:nvPr/>
        </p:nvCxnSpPr>
        <p:spPr>
          <a:xfrm flipH="1" flipV="1" rot="10800000">
            <a:off x="685440" y="761040"/>
            <a:ext cx="6477840" cy="533880"/>
          </a:xfrm>
          <a:prstGeom prst="curvedConnector5">
            <a:avLst>
              <a:gd name="adj1" fmla="val -3523"/>
              <a:gd name="adj2" fmla="val 50000"/>
              <a:gd name="adj3" fmla="val -3523"/>
            </a:avLst>
          </a:prstGeom>
          <a:ln w="57240">
            <a:solidFill>
              <a:srgbClr val="703dff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3910680" y="183528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 Your TM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6320" y="244476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9520" y="25210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0481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Allowabl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e Initial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19560" y="3816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DL Submit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60360" y="41972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A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464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 to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30880" y="5111640"/>
            <a:ext cx="323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cation Revis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tion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5867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M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131800">
            <a:off x="2590560" y="55627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410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ting Successful TMD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t or Scienc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tific approa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at beginning of highw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ed in orderly fash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istic” approa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anyw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kip entire stretches of highw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 creative solu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1" name=""/>
          <p:cNvCxnSpPr>
            <a:stCxn id="179" idx="1"/>
            <a:endCxn id="180" idx="0"/>
          </p:cNvCxnSpPr>
          <p:nvPr/>
        </p:nvCxnSpPr>
        <p:spPr>
          <a:xfrm flipH="1" flipV="1" rot="10800000">
            <a:off x="684720" y="952200"/>
            <a:ext cx="3848760" cy="876960"/>
          </a:xfrm>
          <a:prstGeom prst="curvedConnector5">
            <a:avLst>
              <a:gd name="adj1" fmla="val -5930"/>
              <a:gd name="adj2" fmla="val 40000"/>
              <a:gd name="adj3" fmla="val -5930"/>
            </a:avLst>
          </a:prstGeom>
          <a:ln w="57240">
            <a:solidFill>
              <a:srgbClr val="703dff"/>
            </a:solidFill>
            <a:miter/>
          </a:ln>
        </p:spPr>
      </p:cxnSp>
      <p:cxnSp>
        <p:nvCxnSpPr>
          <p:cNvPr id="182" name=""/>
          <p:cNvCxnSpPr>
            <a:stCxn id="179" idx="3"/>
            <a:endCxn id="180" idx="0"/>
          </p:cNvCxnSpPr>
          <p:nvPr/>
        </p:nvCxnSpPr>
        <p:spPr>
          <a:xfrm flipH="1">
            <a:off x="4533480" y="952560"/>
            <a:ext cx="3023280" cy="876960"/>
          </a:xfrm>
          <a:prstGeom prst="curvedConnector5">
            <a:avLst>
              <a:gd name="adj1" fmla="val -7562"/>
              <a:gd name="adj2" fmla="val 39219"/>
              <a:gd name="adj3" fmla="val -7562"/>
            </a:avLst>
          </a:prstGeom>
          <a:ln w="57240">
            <a:solidFill>
              <a:srgbClr val="703d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ting Successful TMD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AMSA Handboo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ter understand the art and the sc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MDL 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pics specific to POTW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e poin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erence documents in online libr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5" name=""/>
          <p:cNvCxnSpPr/>
          <p:nvPr/>
        </p:nvCxnSpPr>
        <p:spPr>
          <a:xfrm flipH="1" flipV="1" rot="10800000">
            <a:off x="684720" y="952200"/>
            <a:ext cx="3848760" cy="876960"/>
          </a:xfrm>
          <a:prstGeom prst="curvedConnector5">
            <a:avLst>
              <a:gd name="adj1" fmla="val -5930"/>
              <a:gd name="adj2" fmla="val 39219"/>
              <a:gd name="adj3" fmla="val -5930"/>
            </a:avLst>
          </a:prstGeom>
          <a:ln w="57240">
            <a:solidFill>
              <a:srgbClr val="703dff"/>
            </a:solidFill>
            <a:miter/>
          </a:ln>
        </p:spPr>
      </p:cxnSp>
      <p:cxnSp>
        <p:nvCxnSpPr>
          <p:cNvPr id="186" name=""/>
          <p:cNvCxnSpPr/>
          <p:nvPr/>
        </p:nvCxnSpPr>
        <p:spPr>
          <a:xfrm flipH="1">
            <a:off x="4533480" y="952560"/>
            <a:ext cx="3023280" cy="876960"/>
          </a:xfrm>
          <a:prstGeom prst="curvedConnector5">
            <a:avLst>
              <a:gd name="adj1" fmla="val -7562"/>
              <a:gd name="adj2" fmla="val 38932"/>
              <a:gd name="adj3" fmla="val -7562"/>
            </a:avLst>
          </a:prstGeom>
          <a:ln w="57240">
            <a:solidFill>
              <a:srgbClr val="703d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ting Successful TMD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re Sci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attainability analyses (UAA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te-specific crite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develo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ormwater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9" name=""/>
          <p:cNvCxnSpPr/>
          <p:nvPr/>
        </p:nvCxnSpPr>
        <p:spPr>
          <a:xfrm flipH="1" flipV="1" rot="10800000">
            <a:off x="684720" y="952200"/>
            <a:ext cx="3848760" cy="876960"/>
          </a:xfrm>
          <a:prstGeom prst="curvedConnector5">
            <a:avLst>
              <a:gd name="adj1" fmla="val -5930"/>
              <a:gd name="adj2" fmla="val 39219"/>
              <a:gd name="adj3" fmla="val -5930"/>
            </a:avLst>
          </a:prstGeom>
          <a:ln w="57240">
            <a:solidFill>
              <a:srgbClr val="703dff"/>
            </a:solidFill>
            <a:miter/>
          </a:ln>
        </p:spPr>
      </p:cxnSp>
      <p:cxnSp>
        <p:nvCxnSpPr>
          <p:cNvPr id="190" name=""/>
          <p:cNvCxnSpPr/>
          <p:nvPr/>
        </p:nvCxnSpPr>
        <p:spPr>
          <a:xfrm flipH="1">
            <a:off x="4533480" y="952560"/>
            <a:ext cx="3023280" cy="876960"/>
          </a:xfrm>
          <a:prstGeom prst="curvedConnector5">
            <a:avLst>
              <a:gd name="adj1" fmla="val -7562"/>
              <a:gd name="adj2" fmla="val 38932"/>
              <a:gd name="adj3" fmla="val -7562"/>
            </a:avLst>
          </a:prstGeom>
          <a:ln w="57240">
            <a:solidFill>
              <a:srgbClr val="703d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ting Successful TMD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re Sci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rcury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le effluent toxi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trient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ological crite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3" name=""/>
          <p:cNvCxnSpPr/>
          <p:nvPr/>
        </p:nvCxnSpPr>
        <p:spPr>
          <a:xfrm flipH="1" flipV="1" rot="10800000">
            <a:off x="684720" y="952200"/>
            <a:ext cx="3848760" cy="876960"/>
          </a:xfrm>
          <a:prstGeom prst="curvedConnector5">
            <a:avLst>
              <a:gd name="adj1" fmla="val -5930"/>
              <a:gd name="adj2" fmla="val 39219"/>
              <a:gd name="adj3" fmla="val -5930"/>
            </a:avLst>
          </a:prstGeom>
          <a:ln w="57240">
            <a:solidFill>
              <a:srgbClr val="703dff"/>
            </a:solidFill>
            <a:miter/>
          </a:ln>
        </p:spPr>
      </p:cxnSp>
      <p:cxnSp>
        <p:nvCxnSpPr>
          <p:cNvPr id="194" name=""/>
          <p:cNvCxnSpPr/>
          <p:nvPr/>
        </p:nvCxnSpPr>
        <p:spPr>
          <a:xfrm flipH="1">
            <a:off x="4533480" y="952560"/>
            <a:ext cx="3023280" cy="876960"/>
          </a:xfrm>
          <a:prstGeom prst="curvedConnector5">
            <a:avLst>
              <a:gd name="adj1" fmla="val -7562"/>
              <a:gd name="adj2" fmla="val 38932"/>
              <a:gd name="adj3" fmla="val -7562"/>
            </a:avLst>
          </a:prstGeom>
          <a:ln w="57240">
            <a:solidFill>
              <a:srgbClr val="703d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ting Successful TMD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re Ar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ing and delis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ased and adaptive TMD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MDL implemen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7" name=""/>
          <p:cNvCxnSpPr/>
          <p:nvPr/>
        </p:nvCxnSpPr>
        <p:spPr>
          <a:xfrm flipH="1" flipV="1" rot="10800000">
            <a:off x="684720" y="952200"/>
            <a:ext cx="3848760" cy="876960"/>
          </a:xfrm>
          <a:prstGeom prst="curvedConnector5">
            <a:avLst>
              <a:gd name="adj1" fmla="val -5930"/>
              <a:gd name="adj2" fmla="val 39219"/>
              <a:gd name="adj3" fmla="val -5930"/>
            </a:avLst>
          </a:prstGeom>
          <a:ln w="57240">
            <a:solidFill>
              <a:srgbClr val="703dff"/>
            </a:solidFill>
            <a:miter/>
          </a:ln>
        </p:spPr>
      </p:cxnSp>
      <p:cxnSp>
        <p:nvCxnSpPr>
          <p:cNvPr id="198" name=""/>
          <p:cNvCxnSpPr/>
          <p:nvPr/>
        </p:nvCxnSpPr>
        <p:spPr>
          <a:xfrm flipH="1">
            <a:off x="4533480" y="952560"/>
            <a:ext cx="3023280" cy="876960"/>
          </a:xfrm>
          <a:prstGeom prst="curvedConnector5">
            <a:avLst>
              <a:gd name="adj1" fmla="val -7562"/>
              <a:gd name="adj2" fmla="val 38932"/>
              <a:gd name="adj3" fmla="val -7562"/>
            </a:avLst>
          </a:prstGeom>
          <a:ln w="57240">
            <a:solidFill>
              <a:srgbClr val="703d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ting Successful TMDL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t and Sci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itting with a TMD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TMDL (interim) permi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SO iss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llenging your TMD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/>
          <p:nvPr/>
        </p:nvCxnSpPr>
        <p:spPr>
          <a:xfrm flipH="1" flipV="1" rot="10800000">
            <a:off x="684720" y="952200"/>
            <a:ext cx="3848760" cy="876960"/>
          </a:xfrm>
          <a:prstGeom prst="curvedConnector5">
            <a:avLst>
              <a:gd name="adj1" fmla="val -5930"/>
              <a:gd name="adj2" fmla="val 39219"/>
              <a:gd name="adj3" fmla="val -5930"/>
            </a:avLst>
          </a:prstGeom>
          <a:ln w="57240">
            <a:solidFill>
              <a:srgbClr val="703dff"/>
            </a:solidFill>
            <a:miter/>
          </a:ln>
        </p:spPr>
      </p:cxnSp>
      <p:cxnSp>
        <p:nvCxnSpPr>
          <p:cNvPr id="202" name=""/>
          <p:cNvCxnSpPr/>
          <p:nvPr/>
        </p:nvCxnSpPr>
        <p:spPr>
          <a:xfrm flipH="1">
            <a:off x="4533480" y="952560"/>
            <a:ext cx="3023280" cy="876960"/>
          </a:xfrm>
          <a:prstGeom prst="curvedConnector5">
            <a:avLst>
              <a:gd name="adj1" fmla="val -7562"/>
              <a:gd name="adj2" fmla="val 38932"/>
              <a:gd name="adj3" fmla="val -7562"/>
            </a:avLst>
          </a:prstGeom>
          <a:ln w="57240">
            <a:solidFill>
              <a:srgbClr val="703d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6:31:28Z</dcterms:created>
  <dc:creator>Barnes &amp; Thornburg</dc:creator>
  <dc:description/>
  <dc:language>en-US</dc:language>
  <cp:lastModifiedBy>Gunnar Gehrmann</cp:lastModifiedBy>
  <dcterms:modified xsi:type="dcterms:W3CDTF">2004-07-26T17:35:37Z</dcterms:modified>
  <cp:revision>11</cp:revision>
  <dc:subject/>
  <dc:title>Creating Successful TMDLs</dc:title>
</cp:coreProperties>
</file>