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876-F385-4262-9DD9-B5C7FD34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833-CCE1-42EF-8491-831DA949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D44-E0A2-4521-9C42-05698ED7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BBD-CB78-4CCD-A76B-7A4017DC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DE28-5FBF-4E75-9763-A1C52BCC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6100-0C32-4CD5-A19A-9D3805A0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4909-C223-4597-891D-B65502CF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27A4-6F42-4D8D-A604-F8B54FB0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CCC6-C800-4DC5-9D7F-79CAB916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F7D6-442F-471B-99EC-715C952B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972D-8AD3-4AFB-8865-BCC88A47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42D-E552-43C9-BB98-836BF9F2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9C82-2E2E-40D9-89D0-AC67A8CE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DBB8-E356-4CE9-9F17-BE8A3CA2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A89C-3FA6-423D-9F63-AC59636B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8659-92BE-4D83-B8EF-5E0F7447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2DF8-8A2E-4AD9-B7EB-88F558FA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F8C-9B07-4FEC-8629-8282C428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84A-A417-44DA-BBEC-57D3C4FF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62C-08F0-4877-B6C1-DE8C6A7E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47E-1D24-406B-8F97-530A6F1D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412-C561-4A4A-8CE3-524BAC43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E98-CC4E-4769-B610-6D625ABB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B37-857E-49D4-B7AB-D3C03E42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825F-794C-4986-BA1A-B05E609612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2858-ADE5-430F-BA02-F900C815A2B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powers@btlaw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reating Successful TMDLs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ore Art than Science?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4191120"/>
            <a:ext cx="60325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ika  K. P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SA Summer Confer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uly 22, 200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 Art than Scienc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MDLs cannot be created using an entirely scientific appro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and (many) other constra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 dec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book is a handy roadma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the science to…get better science in TMD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the art to draw an alternate route when you need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your own successful TMD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5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42546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206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43901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 Art than Scienc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9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42546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210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42258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295280" y="2438280"/>
            <a:ext cx="579132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ika K.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rnes &amp; Thornburg L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North Wacker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ite 4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cago, IL 606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12) 338-59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x (312) 759-56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epowers@btlaw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MDL Highw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2559" r="0" b="42032"/>
          <a:stretch/>
        </p:blipFill>
        <p:spPr>
          <a:xfrm>
            <a:off x="2743200" y="1295280"/>
            <a:ext cx="4038480" cy="4419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90920" y="13716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219320"/>
            <a:ext cx="16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er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y T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94120" y="191124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WQ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819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ing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3048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L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657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17680" y="404496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w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4495680"/>
            <a:ext cx="2757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e Categor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W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5113440"/>
            <a:ext cx="47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elcome to Impaired Wa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3" idx="1"/>
          </p:cNvCxnSpPr>
          <p:nvPr/>
        </p:nvCxnSpPr>
        <p:spPr>
          <a:xfrm flipH="1" flipV="1" rot="10800000">
            <a:off x="685440" y="609120"/>
            <a:ext cx="6477840" cy="534240"/>
          </a:xfrm>
          <a:prstGeom prst="curvedConnector5">
            <a:avLst>
              <a:gd name="adj1" fmla="val -3523"/>
              <a:gd name="adj2" fmla="val 49966"/>
              <a:gd name="adj3" fmla="val -3523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MDL Highw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49855" r="0" b="0"/>
          <a:stretch/>
        </p:blipFill>
        <p:spPr>
          <a:xfrm>
            <a:off x="2362320" y="1828800"/>
            <a:ext cx="3806640" cy="3657600"/>
          </a:xfrm>
          <a:prstGeom prst="rect">
            <a:avLst/>
          </a:prstGeom>
          <a:ln w="0">
            <a:noFill/>
          </a:ln>
        </p:spPr>
      </p:pic>
      <p:cxnSp>
        <p:nvCxnSpPr>
          <p:cNvPr id="167" name=""/>
          <p:cNvCxnSpPr/>
          <p:nvPr/>
        </p:nvCxnSpPr>
        <p:spPr>
          <a:xfrm flipH="1" flipV="1" rot="10800000">
            <a:off x="685440" y="761040"/>
            <a:ext cx="6477840" cy="533880"/>
          </a:xfrm>
          <a:prstGeom prst="curvedConnector5">
            <a:avLst>
              <a:gd name="adj1" fmla="val -3523"/>
              <a:gd name="adj2" fmla="val 50000"/>
              <a:gd name="adj3" fmla="val -3523"/>
            </a:avLst>
          </a:prstGeom>
          <a:ln w="57240">
            <a:solidFill>
              <a:srgbClr val="703dff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3910680" y="183528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 Your TM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6320" y="244476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9520" y="25210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0481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Allowabl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Initial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19560" y="3816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DL Submit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0360" y="41972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30880" y="5111640"/>
            <a:ext cx="323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cation Revis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M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131800">
            <a:off x="2590560" y="55627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410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t or Scienc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fic appro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at beginning of high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ed in orderly fash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istic” appro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anyw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kip entire stretches of high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 creative solu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79" idx="1"/>
            <a:endCxn id="180" idx="0"/>
          </p:cNvCxnSpPr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40000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182" name=""/>
          <p:cNvCxnSpPr>
            <a:stCxn id="179" idx="3"/>
            <a:endCxn id="180" idx="0"/>
          </p:cNvCxnSpPr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39219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AMSA Handboo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ter understand the art and the 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MDL 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ics specific to POTW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 poin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erence documents in online libr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39219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186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38932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 Sci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attainability analyses (UAA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te-specific crite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ormwater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9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39219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190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38932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 Sci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rcury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le effluent tox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trient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logical crite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3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39219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194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38932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 Ar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ing and delis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ased and adaptive TMD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MDL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39219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198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38932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t and Sci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ting with a TMD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TMDL (interim) permi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SO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llenging your TMD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39219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202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38932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6:31:28Z</dcterms:created>
  <dc:creator>Barnes &amp; Thornburg</dc:creator>
  <dc:description/>
  <dc:language>en-US</dc:language>
  <cp:lastModifiedBy>Gunnar Gehrmann</cp:lastModifiedBy>
  <dcterms:modified xsi:type="dcterms:W3CDTF">2004-07-26T17:35:37Z</dcterms:modified>
  <cp:revision>11</cp:revision>
  <dc:subject/>
  <dc:title>Creating Successful TMDLs</dc:title>
</cp:coreProperties>
</file>