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359-ABEB-43A5-963C-FA8A7C58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210200"/>
            <a:ext cx="81532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FAB-E0F2-4D66-BFE1-7AB8964D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888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299-4616-40F5-85E2-1D0BAB84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7600" y="198108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04120" y="198108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21020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7600" y="421020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04120" y="4210200"/>
            <a:ext cx="262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49D-F752-43B8-B38B-DEA3AA4D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8D2-059E-45AD-A8E1-52FCD0D9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28D-4713-4C9D-BFF7-2EADDE8B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EB2-F28C-41A9-ABBB-0D524B1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956-6337-4C3B-AA40-F72A3A89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76320"/>
            <a:ext cx="7696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CD8-800D-469B-AEBB-077AF96B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8EA-49A3-472E-B287-07E2637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8880" y="421020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C2F-C360-4CB2-AE3A-DCBF244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8880" y="1981080"/>
            <a:ext cx="3978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210200"/>
            <a:ext cx="81532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636-0AEE-473C-A18E-F5C16DB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DB72-4906-4796-87C3-C6C112F76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371600" y="1066680"/>
            <a:ext cx="7772400" cy="0"/>
          </a:xfrm>
          <a:prstGeom prst="line">
            <a:avLst/>
          </a:prstGeom>
          <a:ln w="9360">
            <a:solidFill>
              <a:srgbClr val="ffb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p.ucf.edu/images/ucf/midpegasus.gif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Regulatory Issues</a:t>
            </a:r>
            <a:br>
              <a:rPr sz="3600"/>
            </a:b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Reuse in Orlando,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pic>
        <p:nvPicPr>
          <p:cNvPr id="43" name="City%20seal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76520" cy="16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733920" y="5410080"/>
          <a:ext cx="1752480" cy="88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410080"/>
                    <a:ext cx="1752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Iron Bridge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Re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project in study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laimed water to be utilized in areas where greatest water supply benefit will be ach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rot="21000000">
            <a:off x="-41040" y="2060280"/>
            <a:ext cx="94568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11400" spc="-1" strike="noStrike">
                <a:solidFill>
                  <a:srgbClr val="f063e4"/>
                </a:solidFill>
                <a:latin typeface="Brush Script MT"/>
              </a:rPr>
              <a:t>Use it Again, Florida!</a:t>
            </a:r>
            <a:endParaRPr b="0" lang="en-US" sz="1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Drivers for Reuse In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isposal 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0’s/1980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ent standards set for surface wa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grant funding available for innovative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St. Petersburg reus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laimed water given away/over-use en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’s – state established Reuse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ly established requirements for reuse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lined permitting for urban reuse systems and reuse systems with many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Drivers for Reuse In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it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e requirements coupled with water supply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supply shortages projected in much of th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Drivers for Reuse In Florida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Supply 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’s and Bey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laimed water being utilized as a means to meet water supply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rvation of reclaimed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tion as a valuable re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About Orlando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0’s – Disney comes to Orl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Water Reclamation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Bri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Conserv I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ly to be direct ground water recharge via injection w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op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ed with rapid infiltration ba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ion wells now being re-eval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Conserv II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with Orange Cou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rus irrigation/ground water re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year contracts with Citrus gr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at no cost, unlimited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s being re-evalu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esidential/landscape irr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grove" descr=""/>
          <p:cNvPicPr/>
          <p:nvPr/>
        </p:nvPicPr>
        <p:blipFill>
          <a:blip r:embed="rId2"/>
          <a:stretch/>
        </p:blipFill>
        <p:spPr>
          <a:xfrm>
            <a:off x="6477120" y="5313240"/>
            <a:ext cx="22478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Iron Bridge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lando Easterly Wet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enh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s will decrease as other reuse programs are imple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Milton-wetlands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2000" y="3733920"/>
            <a:ext cx="441972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f00"/>
                </a:solidFill>
                <a:latin typeface="Arial"/>
              </a:rPr>
              <a:t>Iron Bridge</a:t>
            </a:r>
            <a:endParaRPr b="0" lang="en-US" sz="3600" spc="-1" strike="noStrike">
              <a:solidFill>
                <a:srgbClr val="ffb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n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project under desig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Central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utilities - urban landscape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7800" y="4419720"/>
            <a:ext cx="1679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3:41:50Z</dcterms:created>
  <dc:creator>PBS&amp;J</dc:creator>
  <dc:description/>
  <dc:language>en-US</dc:language>
  <cp:lastModifiedBy>PBS&amp;J</cp:lastModifiedBy>
  <dcterms:modified xsi:type="dcterms:W3CDTF">2004-07-21T16:19:07Z</dcterms:modified>
  <cp:revision>4</cp:revision>
  <dc:subject/>
  <dc:title>Reuse in Orlando</dc:title>
</cp:coreProperties>
</file>