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D30-6FBB-4F13-96BD-D64F63E4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022-E4F6-4BA1-B06F-6E168DFD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11B-5876-4F57-BBF7-E063AA66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740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9810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740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41306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32A-AFC7-4318-9937-F278B14A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192-95A5-44A9-9414-D011110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7F1-AB4C-4C42-918B-95889204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BCE-E2A1-498A-808C-C7EE327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5C2-7871-4496-8AE0-A355BAD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43F-3BCC-453B-97A5-5B4696CE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394-A70E-4AEF-BA6C-AB56B9A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2560" y="41306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EC9-39EA-43C5-AC6A-F4E1818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2560" y="19810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BD3-26A5-437C-B882-046F6DA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19320" y="1828800"/>
            <a:ext cx="8153280" cy="51814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3533-516E-43CD-88BE-DC89BCF30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ater Quality Standards and the Use Impass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2004 AMSA Summer Conferenc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lesiosaur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Getting on the same pag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Dry Gulch WWTP Nitrogen Removal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343400" y="2413080"/>
          <a:ext cx="4572000" cy="4064040"/>
        </p:xfrm>
        <a:graphic>
          <a:graphicData uri="http://schemas.openxmlformats.org/drawingml/2006/table">
            <a:tbl>
              <a:tblPr/>
              <a:tblGrid>
                <a:gridCol w="3276360"/>
                <a:gridCol w="1295640"/>
              </a:tblGrid>
              <a:tr h="812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lemental Stud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pert Pan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tershed stu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700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.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066680" y="2514600"/>
            <a:ext cx="3353040" cy="4056120"/>
            <a:chOff x="1066680" y="2514600"/>
            <a:chExt cx="3353040" cy="4056120"/>
          </a:xfrm>
        </p:grpSpPr>
        <p:sp>
          <p:nvSpPr>
            <p:cNvPr id="51" name=""/>
            <p:cNvSpPr/>
            <p:nvPr/>
          </p:nvSpPr>
          <p:spPr>
            <a:xfrm>
              <a:off x="1066680" y="5867280"/>
              <a:ext cx="335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$265 Million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bonds" descr=""/>
            <p:cNvPicPr/>
            <p:nvPr/>
          </p:nvPicPr>
          <p:blipFill>
            <a:blip r:embed="rId1"/>
            <a:stretch/>
          </p:blipFill>
          <p:spPr>
            <a:xfrm>
              <a:off x="1523880" y="2514600"/>
              <a:ext cx="252576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523880" y="5257800"/>
            <a:ext cx="2514600" cy="520560"/>
          </a:xfrm>
          <a:prstGeom prst="rect">
            <a:avLst/>
          </a:prstGeom>
          <a:solidFill>
            <a:srgbClr val="fc7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the N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in_photo2" descr=""/>
          <p:cNvPicPr/>
          <p:nvPr/>
        </p:nvPicPr>
        <p:blipFill>
          <a:blip r:embed="rId1"/>
          <a:stretch/>
        </p:blipFill>
        <p:spPr>
          <a:xfrm>
            <a:off x="-685800" y="0"/>
            <a:ext cx="106678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3809880"/>
            <a:ext cx="57150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914400"/>
            <a:ext cx="533520" cy="289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295280"/>
            <a:ext cx="17524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10666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8195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295280"/>
            <a:ext cx="75960" cy="175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1066680"/>
            <a:ext cx="533160" cy="53352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1430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71680" y="126684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4038480"/>
            <a:ext cx="152280" cy="2057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inking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5715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-Smell-Em Cr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572000"/>
            <a:ext cx="1447920" cy="11430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W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mages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838080" cy="139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2743200" y="4342680"/>
            <a:ext cx="2209680" cy="228600"/>
          </a:xfrm>
          <a:custGeom>
            <a:avLst/>
            <a:gdLst>
              <a:gd name="textAreaLeft" fmla="*/ 486000 w 2209680"/>
              <a:gd name="textAreaRight" fmla="*/ 1723680 w 220968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s" descr=""/>
          <p:cNvPicPr/>
          <p:nvPr/>
        </p:nvPicPr>
        <p:blipFill>
          <a:blip r:embed="rId3"/>
          <a:srcRect l="13742" t="0" r="58797" b="22231"/>
          <a:stretch/>
        </p:blipFill>
        <p:spPr>
          <a:xfrm>
            <a:off x="91440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3" name="images" descr=""/>
          <p:cNvPicPr/>
          <p:nvPr/>
        </p:nvPicPr>
        <p:blipFill>
          <a:blip r:embed="rId4"/>
          <a:srcRect l="13742" t="0" r="58797" b="22231"/>
          <a:stretch/>
        </p:blipFill>
        <p:spPr>
          <a:xfrm>
            <a:off x="144792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images" descr=""/>
          <p:cNvPicPr/>
          <p:nvPr/>
        </p:nvPicPr>
        <p:blipFill>
          <a:blip r:embed="rId5"/>
          <a:srcRect l="13742" t="27795" r="58797" b="22231"/>
          <a:stretch/>
        </p:blipFill>
        <p:spPr>
          <a:xfrm>
            <a:off x="91440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images" descr=""/>
          <p:cNvPicPr/>
          <p:nvPr/>
        </p:nvPicPr>
        <p:blipFill>
          <a:blip r:embed="rId6"/>
          <a:srcRect l="13742" t="27795" r="58797" b="22231"/>
          <a:stretch/>
        </p:blipFill>
        <p:spPr>
          <a:xfrm>
            <a:off x="144792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images" descr=""/>
          <p:cNvPicPr/>
          <p:nvPr/>
        </p:nvPicPr>
        <p:blipFill>
          <a:blip r:embed="rId7"/>
          <a:srcRect l="13742" t="27795" r="58797" b="22231"/>
          <a:stretch/>
        </p:blipFill>
        <p:spPr>
          <a:xfrm>
            <a:off x="2286000" y="411480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images" descr=""/>
          <p:cNvPicPr/>
          <p:nvPr/>
        </p:nvPicPr>
        <p:blipFill>
          <a:blip r:embed="rId8"/>
          <a:srcRect l="13742" t="0" r="58797" b="22231"/>
          <a:stretch/>
        </p:blipFill>
        <p:spPr>
          <a:xfrm>
            <a:off x="1981080" y="2743200"/>
            <a:ext cx="4572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images" descr=""/>
          <p:cNvPicPr/>
          <p:nvPr/>
        </p:nvPicPr>
        <p:blipFill>
          <a:blip r:embed="rId9"/>
          <a:srcRect l="13742" t="0" r="58797" b="22231"/>
          <a:stretch/>
        </p:blipFill>
        <p:spPr>
          <a:xfrm>
            <a:off x="2514600" y="2743200"/>
            <a:ext cx="4572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43200" y="3581280"/>
            <a:ext cx="2209680" cy="228600"/>
          </a:xfrm>
          <a:custGeom>
            <a:avLst/>
            <a:gdLst>
              <a:gd name="textAreaLeft" fmla="*/ 486000 w 2209680"/>
              <a:gd name="textAreaRight" fmla="*/ 1723680 w 2209680"/>
              <a:gd name="textAreaTop" fmla="*/ 50040 h 228600"/>
              <a:gd name="textAreaBottom" fmla="*/ 178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rustration rising…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Ugly Details of a UA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ive Basic Steps to a UAA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1. Is the Use Existing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2. Is the Use specified in Section 101(a)(2)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3. Is the Use attainabl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4. Is a Factor from 131.10(g) me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ep 5. Provide Public Noti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6004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PA Water Quality Standards Handbook: Second Edition, Chapter 2.7 (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Factors from 131.10(g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urally occurring pollutant concentr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ural, ephemeral, intermittent or low flow conditions (unless compensated with effluen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uman-caused conditions/sources prevent attainment; removing would cause more dama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Dams, diversions, or other hydrological modification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hysical conditions unrelated to water qu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Substantial and widespread economic and social impa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20:17:01Z</dcterms:created>
  <dc:creator>Adrienne Nemura</dc:creator>
  <dc:description/>
  <dc:language>en-US</dc:language>
  <cp:lastModifiedBy>Adrienne Nemura</cp:lastModifiedBy>
  <dcterms:modified xsi:type="dcterms:W3CDTF">2004-07-20T01:02:16Z</dcterms:modified>
  <cp:revision>15</cp:revision>
  <dc:subject/>
  <dc:title>PowerPoint Presentation</dc:title>
</cp:coreProperties>
</file>