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0048-1331-4CDE-AC8A-512C7E2E3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CF84-EF38-40EA-B639-4DB732F7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02560" y="19810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02560" y="41306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3A6F-7A38-43B2-BAD1-5DEEC1F25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67400" y="19810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3560" y="19810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67400" y="41306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3560" y="41306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0D8C-8DF4-4DD0-B7CD-4B119768E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AFB0-4382-4D64-94C8-C0337234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C798-6C59-4A46-8C44-241463FF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02560" y="19810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5E14-379C-46FF-86D0-00DE0B22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287B-C52D-494E-9288-2590BFE5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E1FA-AD09-4B96-B769-48A3D4FB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02560" y="19810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1A12-C40C-4A4A-A0FE-2C18229E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02560" y="19810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02560" y="41306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319E-A899-4467-966B-4E224A39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02560" y="19810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C912-BDD8-4551-A451-4B173BA8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72600" cy="68756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219320" y="1828800"/>
            <a:ext cx="8153280" cy="5181480"/>
          </a:xfrm>
          <a:prstGeom prst="rect">
            <a:avLst/>
          </a:pr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447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885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8D26-F75E-4FCF-BC2A-F130AA1F8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75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Water Quality Standards and the Use Impasse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2004 AMSA Summer Conference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lesiosaur2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Getting on the same page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Dry Gulch WWTP Nitrogen Removal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343400" y="2413080"/>
          <a:ext cx="4572000" cy="4064040"/>
        </p:xfrm>
        <a:graphic>
          <a:graphicData uri="http://schemas.openxmlformats.org/drawingml/2006/table">
            <a:tbl>
              <a:tblPr/>
              <a:tblGrid>
                <a:gridCol w="3276360"/>
                <a:gridCol w="1295640"/>
              </a:tblGrid>
              <a:tr h="8125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upplemental Stu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xpert Pan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$200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ioavailabi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$100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tershed stu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$700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$1.0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grpSp>
        <p:nvGrpSpPr>
          <p:cNvPr id="50" name=""/>
          <p:cNvGrpSpPr/>
          <p:nvPr/>
        </p:nvGrpSpPr>
        <p:grpSpPr>
          <a:xfrm>
            <a:off x="1066680" y="2514600"/>
            <a:ext cx="3353040" cy="4056120"/>
            <a:chOff x="1066680" y="2514600"/>
            <a:chExt cx="3353040" cy="4056120"/>
          </a:xfrm>
        </p:grpSpPr>
        <p:sp>
          <p:nvSpPr>
            <p:cNvPr id="51" name=""/>
            <p:cNvSpPr/>
            <p:nvPr/>
          </p:nvSpPr>
          <p:spPr>
            <a:xfrm>
              <a:off x="1066680" y="5867280"/>
              <a:ext cx="3353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$265 Million!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" name="bonds" descr=""/>
            <p:cNvPicPr/>
            <p:nvPr/>
          </p:nvPicPr>
          <p:blipFill>
            <a:blip r:embed="rId1"/>
            <a:stretch/>
          </p:blipFill>
          <p:spPr>
            <a:xfrm>
              <a:off x="1523880" y="2514600"/>
              <a:ext cx="252576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"/>
          <p:cNvSpPr/>
          <p:nvPr/>
        </p:nvSpPr>
        <p:spPr>
          <a:xfrm>
            <a:off x="1523880" y="5257800"/>
            <a:ext cx="2514600" cy="520560"/>
          </a:xfrm>
          <a:prstGeom prst="rect">
            <a:avLst/>
          </a:prstGeom>
          <a:solidFill>
            <a:srgbClr val="fc7a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t the N Ou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main_photo2" descr=""/>
          <p:cNvPicPr/>
          <p:nvPr/>
        </p:nvPicPr>
        <p:blipFill>
          <a:blip r:embed="rId1"/>
          <a:stretch/>
        </p:blipFill>
        <p:spPr>
          <a:xfrm>
            <a:off x="-685800" y="0"/>
            <a:ext cx="10667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14400" y="3809880"/>
            <a:ext cx="5715000" cy="533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5880" y="914400"/>
            <a:ext cx="533520" cy="289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29400" y="1295280"/>
            <a:ext cx="1752480" cy="76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29400" y="2971800"/>
            <a:ext cx="1066680" cy="76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281952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9152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C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0120" y="1295280"/>
            <a:ext cx="75960" cy="1752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91520" y="1066680"/>
            <a:ext cx="533160" cy="53352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924680" y="114300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871680" y="1266840"/>
            <a:ext cx="533160" cy="152280"/>
          </a:xfrm>
          <a:prstGeom prst="rightArrow">
            <a:avLst>
              <a:gd name="adj1" fmla="val 50000"/>
              <a:gd name="adj2" fmla="val 8753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57400" y="4038480"/>
            <a:ext cx="152280" cy="2057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0400" y="3809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inking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57150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U-Smell-Em Cre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0" y="4572000"/>
            <a:ext cx="1447920" cy="11430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5029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W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images" descr=""/>
          <p:cNvPicPr/>
          <p:nvPr/>
        </p:nvPicPr>
        <p:blipFill>
          <a:blip r:embed="rId1"/>
          <a:stretch/>
        </p:blipFill>
        <p:spPr>
          <a:xfrm>
            <a:off x="5943600" y="1447920"/>
            <a:ext cx="838080" cy="1396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V="1">
            <a:off x="2743200" y="4342680"/>
            <a:ext cx="2209680" cy="228600"/>
          </a:xfrm>
          <a:custGeom>
            <a:avLst/>
            <a:gdLst>
              <a:gd name="textAreaLeft" fmla="*/ 486000 w 2209680"/>
              <a:gd name="textAreaRight" fmla="*/ 1723680 w 2209680"/>
              <a:gd name="textAreaTop" fmla="*/ 50040 h 228600"/>
              <a:gd name="textAreaBottom" fmla="*/ 178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images" descr=""/>
          <p:cNvPicPr/>
          <p:nvPr/>
        </p:nvPicPr>
        <p:blipFill>
          <a:blip r:embed="rId3"/>
          <a:srcRect l="13742" t="0" r="58797" b="22231"/>
          <a:stretch/>
        </p:blipFill>
        <p:spPr>
          <a:xfrm>
            <a:off x="914400" y="2743200"/>
            <a:ext cx="457200" cy="1066680"/>
          </a:xfrm>
          <a:prstGeom prst="rect">
            <a:avLst/>
          </a:prstGeom>
          <a:ln w="0">
            <a:noFill/>
          </a:ln>
        </p:spPr>
      </p:pic>
      <p:pic>
        <p:nvPicPr>
          <p:cNvPr id="73" name="images" descr=""/>
          <p:cNvPicPr/>
          <p:nvPr/>
        </p:nvPicPr>
        <p:blipFill>
          <a:blip r:embed="rId4"/>
          <a:srcRect l="13742" t="0" r="58797" b="22231"/>
          <a:stretch/>
        </p:blipFill>
        <p:spPr>
          <a:xfrm>
            <a:off x="1447920" y="2743200"/>
            <a:ext cx="457200" cy="1066680"/>
          </a:xfrm>
          <a:prstGeom prst="rect">
            <a:avLst/>
          </a:prstGeom>
          <a:ln w="0">
            <a:noFill/>
          </a:ln>
        </p:spPr>
      </p:pic>
      <p:pic>
        <p:nvPicPr>
          <p:cNvPr id="74" name="images" descr=""/>
          <p:cNvPicPr/>
          <p:nvPr/>
        </p:nvPicPr>
        <p:blipFill>
          <a:blip r:embed="rId5"/>
          <a:srcRect l="13742" t="27795" r="58797" b="22231"/>
          <a:stretch/>
        </p:blipFill>
        <p:spPr>
          <a:xfrm>
            <a:off x="914400" y="4114800"/>
            <a:ext cx="457200" cy="685800"/>
          </a:xfrm>
          <a:prstGeom prst="rect">
            <a:avLst/>
          </a:prstGeom>
          <a:ln w="0">
            <a:noFill/>
          </a:ln>
        </p:spPr>
      </p:pic>
      <p:pic>
        <p:nvPicPr>
          <p:cNvPr id="75" name="images" descr=""/>
          <p:cNvPicPr/>
          <p:nvPr/>
        </p:nvPicPr>
        <p:blipFill>
          <a:blip r:embed="rId6"/>
          <a:srcRect l="13742" t="27795" r="58797" b="22231"/>
          <a:stretch/>
        </p:blipFill>
        <p:spPr>
          <a:xfrm>
            <a:off x="1447920" y="4114800"/>
            <a:ext cx="457200" cy="685800"/>
          </a:xfrm>
          <a:prstGeom prst="rect">
            <a:avLst/>
          </a:prstGeom>
          <a:ln w="0">
            <a:noFill/>
          </a:ln>
        </p:spPr>
      </p:pic>
      <p:pic>
        <p:nvPicPr>
          <p:cNvPr id="76" name="images" descr=""/>
          <p:cNvPicPr/>
          <p:nvPr/>
        </p:nvPicPr>
        <p:blipFill>
          <a:blip r:embed="rId7"/>
          <a:srcRect l="13742" t="27795" r="58797" b="22231"/>
          <a:stretch/>
        </p:blipFill>
        <p:spPr>
          <a:xfrm>
            <a:off x="2286000" y="4114800"/>
            <a:ext cx="457200" cy="685800"/>
          </a:xfrm>
          <a:prstGeom prst="rect">
            <a:avLst/>
          </a:prstGeom>
          <a:ln w="0">
            <a:noFill/>
          </a:ln>
        </p:spPr>
      </p:pic>
      <p:pic>
        <p:nvPicPr>
          <p:cNvPr id="77" name="images" descr=""/>
          <p:cNvPicPr/>
          <p:nvPr/>
        </p:nvPicPr>
        <p:blipFill>
          <a:blip r:embed="rId8"/>
          <a:srcRect l="13742" t="0" r="58797" b="22231"/>
          <a:stretch/>
        </p:blipFill>
        <p:spPr>
          <a:xfrm>
            <a:off x="1981080" y="2743200"/>
            <a:ext cx="457200" cy="1066680"/>
          </a:xfrm>
          <a:prstGeom prst="rect">
            <a:avLst/>
          </a:prstGeom>
          <a:ln w="0">
            <a:noFill/>
          </a:ln>
        </p:spPr>
      </p:pic>
      <p:pic>
        <p:nvPicPr>
          <p:cNvPr id="78" name="images" descr=""/>
          <p:cNvPicPr/>
          <p:nvPr/>
        </p:nvPicPr>
        <p:blipFill>
          <a:blip r:embed="rId9"/>
          <a:srcRect l="13742" t="0" r="58797" b="22231"/>
          <a:stretch/>
        </p:blipFill>
        <p:spPr>
          <a:xfrm>
            <a:off x="2514600" y="2743200"/>
            <a:ext cx="457200" cy="1066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743200" y="3581280"/>
            <a:ext cx="2209680" cy="228600"/>
          </a:xfrm>
          <a:custGeom>
            <a:avLst/>
            <a:gdLst>
              <a:gd name="textAreaLeft" fmla="*/ 486000 w 2209680"/>
              <a:gd name="textAreaRight" fmla="*/ 1723680 w 2209680"/>
              <a:gd name="textAreaTop" fmla="*/ 50040 h 228600"/>
              <a:gd name="textAreaBottom" fmla="*/ 178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Frustration rising…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The Ugly Details of a UAA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Five Basic Steps to a UAA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tep 1. Is the Use Existing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tep 2. Is the Use specified in Section 101(a)(2)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tep 3. Is the Use attainable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tep 4. Is a Factor from 131.10(g) met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tep 5. Provide Public Notic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"/>
          <p:cNvSpPr/>
          <p:nvPr/>
        </p:nvSpPr>
        <p:spPr>
          <a:xfrm>
            <a:off x="1752480" y="600408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PA Water Quality Standards Handbook: Second Edition, Chapter 2.7 (199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Factors from 131.10(g)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52120" y="23623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aturally occurring pollutant concentrat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atural, ephemeral, intermittent or low flow conditions (unless compensated with effluent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uman-caused conditions/sources prevent attainment; removing would cause more damag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Dams, diversions, or other hydrological modification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hysical conditions unrelated to water qualit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Substantial and widespread economic and social impac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20:17:01Z</dcterms:created>
  <dc:creator>Adrienne Nemura</dc:creator>
  <dc:description/>
  <dc:language>en-US</dc:language>
  <cp:lastModifiedBy>Adrienne Nemura</cp:lastModifiedBy>
  <dcterms:modified xsi:type="dcterms:W3CDTF">2004-07-20T01:02:16Z</dcterms:modified>
  <cp:revision>15</cp:revision>
  <dc:subject/>
  <dc:title>PowerPoint Presentation</dc:title>
</cp:coreProperties>
</file>