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6154-9617-4705-84FB-BA04EA2C9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4F4B-9125-471E-A463-875060EF9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09B5-07D5-4D02-AF48-DA9B73D45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71E7-2BD7-4D5E-9454-7D7C30CC9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8B5D-EDA9-428F-AC96-9EE7516754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BB2F-03E9-4142-93EF-A98E05091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D8A2-EFDF-4196-BDE1-93FB2DFD88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7BEF-1C37-40D8-8204-D748A4D7E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B9B8-1161-425D-AEF4-4B005EA59F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826E-59A2-4F7A-9499-3BD3C8847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676-A368-4129-ACF1-BF607B73F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5C6C-FA15-4824-88C5-9A6BC0CF0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5038-FEAF-47B6-80D3-B3EC3BBBA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EE18-DE44-4425-A4C4-C9D3AA787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CE67-0A54-42FA-814F-1CAF97CE2D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0FCC-AC42-45AC-BC11-1FA7979152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38BB-5867-483E-8E6E-081052AA7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42AD-9157-4A1A-B70A-21A8D4737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8534-5C06-4227-B272-68BF6988D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F2AD-64ED-42C9-9276-F8C109182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8AB5-D5C6-4EAC-8737-F5E0EB346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5672-B4D3-43DE-B29E-431BD5475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9B56-D123-4B79-992A-3799F53D4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F3C1-B407-4DEA-810A-56D32E71C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2CB4-200D-4AF8-8C3D-28BE0827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360520"/>
            <a:ext cx="84582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i="1" lang="en-US" sz="7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EFE6-3FF8-423F-874A-017538D3F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160"/>
            <a:ext cx="82296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Into the Watershed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Wilmington Links its CSO Program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to UAAs and TMDLs in the Christina Basin </a:t>
            </a:r>
            <a:endParaRPr b="1" i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800600"/>
            <a:ext cx="830592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ading the Way - POTWs Take Environmental Protection Beyond the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Summer Conference - July 20-23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Wilmington Department of Public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ley and Hansen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04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2E49-21E9-4481-8383-6FD916092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ng UAA with TM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, analyses common to UAA and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- UAA, revise WQS, do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nsitive option - phased TMDL implementation, complete UAA, WQS revision and non-point BMP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DD76-4F9A-4DED-A9B5-426A04C475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r Advisory Group - establish watershe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people want to spend thei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CSOs in perspective with other watersh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20E6-7285-4C2F-98C1-8E26A1EFC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Stakeholders Onboar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ot Just “A CSO Thing”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39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QS for Enterococcus - 100 geometric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74 -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580 -19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non-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55 - 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400 -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060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2CA4-18BE-47F0-9A41-B5FD5692F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ew Castle County and DelDO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tormwater NPDES’s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will treat New Castle County as one big point sour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PA Region 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TMDL load reductions in urban stormw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peper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fax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ington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urban Bo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% - 99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7643-A951-46CA-A0DB-1A8EB3004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the State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river and stream miles don’t support primary contac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oing TM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water NPDE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REC looking for model to apply to other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1981080"/>
            <a:ext cx="4876560" cy="4191120"/>
            <a:chOff x="152280" y="1981080"/>
            <a:chExt cx="4876560" cy="419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0" t="12458" r="2200" b="7266"/>
            <a:stretch/>
          </p:blipFill>
          <p:spPr>
            <a:xfrm>
              <a:off x="595800" y="1981080"/>
              <a:ext cx="44330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2280" y="5587560"/>
              <a:ext cx="1507680" cy="57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3A70-9E60-4AE3-8004-E6379457AA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EPA Region 3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-wi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ources - multipl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, agriculture, suburban/urban storm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cteria, nutrients, sediment,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upport key leg of CSO Policy - WQS reviews and LTC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 for UAA leads to better TMDL and leverage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2168-0323-4933-A179-6DA99ECC6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tatu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04 - Coordination team commitment and cost shar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ssessment and gap analysis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e Stakeholder Advisory Group during summ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BE06-60B1-4FF9-9E98-682221971D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hristina River Basin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3 m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, DE and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watershed - agriculture, rural, suburban, 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impairment - TMDLs for nutrients,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rograms - CSO, urban storm water, agricultural BMPs, stream rest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atershed-map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0AE6-75D7-4D81-927F-12F40675D7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, Delawar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residents - largest city in Delaware and the Christina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700 acres, 40 ou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NM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TP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ing 75%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of the diverse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atershed-map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5776-2605-4F0A-88D8-4CC051CBD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Framework for Wilmington’s CSO Long Term Control Plan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O Task Force, a statewide stakeholder group, recommends an LTCP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priority 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es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upstream pollu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1263-23EE-4198-B79A-196F0D1D6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volution of CSO Planning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lanning focused on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WQS had wet weather exclusion for primary contac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lanning addresses wa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sion removed wet weathe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low” TMDL for bacteria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ington saw opportunity for coordinating and directing efforts at watershed priorities and meaningfu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65E0-AB38-4E26-B57B-AB118D741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 LTCP Links CSOs to UAA and TMDL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CSO controls for 85% cap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urrent UAA and WQ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she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onal CSO controls, wet weather  projects based on outcome of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BF6E-F2B4-4327-BBF5-A8E9ECCA2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rdin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epartment of Natural Resources and Environmental Control (DN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Reg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astle County,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Wilm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50DF-7934-4FDB-AA1F-0AF4CB6AE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:  Framework for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attainabl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water qualit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stakehold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AE6B-D235-4786-A646-596E93E03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eeds,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conditions, sources an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attainment of designated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preventing at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4FDA-26F2-48AD-A8C5-3DC02AE55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3:36:41Z</dcterms:created>
  <dc:creator>mpaist</dc:creator>
  <dc:description/>
  <dc:language>en-US</dc:language>
  <cp:lastModifiedBy>Tom Kochaba</cp:lastModifiedBy>
  <cp:lastPrinted>2004-07-02T19:11:07Z</cp:lastPrinted>
  <dcterms:modified xsi:type="dcterms:W3CDTF">2004-07-02T19:12:12Z</dcterms:modified>
  <cp:revision>270</cp:revision>
  <dc:subject/>
  <dc:title>City of Wilmington Department of Public Works</dc:title>
</cp:coreProperties>
</file>