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CA0D-6941-4778-911C-A1116D5D0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9B06-A734-43FF-A1B8-8CE71165F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A433-6B3C-40F6-95F3-B491409CC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CA8C-5BD6-4B27-BF0F-D21317BB1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8A08-AC1B-41F4-8EFE-908415201E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C2DC-4AF1-4F07-8C4D-6EE5AEA5AA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BA89-4AAC-43D2-A514-E41647113C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086B0-460F-4416-9C06-B9259FDBD7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C2C9-97F5-4A1C-B45A-9CD52247DB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057400" y="763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AF07B-E790-4F05-8211-1ADF41513A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6399-C30A-4358-874B-BA4E0F10F5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F521-A1DE-48B9-BDF7-824F1892A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E607-2ED9-410A-B308-67808A0D4C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DF36-5017-4000-8830-667F44918E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1E21-7D33-48F9-9BD0-5129003A87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D252-15C6-4CC7-80D5-002BB48F44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8B23-F71F-46E9-8701-A5EF77C85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F9DE-081B-4FDF-8C96-10DAD70BD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04B5-7993-4DD5-B5CD-0D5983ACB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B9B7-BD68-4E52-A5A2-616B8F5FE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57400" y="763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0440-BE10-411F-8B36-6E21CF790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2695-03BD-4993-AFAF-AAFC4C7AB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86A5-EAB7-4BB1-8918-150A5D00A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540B-BF86-4623-94D4-F4038CBD3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DFF8-439E-4F9A-AB2D-E2AF80BBE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360520"/>
            <a:ext cx="8458200" cy="18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i="1" lang="en-US" sz="7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C971-60F4-40AA-AABA-E91B6C3BC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24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24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666160"/>
            <a:ext cx="82296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Into the Watershed: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Wilmington Links its CSO Program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to UAAs and TMDLs in the Christina Basin </a:t>
            </a:r>
            <a:endParaRPr b="1" i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800600"/>
            <a:ext cx="830592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eading the Way - POTWs Take Environmental Protection Beyond the 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Summer Conference - July 20-23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Wilmington Department of Public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eley and Hansen L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04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7ABC-B278-43C7-82C5-23A1FC601A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ng UAA with TMD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, analyses common to UAA and T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- UAA, revise WQS, do T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nsitive option - phased TMDL implementation, complete UAA, WQS revision and non-point BMP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99E9-86E1-4DD0-83EB-53D017E643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keholder Advisory Group - establish watershe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people want to spend thei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s CSOs in perspective with other watersh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FAAF-E905-4707-91A0-5C72B3BB16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Stakeholders Onboard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Not Just “A CSO Thing”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23920" y="2133720"/>
            <a:ext cx="399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QS for Enterococcus - 100 geometric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CSO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range 74 -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th % range 580 -19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non-CSO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range 55 - 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th % range 400 -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406080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4696-4763-4D3E-B7B7-0CC36C8A55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New Castle County and DelDOT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Stormwater NPDES’s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DL will treat New Castle County as one big point sourc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PA Region 3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TMDL load reductions in urban stormwa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peper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fax Co.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2% - 98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lington Co.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- 98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urban Bos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% - 99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FC4C-F018-4691-B9D9-6C2260A0D6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the State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8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% of river and stream miles don’t support primary contac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doing TMD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mwater NPDE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REC looking for model to apply to other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280" y="1981080"/>
            <a:ext cx="4876560" cy="4191120"/>
            <a:chOff x="152280" y="1981080"/>
            <a:chExt cx="4876560" cy="419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rcRect l="0" t="12458" r="2200" b="7266"/>
            <a:stretch/>
          </p:blipFill>
          <p:spPr>
            <a:xfrm>
              <a:off x="595800" y="1981080"/>
              <a:ext cx="44330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52280" y="5587560"/>
              <a:ext cx="1507680" cy="57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E629-3BFF-445B-87C3-73E79A67E5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EPA Region 3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shed-wid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ources - multipl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Os, agriculture, suburban/urban storm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cteria, nutrients, sediment,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upport key leg of CSO Policy - WQS reviews and LTCP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cience for UAA leads to better TMDL and leverages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3304-578A-4CA7-AD83-4E35414760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 Status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004 - Coordination team commitment and cost sharing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ssessment and gap analysis unde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e Stakeholder Advisory Group during summer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F423-74F6-460C-BE3D-BD5A88E440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Christina River Basin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3 m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A, DE and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watershed - agriculture, rural, suburban, ur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quality impairment - TMDLs for nutrients,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rograms - CSO, urban storm water, agricultural BMPs, stream rest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atershed-map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03848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29FB-0CA6-43BA-B289-ABFF13B13E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ilmington, Delawar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residents - largest city in Delaware and the Christina Ba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700 acres, 40 ou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NM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TP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ing 75% 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of the diverse water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watershed-map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03848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C2DB-8021-4B48-9E16-078F56C6B5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Framework for Wilmington’s CSO Long Term Control Plan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O Task Force, a statewide stakeholder group, recommends an LTCP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priority C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85%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es with TMD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upstream pollution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9F18-FCDA-4D59-9259-E4A0AC4C5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Evolution of CSO Planning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3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lanning focused on 85%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ware WQS had wet weather exclusion for primary contac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lanning addresses wat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QS revision removed wet weather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flow” TMDL for bacteria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ington saw opportunity for coordinating and directing efforts at watershed priorities and meaningful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4756-7955-4E88-995C-1737E74DB1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ilmington LTCP Links CSOs to UAA and TMDLs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CSO controls for 85% cap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urrent UAA and WQS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she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with TMD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onal CSO controls, wet weather  projects based on outcome of UAA and TMD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F698-7BDF-4CB3-B1E1-D9FA119C60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ordination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Department of Natural Resources and Environmental Control (DNR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A Reg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astle County,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y of Wilm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F454-19D3-4120-82C2-5CE10BA26D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:  Framework for UAA and TMD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st attainabl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water qualit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stakeholder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2061-49C9-44DE-A6A9-D0E85E536E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l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needs, 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ing conditions, sources an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attainment of designated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preventing at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29A4-8B32-4BAB-B918-22A80BCB52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3:36:41Z</dcterms:created>
  <dc:creator>mpaist</dc:creator>
  <dc:description/>
  <dc:language>en-US</dc:language>
  <cp:lastModifiedBy>Tom Kochaba</cp:lastModifiedBy>
  <cp:lastPrinted>2004-07-02T19:11:07Z</cp:lastPrinted>
  <dcterms:modified xsi:type="dcterms:W3CDTF">2004-07-02T19:12:12Z</dcterms:modified>
  <cp:revision>270</cp:revision>
  <dc:subject/>
  <dc:title>City of Wilmington Department of Public Works</dc:title>
</cp:coreProperties>
</file>