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27160" y="688680"/>
            <a:ext cx="460224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040"/>
            <a:ext cx="5029200" cy="414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33A0C33-12A6-4D02-AC9C-9840E2E3B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27160" y="68904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70040"/>
            <a:ext cx="5029200" cy="41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27160" y="68904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70040"/>
            <a:ext cx="5029200" cy="41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AE17-C055-4B2F-81CF-23566EB87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15D5-46C4-4B13-90EF-4ED0FB73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4201-4726-46DF-BCD8-99B8B9361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2BD1-1B27-43B1-8B7C-034953592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11D9-17C7-4ACA-9E58-340BCA39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841F-D3D9-4734-ABDF-B8730135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C08C-3D77-4DD7-A28A-678D74B8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DF2A-A748-4488-86E0-54D06E8D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2A54-7642-4654-B75C-3F7B9DB2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C132-9B63-4DD1-85C7-DC59CE7E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3192-D5CD-4902-9372-B55BB66C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53D5-32F9-4592-89CE-F87BF2E6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2F50-1B57-4BCA-A34D-F6CDD4E68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67816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s in Water Quality Standard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rrent Issues and Initiatives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81080" y="2743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ise Keehner, Dir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s and Health Protection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fice of Science and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PA Office of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ed at AMSA Summer Co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ver, Colo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ly 21, 200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902720" y="76320"/>
            <a:ext cx="1164960" cy="115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D323-2857-4DE0-B75B-8356DCBD5F8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04920" y="1066680"/>
            <a:ext cx="883908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thods for Use of Bioassessments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fine Aquatic Life Designated U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provide guidance on how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P MathA" charset="2"/>
              <a:buChar char="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uniformly and directly assess aquatic resource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P MathA" charset="2"/>
              <a:buChar char="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e more clearly to the public both the current status of aquatic resources and their potential for restoratio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ilesto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P MathA" charset="2"/>
              <a:buChar char="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y 2004:             Finalize EPA peer review of manuscri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P MathA" charset="2"/>
              <a:buChar char="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ember 2004:   Methods document ready to begi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ublic scientific revi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PA’s Future Directions and Activ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978680" y="76320"/>
            <a:ext cx="1165320" cy="115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83A0-BA29-453B-8BEB-3757C7C50F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1133640"/>
            <a:ext cx="9144000" cy="55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ristina Basin CSO Wet Weather Assessment Projec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lmington, 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develop decision criteria and work plan for pursuing w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ther UAAs, and strategy for integrating the UAA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inement of WQS with high-flow TMDLs, CSO long-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plans, stormwater permit implementation and other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 initiati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A is in the process of funding total cost at $178,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keholder group will be invol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tative completion date:  Spring 2005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30240"/>
            <a:ext cx="7620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PA’s Future Directions and Activ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ilot Projects Involving Designated Use Iss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978680" y="76320"/>
            <a:ext cx="1165320" cy="115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E29E-EA8B-4E17-A21F-7B5C914EBA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1143000"/>
            <a:ext cx="9144000" cy="62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reational UAA Development for a CSO-Sec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hio River, Wheeling, W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investigate level of attainable recreational use during w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ther flow on urbanized/industrial 72 mile section of Ohio Riv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previously developed model to simulate levels of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wet weather sources and resulting water qual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A is in the process of funding total cost at $125,00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advisory committee involved; public review of draft resul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tative completion date:  Spring 20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30240"/>
            <a:ext cx="7620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PA’s Future Directions and Activ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ilot Projects Involving Designated Use Iss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978680" y="76320"/>
            <a:ext cx="1165320" cy="115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B679-A00D-4EC6-B721-5DBA9E32EC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19080"/>
            <a:ext cx="9220320" cy="6877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1219320"/>
            <a:ext cx="9372600" cy="54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bient Water Quality Monitoring Plan for Bacteria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ittsburgh Area CSO-Receiving Wa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develop a bacteria monitoring plan for Pittsburgh, Pennsylv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 receiving waters (Allegheny, Monongahela, and Oh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vers/tribs); plan to be implemented by diverse stakeholder gro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00,000 total cost: EPA is in the process of funding $68K, PA D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ing $32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keholder group will be invol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tative completion date:  Spring 20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0"/>
            <a:ext cx="7619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PA’s Future Directions and Activ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ilot Projects Involving Designated Use Iss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902720" y="76320"/>
            <a:ext cx="1164960" cy="115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82BA-62D7-4259-ADCB-ADC31D5685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990720"/>
            <a:ext cx="9372600" cy="58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Attainability Assessment Demonstrations: Lessons Learned from Ohio River, Christina Basin, and Pittsburgh CSO Pilot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report will ascertain lessons learned from the three Region 3 EP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nstration projects in DE, WV and Pittsburgh (these project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ussed in the previous three slid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A is in the process of funding total cost at $50,00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keholder groups involved in development and review of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projec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tative completion date:  Fall 20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30240"/>
            <a:ext cx="7619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PA’s Future Directions and Activ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ilot Projects Involving Designated Use Iss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902720" y="76320"/>
            <a:ext cx="1164960" cy="115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7495-8BC2-4215-B2DD-48FED64CA7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1066680"/>
            <a:ext cx="9372600" cy="58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C-MD MS4 StormWater BMP Installation, Monitoring &amp;Outr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lot project will be conducted in an impaired urban watershed;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involve monitoring, and outreach to Municipal Separate St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wer System Operators (MS4s) and states on developmen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mwater management plans to improve water qual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A is in the process of funding $75,000; EPA &amp;USGS also prov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ing and resources to conduct monitoring, and watershed review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review of draft reports; on-site technical training for stat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municipal offic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tative completion date:  Fall 200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0"/>
            <a:ext cx="7620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PA’s Future Directions and Activ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ilot Projects Involving Designated Use Iss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978680" y="76320"/>
            <a:ext cx="1165320" cy="115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D34A-D23A-4680-822E-FD7E06EFD4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066680"/>
            <a:ext cx="9372600" cy="62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w York City Harbor CSO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A, NYDEC, and NYCDEP working together to define water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goals, provide support for implementation of projects need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in goals, and assist on technical, scientific and economic analy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YCDEP is funding this pro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keholder groups formed for each of the 23 waterbod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 waterbody assessments are at various stages in the proces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rst two waterbody assessments are nearing comple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76320"/>
            <a:ext cx="7619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PA’s Future Directions and Activ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ilot Projects Involving Designated Use Iss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978680" y="76320"/>
            <a:ext cx="1165320" cy="115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187B-5105-45C7-9C39-C9AC868861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990720"/>
            <a:ext cx="9372600" cy="58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aluation of Tiered Aquatic Life Uses (TALU) in Arid Ur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astal Streams in Los Angele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evaluate applicability of Tiered Aquatic Life Uses (TAL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ual model to arid urban coastal streams in Los Angeles Reg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mend appropriate tiered aquatic life uses for these arid ur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astal streams, and evaluate potential reference conditions in each ti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A is in the process of funding $110,000 total c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cal Advisory Committee and Stakeholder Advisory Committ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serve advisory and review role throughout project life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tative completion date:  Fall 20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30240"/>
            <a:ext cx="7620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PA’s Future Directions and Activ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ilot Projects Involving Designated Use Iss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902720" y="76320"/>
            <a:ext cx="1164960" cy="115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5D93-CCF6-43BA-B8EA-83D569D883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219320"/>
            <a:ext cx="9372600" cy="55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Attainability Analyses (UAA) and Total Maximum Da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ads (TMDLs) in the Chicago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A, IL EPA, and Chicago sewer authority are working together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a UAA for Chicago inland wat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of Illinois and Metropolitan Water reclamation District of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cago (MWRDGC) are funding the UA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meetings and other outreach activities are plan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tative completion date:  Spring 20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30240"/>
            <a:ext cx="7619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PA’s Future Directions and Activ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ilot Projects Involving Designated Use Iss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978680" y="76320"/>
            <a:ext cx="1165320" cy="115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73D6-4584-42ED-80A3-648335BD1C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-76320" y="914400"/>
            <a:ext cx="9753840" cy="66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issouri &amp; Iowa Primary Recreational Use Waterbody Assess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A is working with Missouri and Iowa to assess waterbodies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recreational use design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A funded $50,000 for work in MO, and $50,000 for work in 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UAAs that may be produced will follow public review proc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tative Schedu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 Wor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-Data to be collected within recreational season (Apr-Oc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chedule for work products not avai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A Work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-UAA Guidelines:  Oct. 2004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Draft Recreational Use Assessment Protocol: Dec. 200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0"/>
            <a:ext cx="7620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PA’s Future Directions and Activ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ilot Projects Involving Designated Use Iss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8229600" y="0"/>
            <a:ext cx="609480" cy="76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E44E-0F8B-4BE6-B2C4-C3AAD41E0A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38080" y="7632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signated Use Issues are High Prior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 WQS Progr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1482840"/>
            <a:ext cx="8991720" cy="55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PA’s 2003 WQS Strategy identifies designated use issues a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priority iss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PA’s July 2004 Designated Use Plan outlines EPA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ities to move the WQS program forward in the area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ignated us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978680" y="0"/>
            <a:ext cx="1165320" cy="115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2531-44A4-41B5-BCF3-5F2848CD19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1298520"/>
            <a:ext cx="9372600" cy="58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egon UAA Gui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A assisting Oregon DEQ to develop State use attainability analy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dance focusing on application to dams (may discuss other UAAs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87,000 funded by EP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dance will be developed by diverse group of stakehol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tative completion date:  December 200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06200"/>
            <a:ext cx="7620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PA’s Future Directions and Activ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ilot Projects Involving Designated Use Iss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01000" y="76320"/>
            <a:ext cx="1165320" cy="115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0FA7-AA28-40B6-ADFA-C3D5A3980B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9476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895480" y="24300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losing Thou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16192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PA is interested in AMSA’s thoughts on our plan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 forward on designated use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PA is also interested in AMSA’s thoughts on what ar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ggest hurdles facing the public in addressing desig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issues (particularly issues facing State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keholders), and how EPA can streamline its eff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978680" y="76320"/>
            <a:ext cx="1165320" cy="115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8A25-0450-43B4-B37F-C84C817D3F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95200" y="0"/>
            <a:ext cx="94392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45756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ategy for Water Quality Standards and Criteria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n Highest Priority Strategic Actions</a:t>
            </a: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gust 2003 -- www.epa.gov/ost/standards/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sue implementation guidance for the 1986 bacteria criteria for recre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ce and implement a strategy for the development of pathogen criteria for drinking water and recreational u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ce and implement a strategy for the development of suspended and bedded sediment criter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de technical support to states and tribes for developing and adopting nutrient criteria and biological criter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 and apply a systematic selection process to produce new and revised water quality criteria for chemicals to address emerging nee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te the national consultation with the Federal Services on existing aquatic life criter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vide technical support, outreach, training and workshops to assist states and tribes with designated uses including use attainability analyses and tiered aquatic life u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de implementation support concerning technical issues affecting permits and TMDLs, beginning with technical support and outreach concerning the duration and frequency component of existing water quality criter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y any drinking-water source waters whose water quality standards do not protect the use, and work with regions, states, and tribes to correct any deficient standards as soon as possib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 a web-based clearinghouse for exchanging information on critical water quality standards issues, beginning with antidegrad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752480"/>
            <a:ext cx="3581280" cy="4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4876920"/>
            <a:ext cx="3352680" cy="83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4876920"/>
            <a:ext cx="358164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4876920"/>
            <a:ext cx="3657600" cy="914400"/>
          </a:xfrm>
          <a:prstGeom prst="roundRect">
            <a:avLst>
              <a:gd name="adj" fmla="val 192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52880" y="1752480"/>
            <a:ext cx="3810240" cy="1752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978680" y="76320"/>
            <a:ext cx="1165320" cy="11588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EFC9-33EF-404D-9629-88EFED30FB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4920" y="196920"/>
            <a:ext cx="899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signated Use Issu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tuations That Warrant Particular Focu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-457200" y="1447920"/>
            <a:ext cx="17730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ral community scenari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w flow stream situations and arid west ar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iods of wet weather and in CSO situ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EPA’s Guidanc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ordinating CSO Long-Term Planning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ter Quality Standards Revie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uly 2001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also EPA’s “Water Quality Standards Reviews for Combin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wer Overflow Receiving Waters: Summary of 2003 State Surve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,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902720" y="76320"/>
            <a:ext cx="1164960" cy="115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FA9D-6353-4B3B-8FEA-B6446130C5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-152280" y="838080"/>
            <a:ext cx="9296280" cy="68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PA’s July 2004 Designated Use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ll Outline EPAs plan to move the WQS program forward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ignated us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Will include activities for ongoing dialogue with EPA Region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EPA water  programs, states, tribes, and stak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Activities will develop lessons learned from pilot project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exchange, and creative case-specific solution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Contact EPA Headquarters’ Tonya Fish at 202-566-0294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sh.tonya@epa.gov, to receive a copy of July 2004 Desig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Pl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PA’s Future Directions and Activ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826400" y="136440"/>
            <a:ext cx="1165320" cy="115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92B1-8934-4C64-9E21-298F3991E1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4920" y="922320"/>
            <a:ext cx="8839080" cy="71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PA UAA Workshop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Will occur in fall 2004, with EPA Regional WQ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ordina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Will focus on discussing UAA development questions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ed clarification and group discussion of sample UA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resenting each of the six 131.10(g)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EPA has been, and will be, coordinating with states, tri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other stakeholders to help ensure we focus o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est priority iss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PA’s Future Directions and Activ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902720" y="152280"/>
            <a:ext cx="1164960" cy="115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9B3B-D191-466A-B7B7-72B124A8EB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533520"/>
            <a:ext cx="9144000" cy="78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-Regulator Designated Use Workshops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A wi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nsor four 2 ½ 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cal workshops with c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ors (states and authorized tribes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hop focus towards practical approaches for environment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ess in common designated use change situ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to interested state, tribal and federal government employ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EPA will work with representatives of various stakeholders to solic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on the workshop agen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EPA plans to develop a proceedings document based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tions and discussions during the workshop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PA’s Future Directions and Activ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978680" y="76320"/>
            <a:ext cx="1165320" cy="115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1813-C82A-489A-A179-5F879F24F6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80880" y="685800"/>
            <a:ext cx="9144000" cy="67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-Regulator Designated Use Workshops (continued)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tions selected based on feedback from work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ing 200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iladelphia worksh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er 200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 Francisco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l 200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ver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ing 200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cago worksh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1766880" y="6629400"/>
            <a:ext cx="244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PA’s Future Directions and Activ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902720" y="76320"/>
            <a:ext cx="1164960" cy="115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D5E9-64B5-47E8-B2C0-359E38AB3F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1273320"/>
            <a:ext cx="914400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Use Attainability Clearinghouse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-based information on designated use issu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be located on EPA’s WQS website at: www.epa.gov/waterscience/stand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 access to information on how to appropriately change designated uses, prepare use attainability analyses, and refine or remove uses in state/authorized tribal WQ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be available on EPA’s WQS website in December 200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PA’s Future Directions and Activ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978680" y="76320"/>
            <a:ext cx="1165320" cy="115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AD58-BD08-47B7-9BD3-17ED48B584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2T22:35:39Z</dcterms:created>
  <dc:creator>Kremena Darmenova</dc:creator>
  <dc:description/>
  <dc:language>en-US</dc:language>
  <cp:lastModifiedBy>AMSA</cp:lastModifiedBy>
  <dcterms:modified xsi:type="dcterms:W3CDTF">2004-07-21T18:09:21Z</dcterms:modified>
  <cp:revision>203</cp:revision>
  <dc:subject/>
  <dc:title>Module21_color</dc:title>
</cp:coreProperties>
</file>