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7160" y="68868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1CEEFD2-6451-4006-8CDE-000D5D64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2716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2716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28F-6B61-4385-96B3-18B8E606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5FB-C98B-4A1C-A2E1-66490A65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34E-3CC5-471A-85D0-D253693D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50E-935B-4DC5-AD31-622E220F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C93-DCAB-402C-840C-52785305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EE9-BAE4-4205-A94E-D0A29A00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BC9-36B0-46A2-B5A3-E86B1AC4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6D9-62BB-4B7D-AAB2-2C1B8546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341-3BAC-4C7C-8703-31B7D5EA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0C5-9A61-44B6-A7D1-3AF773F4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C25-D51A-48CC-B140-F90981BB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B9E-E5BD-49EE-87B2-0D1B2EE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7897-7BFC-45B0-BFA0-C26C2D890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s in Water Quality Standar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Issues and Initiative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2743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ise Keehner,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and Health Protection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 of 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A Office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d at AMSA Summer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y 21, 200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D4B-BB4E-4F71-9AE5-1BC8CA8BE0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106668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thods for Use of Bioassessment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fine Aquatic Life Designated 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provide guidance on how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uniformly and directly assess aquatic resourc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e more clearly to the public both the current status of aquatic resources and their potential for restor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lest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004:             Finalize EPA peer review of manuscri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2004:   Methods document ready to beg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ublic scientific re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1F7-6CA0-4092-8273-61C11B7599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133640"/>
            <a:ext cx="914400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ristina Basin CSO Wet Weather Assessment Proj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lmington, 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evelop decision criteria and work plan for pursuing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UAAs, and strategy for integrating the UAA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ment of WQS with high-flow TMDLs, CSO long-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lans, stormwater permit implementation and oth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initia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total cost at $178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keholder group will be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Spring 200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024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122-09E4-41D6-B399-E1FCA16F68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143000"/>
            <a:ext cx="91440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reational UAA Development for a CSO-Se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hio River, Wheeling, W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nvestigate level of attainable recreational use during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flow on urbanized/industrial 72 mile section of Ohio Ri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reviously developed model to simulate levels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wet weather sources and resulting water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total cost at $125,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advisory committee involved; public review of draft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Spring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024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1CE-BA2A-4BB6-A229-B3DF950C6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9080"/>
            <a:ext cx="9220320" cy="68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219320"/>
            <a:ext cx="937260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bient Water Quality Monitoring Plan for Bacteria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ttsburgh Area CSO-Receiving W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develop a bacteria monitoring plan for Pittsburgh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receiving waters (Allegheny, Monongahela, and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s/tribs); plan to be implemented by diverse stakeholder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,000 total cost: EPA is in the process of funding $68K, PA D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$32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keholder group will be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Spring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0"/>
            <a:ext cx="7619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F4B-CCF3-4AA2-AB62-C9CBD175C6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990720"/>
            <a:ext cx="9372600" cy="58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Attainability Assessment Demonstrations: Lessons Learned from Ohio River, Christina Basin, and Pittsburgh CSO Pilot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port will ascertain lessons learned from the three Region 3 E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projects in DE, WV and Pittsburgh (these project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ed in the previous three slid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total cost at $50,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keholder groups involved in development and review of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proj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Fal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0240"/>
            <a:ext cx="7619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38E-59C6-4C67-B494-3308AB2962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066680"/>
            <a:ext cx="93726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C-MD MS4 StormWater BMP Installation, Monitoring &amp;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 project will be conducted in an impaired urban watershed;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involve monitoring, and outreach to Municipal Separate 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wer System Operators (MS4s) and states on developm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mwater management plans to improve water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$75,000; EPA &amp;USGS also prov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ing and resources to conduct monitoring, and watershed revie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view of draft reports; on-site technical training for stat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municipal offic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Fall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C26-6A0B-4937-8C86-BFB8716190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066680"/>
            <a:ext cx="9372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w York City Harbor CSO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, NYDEC, and NYCDEP working together to define water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oals, provide support for implementation of projects need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in goals, and assist on technical, scientific and economic analy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CDEP is funding this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keholder groups formed for each of the 23 waterbo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waterbody assessments are at various stages in the proces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two waterbody assessments are nearing com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76320"/>
            <a:ext cx="7619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D6D-36AF-404B-BF45-41ED65DFF8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990720"/>
            <a:ext cx="937260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 of Tiered Aquatic Life Uses (TALU) in Arid Ur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astal Streams in Los Angele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evaluate applicability of Tiered Aquatic Life Uses (TA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model to arid urban coastal streams in Los Angeles Reg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 appropriate tiered aquatic life uses for these arid ur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stal streams, and evaluate potential reference conditions in each t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in the process of funding $110,000 total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Advisory Committee and Stakeholder Advisory Commit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erve advisory and review role throughout project life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Fal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24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23F-9BE7-453C-A292-03B2B1B18E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219320"/>
            <a:ext cx="9372600" cy="55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Attainability Analyses (UAA) and Total Maximum Da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ads (TMDLs) in the Chicago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, IL EPA, and Chicago sewer authority are working togeth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UAA for Chicago inland wa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of Illinois and Metropolitan Water reclamation District of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 (MWRDGC) are funding the UA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meetings and other outreach activities are plan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Spring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0240"/>
            <a:ext cx="7619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150-31E8-4C4E-BAE4-E8C68F9948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76320" y="914400"/>
            <a:ext cx="9753840" cy="66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souri &amp; Iowa Primary Recreational Use Waterbody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is working with Missouri and Iowa to assess waterbodie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recreational use design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funded $50,000 for work in MO, and $50,000 for work in 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UAAs that may be produced will follow public review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tative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-Data to be collected within recreational season (Apr-Oc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chedule for work products no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A Wor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-UAA Guidelines:  Oct. 2004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raft Recreational Use Assessment Protocol: Dec.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944-F9A5-406A-9F52-35B178286C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763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ignated Use Issues are High Prio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WQS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482840"/>
            <a:ext cx="899172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’s 2003 WQS Strategy identifies designated use issues a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priority 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’s July 2004 Designated Use Plan outlines EP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ities to move the WQS program forward in the are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ated u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78680" y="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F41-369B-4D28-953F-B0EA47EF1B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1298520"/>
            <a:ext cx="93726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egon UAA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assisting Oregon DEQ to develop State use attainability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ance focusing on application to dams (may discuss other UAA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7,000 funded by E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ance will be developed by diverse group of stakehol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ative completion date:  December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0620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ilot Projects Involving Designated Use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0100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FFF-313D-4B4E-839F-080758413D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95480" y="2430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osing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19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is interested in AMSA’s thoughts on our plan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forward on designated us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A is also interested in AMSA’s thoughts on what ar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gest hurdles facing the public in addressing desig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ssues (particularly issues facing Stat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keholders), and how EPA can streamline its eff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3DB-57FE-4994-872C-63A6F5FA67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95200" y="0"/>
            <a:ext cx="94392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7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egy for Water Quality Standards and Criteria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 Highest Priority Strategic Actions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gust 2003 -- www.epa.gov/ost/standards/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implementation guidance for the 1986 bacteria criteria for recre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and implement a strategy for the development of pathogen criteria for drinking water and recreational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 and implement a strategy for the development of suspended and bedded sediment cri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technical support to states and tribes for developing and adopting nutrient criteria and biological cri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nd apply a systematic selection process to produce new and revised water quality criteria for chemicals to address emerging n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the national consultation with the Federal Services on existing aquatic life cri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ide technical support, outreach, training and workshops to assist states and tribes with designated uses including use attainability analyses and tiered aquatic life u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implementation support concerning technical issues affecting permits and TMDLs, beginning with technical support and outreach concerning the duration and frequency component of existing water quality criter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any drinking-water source waters whose water quality standards do not protect the use, and work with regions, states, and tribes to correct any deficient standards as soon as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 web-based clearinghouse for exchanging information on critical water quality standards issues, beginning with antidegrad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75248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4876920"/>
            <a:ext cx="335268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876920"/>
            <a:ext cx="358164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4876920"/>
            <a:ext cx="3657600" cy="914400"/>
          </a:xfrm>
          <a:prstGeom prst="roundRect">
            <a:avLst>
              <a:gd name="adj" fmla="val 19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1752480"/>
            <a:ext cx="381024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BDA-9627-4E41-B758-19A3C7DFCE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196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ignated Use Issu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tuations That Warrant Particular Focu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457200" y="1447920"/>
            <a:ext cx="1773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community scenar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flow stream situations and arid west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ods of wet weather and in CSO situ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EPA’s Guidanc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ordinating CSO Long-Term Planning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ter Quality Standards Revie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ly 2001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EPA’s “Water Quality Standards Reviews for Comb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wer Overflow Receiving Waters: Summary of 2003 State Surve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B8F-6FE0-4D67-9FD0-DD0B673AC7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152280" y="838080"/>
            <a:ext cx="9296280" cy="68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PA’s July 2004 Designated Us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Outline EPAs plan to move the WQS program forwar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ated us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ill include activities for ongoing dialogue with EPA Reg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EPA water  programs, states, tribes, and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ctivities will develop lessons learned from pilot projec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exchange, and creative case-specific soluti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ontact EPA Headquarters’ Tonya Fish at 202-566-0294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h.tonya@epa.gov, to receive a copy of July 2004 Desig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26400" y="13644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A35-4835-4137-8E6F-7E545A2846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922320"/>
            <a:ext cx="883908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PA UAA Workshop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Will occur in fall 2004, with EPA Regional W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ill focus on discussing UAA development questions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clarification and group discussion of sample U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ing each of the six 131.10(g)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EPA has been, and will be, coordinating with states, tri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stakeholders to help ensure we focus o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st priority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02720" y="15228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440-7962-4625-9E5C-EE01094020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533520"/>
            <a:ext cx="9144000" cy="78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-Regulator Designated Use Workshop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 wi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sor four 2 ½ 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workshops with c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s (states and authorized tribe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hop focus towards practical approaches for environmen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 in common designated use change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to interested state, tribal and federal government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EPA will work with representatives of various stakeholders to so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on the workshop age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EPA plans to develop a proceedings document base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s and discussions during the workshop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CA1-E4B9-444D-989B-759F7CDCE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685800"/>
            <a:ext cx="91440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-Regulator Designated Use Workshops (continue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 selected based on feedback from work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20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adelphia work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er 20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Francisco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20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v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 work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766880" y="6629400"/>
            <a:ext cx="24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902720" y="76320"/>
            <a:ext cx="11649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3D9-C59F-417F-BF9A-337D4FAE18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27332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e Attainability Clearinghous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based information on designated use issu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located on EPA’s WQS website at: www.epa.gov/waterscience/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access to information on how to appropriately change designated uses, prepare use attainability analyses, and refine or remove uses in state/authorized tribal WQ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available on EPA’s WQS website in December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P MathA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A’s Future Directions and Activ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978680" y="76320"/>
            <a:ext cx="116532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0D4-BBA6-4650-B5BC-8B98E17E0F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22:35:39Z</dcterms:created>
  <dc:creator>Kremena Darmenova</dc:creator>
  <dc:description/>
  <dc:language>en-US</dc:language>
  <cp:lastModifiedBy>AMSA</cp:lastModifiedBy>
  <dcterms:modified xsi:type="dcterms:W3CDTF">2004-07-21T18:09:21Z</dcterms:modified>
  <cp:revision>203</cp:revision>
  <dc:subject/>
  <dc:title>Module21_color</dc:title>
</cp:coreProperties>
</file>