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14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AF6-B17D-4953-B1C0-3E3DB7931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B84-69EE-40BE-A5DB-BE4DCD6B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332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332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33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7FC-56E9-422C-9B69-4D2E8FD4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BFA-25B3-43D1-A976-72CA9D1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552-0498-4608-BB21-BD2CA173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45B-1E2F-4AC3-B29B-23CEA0A2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A6C-D3AF-4F87-B2ED-BDF0D4A9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8E8-4587-43C1-BF1F-879DD4BB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083-EBAB-4CA4-84E7-864392B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506-44A1-4AD7-A400-2FFBA836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901-435D-4061-A85B-A40E538A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F66-1821-4EA4-BA01-F6A78C7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F75-E26E-41FA-A7CD-FDB0776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911-3ADD-4D31-8BDD-862BFA6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935F-DB5C-4742-A708-FBD447D17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bluequillangler.com/shopsite_sc/store/html/buzz-off-men.html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estburypharmacy.com/Merchant2/mivagraphics/bergen/069682.jpg&amp;imgrefurl=http://www.westburypharmacy.com/Merchant2/merchant.mvc%3Fstore_code%3DWP%26screen%3DPROD%26product_code%3D069682&amp;h=320&amp;w=320&amp;sz=6&amp;tbnid=laqQ-g089LEJ:&amp;tbnh=113&amp;tbnw=113&amp;start=2&amp;prev=/images%3Fq%3Dselsun%26svnum%3D20%26hl%3Den%26lr%3D%26newwindow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9525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merging Pollutants in Consumer Products – Uncontrollab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Heil, Senior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itation Districts of Los Angeles Cou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5 Workman Mill Road, Whittier  CA  906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2/699-7411, x29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eil@lacsd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LOGO1" descr=""/>
          <p:cNvPicPr/>
          <p:nvPr/>
        </p:nvPicPr>
        <p:blipFill>
          <a:blip r:embed="rId1"/>
          <a:stretch/>
        </p:blipFill>
        <p:spPr>
          <a:xfrm>
            <a:off x="2514600" y="5257800"/>
            <a:ext cx="5181480" cy="134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791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ITATION DISTRICTS OF LOS ANGELES COUN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7_9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9429840" cy="374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trachloroethylene (Per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181480"/>
            <a:ext cx="10287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-1990’s California Air Resources Board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-forming chemicals down, perc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00200" y="873000"/>
          <a:ext cx="6248520" cy="59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73000"/>
                    <a:ext cx="624852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14400" y="380880"/>
            <a:ext cx="82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verage Influent Perc at JWPC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86280" y="1676520"/>
            <a:ext cx="49719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gredient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troleum Distillate, 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Tetrachloroethylen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tergent, and  Carbon Diox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010_16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681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aug" descr=""/>
          <p:cNvPicPr/>
          <p:nvPr/>
        </p:nvPicPr>
        <p:blipFill>
          <a:blip r:embed="rId1"/>
          <a:stretch/>
        </p:blipFill>
        <p:spPr>
          <a:xfrm>
            <a:off x="343080" y="1219320"/>
            <a:ext cx="5314680" cy="327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4560" y="0"/>
            <a:ext cx="91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One can of engine degreaser can contaminate 8 million gallons of 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80" y="3505320"/>
            <a:ext cx="2400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gus W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 M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SJC" descr=""/>
          <p:cNvPicPr/>
          <p:nvPr/>
        </p:nvPicPr>
        <p:blipFill>
          <a:blip r:embed="rId2"/>
          <a:stretch/>
        </p:blipFill>
        <p:spPr>
          <a:xfrm>
            <a:off x="4457880" y="3276720"/>
            <a:ext cx="5486400" cy="32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57880" y="5562720"/>
            <a:ext cx="180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JC W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gine Degrea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9880" y="4648320"/>
            <a:ext cx="6019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with ARB to obtain a state-wide ban on chlorinated solvents in engine degrea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010_16" descr=""/>
          <p:cNvPicPr/>
          <p:nvPr/>
        </p:nvPicPr>
        <p:blipFill>
          <a:blip r:embed="rId1"/>
          <a:srcRect l="5106" t="0" r="11491" b="0"/>
          <a:stretch/>
        </p:blipFill>
        <p:spPr>
          <a:xfrm>
            <a:off x="380880" y="609480"/>
            <a:ext cx="3071880" cy="579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029120" y="1527120"/>
          <a:ext cx="5861160" cy="28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9120" y="1527120"/>
                    <a:ext cx="58611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30477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600200" y="873000"/>
          <a:ext cx="6248520" cy="59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73000"/>
                    <a:ext cx="624852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14400" y="380880"/>
            <a:ext cx="82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verage Influent Perc at JWPC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ing Action on Chlorinated Sol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24, 2004 ARB passed a ban on perc, MeCl, and TCE in seven additional product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d in through December 31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perc usage reduction of up to 150,000 pounds per y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dditional rounds of consumer product rulemaking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DYM4027" descr=""/>
          <p:cNvPicPr/>
          <p:nvPr/>
        </p:nvPicPr>
        <p:blipFill>
          <a:blip r:embed="rId1"/>
          <a:srcRect l="23535" t="0" r="23535" b="0"/>
          <a:stretch/>
        </p:blipFill>
        <p:spPr>
          <a:xfrm>
            <a:off x="7696080" y="1828800"/>
            <a:ext cx="2168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838080" y="228600"/>
            <a:ext cx="8743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adichlorobenz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342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l ca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cin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a potty waste contains up to 40 mg/L (haz waste at 7.5 mg/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d porta potty loads with para at Saugus W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00400" y="1523880"/>
          <a:ext cx="7086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7086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162920" y="1447920"/>
            <a:ext cx="0" cy="37335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335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Loads with Para Pro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adichlorobenz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 concern for air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with California Air Resources 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d in California as of December 31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wer concentrations expected to drop to essentially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urinal" descr=""/>
          <p:cNvPicPr/>
          <p:nvPr/>
        </p:nvPicPr>
        <p:blipFill>
          <a:blip r:embed="rId1"/>
          <a:srcRect l="0" t="0" r="13125" b="0"/>
          <a:stretch/>
        </p:blipFill>
        <p:spPr>
          <a:xfrm>
            <a:off x="6049800" y="1600200"/>
            <a:ext cx="42372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0666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stici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553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doing reregist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 on wastewater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zinon/chlorpyrif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 on most urban 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a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allowed in flea d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microb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asked to look at “indoor” 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thrin-impregnated cl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BuzzOffHangTag" descr=""/>
          <p:cNvPicPr/>
          <p:nvPr/>
        </p:nvPicPr>
        <p:blipFill>
          <a:blip r:embed="rId1"/>
          <a:srcRect l="1761" t="3301" r="1761" b="1981"/>
          <a:stretch/>
        </p:blipFill>
        <p:spPr>
          <a:xfrm>
            <a:off x="6095880" y="304920"/>
            <a:ext cx="2820960" cy="3690720"/>
          </a:xfrm>
          <a:prstGeom prst="rect">
            <a:avLst/>
          </a:prstGeom>
          <a:ln w="0">
            <a:noFill/>
          </a:ln>
        </p:spPr>
      </p:pic>
      <p:pic>
        <p:nvPicPr>
          <p:cNvPr id="123" name="buzzoff-man" descr="BUZZ OFF INSECT REPELLENT CLOTHING FOR MEN">
            <a:hlinkClick r:id="rId2"/>
          </p:cNvPr>
          <p:cNvPicPr/>
          <p:nvPr/>
        </p:nvPicPr>
        <p:blipFill>
          <a:blip r:embed="rId3"/>
          <a:srcRect l="0" t="0" r="10746" b="7632"/>
          <a:stretch/>
        </p:blipFill>
        <p:spPr>
          <a:xfrm>
            <a:off x="7672320" y="3048120"/>
            <a:ext cx="261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County Sanitation Distric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003_23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4114800" cy="319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371600"/>
            <a:ext cx="5562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wastewater treatmen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5.5 million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70 SI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water re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groundwater re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ing waters include effluent-dominated water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maceutic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77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scruti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adverse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rine disru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ial outreach - road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on dis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 – controlled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 resistance from hospi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lls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304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64764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Further Inform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982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lutants in consum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holdproducts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ewg.org/reports/skindeep/browse_products.p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pesticideinfo.org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cdpr.ca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lution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city.palo-alto.ca.us/cleanbay/publications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ial and Commercial Source Control Programs to Meet Water Quality Goals (www.werf.org, D7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ypes of Consumer Produ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6248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eutic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are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ning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cleaning 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tive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es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cabinet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7403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llutants in Consumer Produ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ki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n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druff shamp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thal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care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D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nt radiator fluid (500,000 p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yl phenol ethoxyl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mpoos, deter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362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64764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llutants in Consumer Produ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da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ce/scabies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nated solvents (perc, MeCl, T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tive cleaning products, metal polishes, strippers,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chlorobenz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l deodor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eutic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criptions, over-the-counter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tici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cticides, herbicides, antimicrob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lls" descr=""/>
          <p:cNvPicPr/>
          <p:nvPr/>
        </p:nvPicPr>
        <p:blipFill>
          <a:blip r:embed="rId1"/>
          <a:stretch/>
        </p:blipFill>
        <p:spPr>
          <a:xfrm>
            <a:off x="7696080" y="1828800"/>
            <a:ext cx="22687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64764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ools – Public Outrea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ed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 st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7621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iler partner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oster2" descr=""/>
          <p:cNvPicPr/>
          <p:nvPr/>
        </p:nvPicPr>
        <p:blipFill>
          <a:blip r:embed="rId1"/>
          <a:stretch/>
        </p:blipFill>
        <p:spPr>
          <a:xfrm>
            <a:off x="8040600" y="3962520"/>
            <a:ext cx="22464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478944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69" name="HeadLines%20" descr=""/>
          <p:cNvPicPr/>
          <p:nvPr/>
        </p:nvPicPr>
        <p:blipFill>
          <a:blip r:embed="rId3"/>
          <a:stretch/>
        </p:blipFill>
        <p:spPr>
          <a:xfrm>
            <a:off x="5562720" y="4494240"/>
            <a:ext cx="2743200" cy="2363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81280" y="5257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magnet1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164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ools – Product Restrict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CAPITAL" descr=""/>
          <p:cNvPicPr/>
          <p:nvPr/>
        </p:nvPicPr>
        <p:blipFill>
          <a:blip r:embed="rId1"/>
          <a:srcRect l="15826" t="15827" r="0" b="0"/>
          <a:stretch/>
        </p:blipFill>
        <p:spPr>
          <a:xfrm>
            <a:off x="4800600" y="1752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da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77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treat lice and scab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toxic, skin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istent, bioaccumulative,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wide legislative 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stri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o national water quality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is planning full 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nitsimage" descr=""/>
          <p:cNvPicPr/>
          <p:nvPr/>
        </p:nvPicPr>
        <p:blipFill>
          <a:blip r:embed="rId1"/>
          <a:stretch/>
        </p:blipFill>
        <p:spPr>
          <a:xfrm>
            <a:off x="7391520" y="2971800"/>
            <a:ext cx="2352600" cy="2825640"/>
          </a:xfrm>
          <a:prstGeom prst="rect">
            <a:avLst/>
          </a:prstGeom>
          <a:ln w="0">
            <a:noFill/>
          </a:ln>
        </p:spPr>
      </p:pic>
      <p:pic>
        <p:nvPicPr>
          <p:cNvPr id="78" name="adultlicepic" descr=""/>
          <p:cNvPicPr/>
          <p:nvPr/>
        </p:nvPicPr>
        <p:blipFill>
          <a:blip r:embed="rId2"/>
          <a:stretch/>
        </p:blipFill>
        <p:spPr>
          <a:xfrm>
            <a:off x="7086600" y="990720"/>
            <a:ext cx="32004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10287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ne Leaving LACSD Water Reclamation Pla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457200" y="1049400"/>
          <a:ext cx="11879280" cy="58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049400"/>
                    <a:ext cx="1187928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144000" y="2971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C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Limit, M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0880"/>
            <a:ext cx="81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dane Source Control Impa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267080"/>
            <a:ext cx="8458200" cy="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19 p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7:16:22Z</dcterms:created>
  <dc:creator>iw25</dc:creator>
  <dc:description/>
  <dc:language>en-US</dc:language>
  <cp:lastModifiedBy>AMSA</cp:lastModifiedBy>
  <cp:lastPrinted>2002-10-21T21:55:58Z</cp:lastPrinted>
  <dcterms:modified xsi:type="dcterms:W3CDTF">2004-10-28T12:41:59Z</dcterms:modified>
  <cp:revision>58</cp:revision>
  <dc:subject/>
  <dc:title>Pollution Prevention and the        LACSD NPDES Permits</dc:title>
</cp:coreProperties>
</file>