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14.wmf" ContentType="image/x-wmf"/>
  <Override PartName="/ppt/media/image24.wmf" ContentType="image/x-wmf"/>
  <Override PartName="/ppt/media/image22.wmf" ContentType="image/x-wmf"/>
  <Override PartName="/ppt/media/image19.jpeg" ContentType="image/jpeg"/>
  <Override PartName="/ppt/media/image21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wmf" ContentType="image/x-wmf"/>
  <Override PartName="/ppt/media/image15.jpeg" ContentType="image/jpeg"/>
  <Override PartName="/ppt/media/image1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662F-89BF-4EF0-BEBE-602571C738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FC15-2EE9-4986-8ADC-56A21436D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58960" y="685800"/>
            <a:ext cx="514332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highly publicized and political 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stricts have been staying on top of new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8960" y="685800"/>
            <a:ext cx="514332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highly publicized and political 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stricts have been staying on top of new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8960" y="685800"/>
            <a:ext cx="514332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highly publicized and political 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stricts have been staying on top of new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502-E907-43EB-AAA0-0A4D649B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5C0-5A6C-43D3-984A-A7DF4341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13F-C667-4E8C-8BE0-BAC25858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2D3-2919-4799-B0D7-E73D167B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41A-A68E-469B-B417-058D2D14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171-A37D-4D31-ADFE-8494F2B5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8FD5-A171-40D7-A49E-B7151C7B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127-0533-48D8-84D7-887466F7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948-717F-48FC-B468-45CA0454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7B4-9AA9-4111-9AFC-5DB3A34D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03BD-C2C9-4E76-B9B0-9BF7DD89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7AF-77DD-4C92-ADAE-73213531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E4DC-2AA6-474D-B7F2-1AC19E1CA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bluequillangler.com/shopsite_sc/store/html/buzz-off-men.html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estburypharmacy.com/Merchant2/mivagraphics/bergen/069682.jpg&amp;imgrefurl=http://www.westburypharmacy.com/Merchant2/merchant.mvc%3Fstore_code%3DWP%26screen%3DPROD%26product_code%3D069682&amp;h=320&amp;w=320&amp;sz=6&amp;tbnid=laqQ-g089LEJ:&amp;tbnh=113&amp;tbnw=113&amp;start=2&amp;prev=/images%3Fq%3Dselsun%26svnum%3D20%26hl%3Den%26lr%3D%26newwindow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9525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merging Pollutants in Consumer Products – Uncontrollabl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228600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 Heil, Senior Engin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itation Districts of Los Angeles Coun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5 Workman Mill Road, Whittier  CA  906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2/699-7411, x29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eil@lacsd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LOGO1" descr=""/>
          <p:cNvPicPr/>
          <p:nvPr/>
        </p:nvPicPr>
        <p:blipFill>
          <a:blip r:embed="rId1"/>
          <a:stretch/>
        </p:blipFill>
        <p:spPr>
          <a:xfrm>
            <a:off x="2514600" y="5257800"/>
            <a:ext cx="5181480" cy="1346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0" y="57913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ANITATION DISTRICTS OF LOS ANGELES COUN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17_9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9429840" cy="3747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47920" y="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trachloroethylene (Perc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5181480"/>
            <a:ext cx="10287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-1990’s California Air Resources Board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g-forming chemicals down, perc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600200" y="873000"/>
          <a:ext cx="6248520" cy="59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873000"/>
                    <a:ext cx="624852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914400" y="380880"/>
            <a:ext cx="829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verage Influent Perc at JWPC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886280" y="1676520"/>
            <a:ext cx="49719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gredients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troleum Distillate, </a:t>
            </a: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Tetrachloroethylene,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etergent, and  Carbon Diox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010_16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681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aug" descr=""/>
          <p:cNvPicPr/>
          <p:nvPr/>
        </p:nvPicPr>
        <p:blipFill>
          <a:blip r:embed="rId1"/>
          <a:stretch/>
        </p:blipFill>
        <p:spPr>
          <a:xfrm>
            <a:off x="343080" y="1219320"/>
            <a:ext cx="5314680" cy="3273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14560" y="0"/>
            <a:ext cx="91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One can of engine degreaser can contaminate 8 million gallons of w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80" y="3505320"/>
            <a:ext cx="24001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ugus W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5 M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SJC" descr=""/>
          <p:cNvPicPr/>
          <p:nvPr/>
        </p:nvPicPr>
        <p:blipFill>
          <a:blip r:embed="rId2"/>
          <a:stretch/>
        </p:blipFill>
        <p:spPr>
          <a:xfrm>
            <a:off x="4457880" y="3276720"/>
            <a:ext cx="5486400" cy="324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57880" y="5562720"/>
            <a:ext cx="180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JC W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M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gine Degrea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9880" y="4648320"/>
            <a:ext cx="6019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d with ARB to obtain a state-wide ban on chlorinated solvents in engine degrea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010_16" descr=""/>
          <p:cNvPicPr/>
          <p:nvPr/>
        </p:nvPicPr>
        <p:blipFill>
          <a:blip r:embed="rId1"/>
          <a:srcRect l="5106" t="0" r="11491" b="0"/>
          <a:stretch/>
        </p:blipFill>
        <p:spPr>
          <a:xfrm>
            <a:off x="380880" y="609480"/>
            <a:ext cx="3071880" cy="579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029120" y="1527120"/>
          <a:ext cx="5861160" cy="28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29120" y="1527120"/>
                    <a:ext cx="586116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04920" y="1981080"/>
            <a:ext cx="30477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600200" y="873000"/>
          <a:ext cx="6248520" cy="59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873000"/>
                    <a:ext cx="624852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914400" y="380880"/>
            <a:ext cx="829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verage Influent Perc at JWPC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inuing Action on Chlorinated Sol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e 24, 2004 ARB passed a ban on perc, MeCl, and TCE in seven additional product categ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d in through December 31, 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perc usage reduction of up to 150,000 pounds per ye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additional rounds of consumer product rulemakings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DYM4027" descr=""/>
          <p:cNvPicPr/>
          <p:nvPr/>
        </p:nvPicPr>
        <p:blipFill>
          <a:blip r:embed="rId1"/>
          <a:srcRect l="23535" t="0" r="23535" b="0"/>
          <a:stretch/>
        </p:blipFill>
        <p:spPr>
          <a:xfrm>
            <a:off x="7696080" y="1828800"/>
            <a:ext cx="216864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838080" y="228600"/>
            <a:ext cx="8743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adichlorobenze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342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al cak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cino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a potty waste contains up to 40 mg/L (haz waste at 7.5 mg/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ned porta potty loads with para at Saugus WR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00400" y="1523880"/>
          <a:ext cx="70866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7086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7162920" y="1447920"/>
            <a:ext cx="0" cy="37335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5335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Loads with Para Prohib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744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adichlorobenze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a concern for air e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d with California Air Resources Bo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ned in California as of December 31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wer concentrations expected to drop to essentially z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urinal" descr=""/>
          <p:cNvPicPr/>
          <p:nvPr/>
        </p:nvPicPr>
        <p:blipFill>
          <a:blip r:embed="rId1"/>
          <a:srcRect l="0" t="0" r="13125" b="0"/>
          <a:stretch/>
        </p:blipFill>
        <p:spPr>
          <a:xfrm>
            <a:off x="6049800" y="1600200"/>
            <a:ext cx="42372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06668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stici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6553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A doing reregist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 on wastewater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zinon/chlorpyrif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 on most urban 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ar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longer allowed in flea d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microb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asked to look at “indoor” 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ethrin-impregnated clo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BuzzOffHangTag" descr=""/>
          <p:cNvPicPr/>
          <p:nvPr/>
        </p:nvPicPr>
        <p:blipFill>
          <a:blip r:embed="rId1"/>
          <a:srcRect l="1761" t="3301" r="1761" b="1981"/>
          <a:stretch/>
        </p:blipFill>
        <p:spPr>
          <a:xfrm>
            <a:off x="6095880" y="304920"/>
            <a:ext cx="2820960" cy="3690720"/>
          </a:xfrm>
          <a:prstGeom prst="rect">
            <a:avLst/>
          </a:prstGeom>
          <a:ln w="0">
            <a:noFill/>
          </a:ln>
        </p:spPr>
      </p:pic>
      <p:pic>
        <p:nvPicPr>
          <p:cNvPr id="123" name="buzzoff-man" descr="BUZZ OFF INSECT REPELLENT CLOTHING FOR MEN">
            <a:hlinkClick r:id="rId2"/>
          </p:cNvPr>
          <p:cNvPicPr/>
          <p:nvPr/>
        </p:nvPicPr>
        <p:blipFill>
          <a:blip r:embed="rId3"/>
          <a:srcRect l="0" t="0" r="10746" b="7632"/>
          <a:stretch/>
        </p:blipFill>
        <p:spPr>
          <a:xfrm>
            <a:off x="7672320" y="3048120"/>
            <a:ext cx="2614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County Sanitation Distric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3" name="003_23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4114800" cy="3197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1371600"/>
            <a:ext cx="5562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wastewater treatment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 5.5 million res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70 SI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sive water re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ing groundwater re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ing waters include effluent-dominated water 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armaceutic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677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ing scruti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adverse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rine disru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 re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ential outreach - road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y on dispo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A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 – controlled sub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ous resistance from hospit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lls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304164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647640"/>
            <a:ext cx="9601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Further Inform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9829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lutants in consumer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holdproducts.nlm.nih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ewg.org/reports/skindeep/browse_products.ph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pesticideinfo.org/Index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cdpr.ca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lution 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city.palo-alto.ca.us/cleanbay/publications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ial and Commercial Source Control Programs to Meet Water Quality Goals (www.werf.org, D7200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ypes of Consumer Produc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6248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maceutic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care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ning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cleaning flu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tive flu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hes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cabinet" descr=""/>
          <p:cNvPicPr/>
          <p:nvPr/>
        </p:nvPicPr>
        <p:blipFill>
          <a:blip r:embed="rId1"/>
          <a:stretch/>
        </p:blipFill>
        <p:spPr>
          <a:xfrm>
            <a:off x="6553080" y="1447920"/>
            <a:ext cx="274032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9601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ollutants in Consumer Produc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6248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p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ki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ni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druff shampo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thal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care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D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nt radiator fluid (500,000 pp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kyl phenol ethoxyl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mpoos, deterg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3623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647640"/>
            <a:ext cx="9601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ollutants in Consumer Produc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da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ce/scabies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orinated solvents (perc, MeCl, T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tive cleaning products, metal polishes, strippers,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dichlorobenz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l deodoriz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maceutic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criptions, over-the-counter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sticid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cticides, herbicides, antimicrob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lls" descr=""/>
          <p:cNvPicPr/>
          <p:nvPr/>
        </p:nvPicPr>
        <p:blipFill>
          <a:blip r:embed="rId1"/>
          <a:stretch/>
        </p:blipFill>
        <p:spPr>
          <a:xfrm>
            <a:off x="7696080" y="1828800"/>
            <a:ext cx="226872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647640"/>
            <a:ext cx="9601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ools – Public Outreach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ted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spaper st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p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7621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ailer partner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i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t 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h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oster2" descr=""/>
          <p:cNvPicPr/>
          <p:nvPr/>
        </p:nvPicPr>
        <p:blipFill>
          <a:blip r:embed="rId1"/>
          <a:stretch/>
        </p:blipFill>
        <p:spPr>
          <a:xfrm>
            <a:off x="8040600" y="3962520"/>
            <a:ext cx="2246400" cy="289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4789440"/>
            <a:ext cx="2895480" cy="2068560"/>
          </a:xfrm>
          <a:prstGeom prst="rect">
            <a:avLst/>
          </a:prstGeom>
          <a:ln w="0">
            <a:noFill/>
          </a:ln>
        </p:spPr>
      </p:pic>
      <p:pic>
        <p:nvPicPr>
          <p:cNvPr id="69" name="HeadLines%20" descr=""/>
          <p:cNvPicPr/>
          <p:nvPr/>
        </p:nvPicPr>
        <p:blipFill>
          <a:blip r:embed="rId3"/>
          <a:stretch/>
        </p:blipFill>
        <p:spPr>
          <a:xfrm>
            <a:off x="5562720" y="4494240"/>
            <a:ext cx="2743200" cy="2363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581280" y="52578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magnet1" descr=""/>
          <p:cNvPicPr/>
          <p:nvPr/>
        </p:nvPicPr>
        <p:blipFill>
          <a:blip r:embed="rId5"/>
          <a:stretch/>
        </p:blipFill>
        <p:spPr>
          <a:xfrm>
            <a:off x="2438280" y="5181480"/>
            <a:ext cx="1641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"/>
            <a:ext cx="9601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ools – Product Restrict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in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CAPITAL" descr=""/>
          <p:cNvPicPr/>
          <p:nvPr/>
        </p:nvPicPr>
        <p:blipFill>
          <a:blip r:embed="rId1"/>
          <a:srcRect l="15826" t="15827" r="0" b="0"/>
          <a:stretch/>
        </p:blipFill>
        <p:spPr>
          <a:xfrm>
            <a:off x="4800600" y="17524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nda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677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o treat lice and scab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toxic, skin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istent, bioaccumulative, tox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out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wide legislative b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restri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o national water quality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merican eff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o is planning full b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nitsimage" descr=""/>
          <p:cNvPicPr/>
          <p:nvPr/>
        </p:nvPicPr>
        <p:blipFill>
          <a:blip r:embed="rId1"/>
          <a:stretch/>
        </p:blipFill>
        <p:spPr>
          <a:xfrm>
            <a:off x="7391520" y="2971800"/>
            <a:ext cx="2352600" cy="2825640"/>
          </a:xfrm>
          <a:prstGeom prst="rect">
            <a:avLst/>
          </a:prstGeom>
          <a:ln w="0">
            <a:noFill/>
          </a:ln>
        </p:spPr>
      </p:pic>
      <p:pic>
        <p:nvPicPr>
          <p:cNvPr id="78" name="adultlicepic" descr=""/>
          <p:cNvPicPr/>
          <p:nvPr/>
        </p:nvPicPr>
        <p:blipFill>
          <a:blip r:embed="rId2"/>
          <a:stretch/>
        </p:blipFill>
        <p:spPr>
          <a:xfrm>
            <a:off x="7086600" y="990720"/>
            <a:ext cx="32004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10287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dane Leaving LACSD Water Reclamation Pla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-457200" y="1049400"/>
          <a:ext cx="11879280" cy="58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049400"/>
                    <a:ext cx="1187928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9144000" y="29718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CT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Limit, M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380880"/>
            <a:ext cx="817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ndane Source Control Impa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4267080"/>
            <a:ext cx="8458200" cy="0"/>
          </a:xfrm>
          <a:prstGeom prst="line">
            <a:avLst/>
          </a:prstGeom>
          <a:ln w="255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19 p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7:16:22Z</dcterms:created>
  <dc:creator>iw25</dc:creator>
  <dc:description/>
  <dc:language>en-US</dc:language>
  <cp:lastModifiedBy>AMSA</cp:lastModifiedBy>
  <cp:lastPrinted>2002-10-21T21:55:58Z</cp:lastPrinted>
  <dcterms:modified xsi:type="dcterms:W3CDTF">2004-10-28T12:41:59Z</dcterms:modified>
  <cp:revision>58</cp:revision>
  <dc:subject/>
  <dc:title>Pollution Prevention and the        LACSD NPDES Permits</dc:title>
</cp:coreProperties>
</file>