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33640" y="688680"/>
            <a:ext cx="45907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0888-2CF4-47DF-8180-955AC6855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AE5A-59AD-43AC-BCD7-7EDD276E1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ing Secure Information Sharing and Analysis System (ISA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 cooperation with AMWA and FBI consulting with AMSA and W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will link utilities to FBI to provide information on threats and inci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Using an “E-mail tre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s to most drinking water and waste water 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BI Alerts and EPA notices sent via this 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65FC-CAB2-46F9-BC49-D90215ED0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the opportunity to speak with you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ope that my presentation will inform you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tential risks of bioterrorism on the Nation’s water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A’s actions and plans to reduce this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be covering the following  points in my prese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8BB6-3BFB-4BE6-B397-1C2EB8F22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Notices issued to date 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mmediate steps to improve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Funding sources available to support security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Monitoring and treatment recomme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Linking with local law enforcement agencies to review emergency plans and enhance surveil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Checking employee rosters against the FBI "watch lis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emergency notification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A9A-C010-4A17-BA76-C2675914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0A23-0441-4E13-B03C-02F2D7DD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695-71F7-4270-A652-E03CE7ED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57C-894A-4432-B85D-1E9A745B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5408-0276-4376-BD2A-3994976C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A289-A8F3-4C4A-A2A8-56AAE81C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F619-8829-4CEF-95D4-676650A7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6807-1110-4DDE-9C6F-DDE3CEE0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6181-97C5-4FD0-ACEB-B7E5849D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0866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538B-F3BC-432E-A27F-7BCDB4AA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CE10-31A1-4BCA-84EB-A936A68B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91F-30D1-4487-9716-0DAB3361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CF66-B684-408D-95C1-4185DF96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84B5-F97E-4C52-A6B2-DA72E7BF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2843-2706-4F40-9FEA-5708056A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6A77-D4E9-4474-B914-E3AA0404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DD61-749A-42D0-A143-5182B6D7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648-0539-49F1-B5EF-DE045DF6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3643-8654-4D96-86F0-865E9513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B8D-06E3-4924-9B7D-CB6E74DA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0866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CD8-AA62-4FCA-9FCC-F7BBBB94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BC7-719C-458A-B1A2-BD682783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2998-14AE-4B61-9FC3-5E212998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FDE-7873-4FAB-BB1B-9A0EAF60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c64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c6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c6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c64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c64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F327-A78A-4B63-A649-A4867CF21B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5000"/>
              </a:lnSpc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5000"/>
              </a:lnSpc>
              <a:spcBef>
                <a:spcPts val="70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70080" cy="133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c64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c6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c6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c64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c64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2193-E16B-47AD-AF9F-66CC41311F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mwa.ne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pa.gov/safewater/security" TargetMode="External"/><Relationship Id="rId2" Type="http://schemas.openxmlformats.org/officeDocument/2006/relationships/hyperlink" Target="mailto:baranowski.curt@epa.gov" TargetMode="External"/><Relationship Id="rId3" Type="http://schemas.openxmlformats.org/officeDocument/2006/relationships/hyperlink" Target="mailto:frazer.brian@epa.gov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line">
            <a:avLst/>
          </a:prstGeom>
          <a:noFill/>
          <a:ln w="1015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914400" y="22856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ociation of Metropolitan Sewerage Agenc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treatment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stewa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A’s Role and 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ctober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rain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SAT and ERP training for medium /small sized systems - W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sessions; targets 2.5 to 5 mgd ut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wef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HS’s Office of Domestic Prepared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ency Response Tabletops for larger wastewater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rget 8 c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s March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nteer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1788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formation Sharing System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255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ing Secure Water Information Sharing and Analysis Center (Water-IS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WA -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amwa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Security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, password pro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HS – Homeland Security Information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tool within the water sector; utility, government, et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 sector analysis to identify tr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sector portal develo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ter Environment Research Foundation’s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ew Wastewater Security Projec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ment of New Intelligent and Real-time Sensing / Monitoring Devices to Detect Toxins and Other Chemical / Biological Contaminants Disruptive to Wastewater Treatment Proc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tocols for Treatment Process, Standard Response, and Collection System Disruptions in Wastewater Treatment Pla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st-effective Strategies for Small Wastewat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ted, GIS-based Consequence Assessment Model for Sewer and Storm Water Systems (PipelineNet and RiverSpi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FPs in process, not iss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6960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dditional Inform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water B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Accountability Office Wastewater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vulnerability areas and 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bedding Security into Existing EPA Programs and Practic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HS’s Water Sector Coordination Counc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cy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meeting early Nov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Infrastructure Protection Plan / Water Sector Specific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ed to the President mid-Dec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dditional Inform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Con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es of 3 utility based Conferences on Security Needs / Research and Non-research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tative Timing and 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March – Phoenix or San Di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May – Philadelph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ly – Chica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and Third Conferences build on the previ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ties will be invited throug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vel reimbursement for ut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ntact Inform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EPA’s Water Security Di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epa.gov/safewater/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t Baranows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baranowski.curt@epa.g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2-564-06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an Fra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frazer.brian@epa.g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2-564-05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PA Organiz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’s Office of Homelan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or’s 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of Ground Water and Drinking Water’s Water Security Di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 Assistance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ats Analysis Prevention and Preparedness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is the Federal Government Lead for Drinking Water and Wastewater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ordination with Department of Homeland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o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600" y="1828800"/>
            <a:ext cx="86360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tewater Emergency Response Plan Gu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 alone software module will be made available late 2004, compatible with VS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sed Threat Level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Product Guide – on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o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water Threat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stance from W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 EPA management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target, lat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SA Decontamination Plann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 to deal with contaminated wastewater and drinking water stre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target, early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SA Newsletter – on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SA Updates to VSAT - on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sponse Protocol Toolbox (RPTB):      </a:t>
            </a:r>
            <a:br>
              <a:rPr sz="24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anning for and Responding to     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ntamination Threats to Drinking Water Systems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1:  Water Utility Planning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2:  Contamination Threat Management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3:  Site Characterization and Sampling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4:  Analytical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5:  Public Health Response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6:  Remediation and Recovery Guide – wastewater inf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friendly version of Drinking Water RP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o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tewater Response Protocol Tool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hicle to start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 target, late 2005 with user friendly 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hrax 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ved by the National Respons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tocol will be incorporated as an appendix, into the Agency’s Anthrax Technical Docu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 target, late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o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ntary Physical Security Standards – AS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ions, maintenance, 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tewater/storm water, drinking water, on-line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aft standards release target, lat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ining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lize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nd Principles of an Active Security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DWAC Water Security Working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p utility priorities, incentives, track prog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f five meetings this we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recommendations Spring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o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iation of Boards of Certification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ntary security related sample questions for drinking water and wastewater operator certification ex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ions and m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depend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ic, drinking wate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sons learned from the “black out” and hurric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Admin</cp:lastModifiedBy>
  <cp:lastPrinted>2003-04-14T13:20:43Z</cp:lastPrinted>
  <dcterms:modified xsi:type="dcterms:W3CDTF">2004-10-28T12:33:00Z</dcterms:modified>
  <cp:revision>1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