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D420-F80E-4238-9BB3-5A01C967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792C-0665-4577-A702-11B704CD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ing Secure Information Sharing and Analysis System (IS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 cooperation with AMWA and FBI consulting with AMSA and W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ill link utilities to FBI to provide information on threats and inci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Using an “E-mail tre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o most drinking water and waste water 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BI Alerts and EPA notices sent via this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DF10-5403-4558-BCED-13FA424E6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the opportunity to speak with you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hat my presentation will inform you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tential risks of bioterrorism on the Nation’s water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’s actions and plans to reduce this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be covering the following  points in my 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307A-9146-439A-A1E0-11DAADE7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Notices issued to date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mmediate steps to improve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unding sources available to support security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Monitoring and treatment recomme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Linking with local law enforcement agencies to review emergency plans and enhance 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Checking employee rosters against the FBI "watch li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mergency notifica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DB1-8E29-4770-91C0-D3259B3B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143-E6BB-42A8-8CDF-9EA947F2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22B-721C-4456-BBF8-70A7F477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7C6-A648-4973-8E2F-07BC750F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A08B-F85B-4F19-BEF0-3E041275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8C1A-87A2-49DC-A0BA-7A5526AC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D285-4604-4374-A3F3-3B785653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D56B-297A-4A47-9FF4-18CDB636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3302-9E7A-4587-BAB0-B56F09E6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EB4C-9D3A-4E9A-842D-844B654A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1BB-7E67-4B6A-A399-2DA0B53A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224-9AFA-45CB-A436-F437AD0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F5BB-86EA-4A47-9DD8-CF1DC03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B365-ECBC-4B6A-886A-6B2D034C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5EDF-12B4-447B-8A49-5DEB0CA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7DE7-AD87-43FA-8059-3B67EA48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9846-122D-4420-B2A0-2EFA66D6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564-B58A-4CB7-B9F4-1C484AA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B32-DDAA-47EF-87C3-9D4AB58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867-8D3E-4511-BB75-C0205121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0CF-38C3-4AA7-8942-EDC20DDE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8C4-B391-4E1F-B128-17E3251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1DC-5A53-49EB-9406-CBFD0150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EA6-BE51-4929-A3DE-C7BE3EB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524-8AB7-4490-AFF1-FA636D958B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7008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887-4D39-433F-81B1-2536B7949F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wa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pa.gov/safewater/security" TargetMode="External"/><Relationship Id="rId2" Type="http://schemas.openxmlformats.org/officeDocument/2006/relationships/hyperlink" Target="mailto:baranowski.curt@epa.gov" TargetMode="External"/><Relationship Id="rId3" Type="http://schemas.openxmlformats.org/officeDocument/2006/relationships/hyperlink" Target="mailto:frazer.brian@epa.go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line">
            <a:avLst/>
          </a:prstGeom>
          <a:noFill/>
          <a:ln w="101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ion of Metropolitan Sewerage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reatment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tewa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A’s Role and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tober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 and ERP training for medium /small sized systems - W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sessions; targets 2.5 to 5 mgd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wef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S’s Office of Domestic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Response Tabletops for larger wastewater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get 8 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s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1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ormation Sharing Sys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25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ing Secure Water Information Sharing and Analysis Center (Water-IS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WA -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amw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ecurity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, password 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HS – Homeland Security Inform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tool within the water sector; utility, government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ector analysis to identify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ector portal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ew Wastewater Security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New Intelligent and Real-time Sensing / Monitoring Devices to Detect Toxins and Other Chemical / Biological Contaminants Disruptive to Wastewater Treatment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tocols for Treatment Process, Standard Response, and Collection System Disruptions in Wastewater Treatment Pl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st-effective Strategies for Small Wastewa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, GIS-based Consequence Assessment Model for Sewer and Storm Water Systems (PipelineNet and RiverSpi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FPs in process, not iss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ditional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Accountability Office Wastewater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vulnerability areas and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edding Security into Existing EPA Programs and Practic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HS’s Water Sector Coordination Coun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y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meeting early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nfrastructure Protection Plan / Water Sector Specific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ed to the President mid-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ditional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Co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es of 3 utility based Conferences on Security Needs / Research and Non-research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tative Timing and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March – Phoenix or San Di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May – Philadelph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– Chic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and Third Conferences build on the prev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ies will be invited throug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reimbursement for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EPA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safewater/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t Baranow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baranowski.curt@epa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2-564-06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an Fra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frazer.brian@epa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2-564-05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PA Organ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Office of Homel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or’s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Ground Water and Drinking Water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Assistanc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s Analysis Prevention and Preparedness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s the Federal Government Lead for Drinking Water and Wastewat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on with Department of Homelan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6360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Emergency Response Plan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alone software module will be made available late 2004, compatible with VS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Threat Leve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Product Guide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Threa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stance from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 EPA management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arget, lat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Decontamination Plann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 to deal with contaminated wastewater and drinking water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arget, earl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Newsletter –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Updates to VSAT -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sponse Protocol Toolbox (RPTB):      </a:t>
            </a:r>
            <a:br>
              <a:rPr sz="24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anning for and Responding to     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amination Threats to Drinking Water Systems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1:  Water Utility Planning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2:  Contamination Threat Management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3:  Site Characterization and Sampling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4:  Analytical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5:  Public Health Respons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6:  Remediation and Recovery Guide – wastewater inf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friendly version of Drinking Water RP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Response Protocol Tool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hicle to start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target, late 2005 with user friendly 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ax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by the National Respons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tocol will be incorporated as an appendix, into the Agency’s Anthrax Technical Docu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target, late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ary Physical Security Standards – AS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, maintenance,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/storm water, drinking water, on-line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ft standards release target, lat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iz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nd Principles of an Active Security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WAC Water Security Working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utility priorities, incentives, track pro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f five meetings this 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recommendations Spring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ion of Boards of Certification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ary security related sample questions for drinking water and wastewater operator certification ex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depend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, drinking wat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ons learned from the “black out” and hurric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dmin</cp:lastModifiedBy>
  <cp:lastPrinted>2003-04-14T13:20:43Z</cp:lastPrinted>
  <dcterms:modified xsi:type="dcterms:W3CDTF">2004-10-28T12:33:00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