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7DFC-9CD1-4F6E-89AC-6CFCD2D32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 Jose Santa Clara Water Pollution Control Plant, 1.5 million people, 167 MGD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C71F-B276-40F5-96A9-7F405719A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6ABC-77C8-4EB6-A665-FE6DA1B41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D818-33C7-4EE4-95D1-36DAB59E3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9E5B-1D8D-4A2C-8E76-13C555C80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8F54-F214-4315-AA70-5AA9D5371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9BD6-8B92-4623-8FE0-E21748570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A4B3-254F-4C6B-BD03-F40FD6594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1BF1-6F33-4F85-A60A-CA1901F50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0499-E687-4FE5-AD67-CD0869F86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09A4-DC85-4A2A-A669-5720B02D0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9F2E-0673-4CEB-9B29-A510E78B1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A7E5-E2C1-4FC4-B907-8355EA19D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3" name="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804960" y="117360"/>
            <a:ext cx="66600" cy="522360"/>
            <a:chOff x="804960" y="117360"/>
            <a:chExt cx="66600" cy="522360"/>
          </a:xfrm>
        </p:grpSpPr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1841-236B-4E6F-81BA-6CF86A1490BB}" type="slidenum">
              <a:rPr b="0" lang="en-US" sz="1200" spc="-1" strike="noStrike">
                <a:solidFill>
                  <a:srgbClr val="cc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531120"/>
            <a:ext cx="3505320" cy="326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440080"/>
            <a:ext cx="8456760" cy="761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38520" y="6672240"/>
            <a:ext cx="4332600" cy="64800"/>
            <a:chOff x="4538520" y="6672240"/>
            <a:chExt cx="4332600" cy="64800"/>
          </a:xfrm>
        </p:grpSpPr>
        <p:sp>
          <p:nvSpPr>
            <p:cNvPr id="57" name=""/>
            <p:cNvSpPr/>
            <p:nvPr/>
          </p:nvSpPr>
          <p:spPr>
            <a:xfrm>
              <a:off x="4538520" y="667224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148360" y="667224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57840" y="667224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67320" y="667224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977160" y="667224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586640" y="667224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96120" y="667224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5960" y="667224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80920" y="119160"/>
            <a:ext cx="66960" cy="2123640"/>
            <a:chOff x="880920" y="119160"/>
            <a:chExt cx="66960" cy="2123640"/>
          </a:xfrm>
        </p:grpSpPr>
        <p:sp>
          <p:nvSpPr>
            <p:cNvPr id="66" name=""/>
            <p:cNvSpPr/>
            <p:nvPr/>
          </p:nvSpPr>
          <p:spPr>
            <a:xfrm>
              <a:off x="880920" y="119160"/>
              <a:ext cx="6696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3492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5760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0920" y="10350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80920" y="1261800"/>
              <a:ext cx="6696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0920" y="14922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80920" y="17190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80920" y="1949400"/>
              <a:ext cx="66960" cy="630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80920" y="21780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80920" y="806400"/>
              <a:ext cx="66960" cy="630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cc"/>
                </a:solidFill>
                <a:latin typeface="Arial"/>
              </a:rPr>
              <a:t>Bay Area Pollution Prevention Group- </a:t>
            </a:r>
            <a:br>
              <a:rPr sz="2600"/>
            </a:br>
            <a:r>
              <a:rPr b="1" lang="en-US" sz="2600" spc="-1" strike="noStrike">
                <a:solidFill>
                  <a:srgbClr val="ccffcc"/>
                </a:solidFill>
                <a:latin typeface="Arial"/>
              </a:rPr>
              <a:t>Approach to Regional Coordination</a:t>
            </a:r>
            <a:endParaRPr b="1" lang="en-US" sz="2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1337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sy Elzuf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ry Walker Associ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tober 28,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996" t="7191" r="998" b="4134"/>
          <a:stretch/>
        </p:blipFill>
        <p:spPr>
          <a:xfrm>
            <a:off x="0" y="1160640"/>
            <a:ext cx="914400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Literature Reviews &amp; Special Studies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per 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xic Organic Constituent 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zinon &amp; Chlorpyrifos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ury Me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C4EB-46F0-4EF3-8AE2-26C3F62996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Commercial Program Materials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hicle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tal Progr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 Clea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1C70-97CD-473F-B289-CB732F7FB0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ublic Outreach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Outr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des for Homow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A1F3-ACBF-4E04-BE5B-DCB3CD0F60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New P2 Legislative and Regulatory Initiatives</a:t>
            </a:r>
            <a:endParaRPr b="1" lang="en-US" sz="2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fornia Toxics Rule (CT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Implementation Plan (SI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fornia Water Code (Porter-Cologne) Section 13263.3 (SB709, Migden Bi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6278-378B-4AC8-8746-14276AD600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2 Guidance &amp; Tools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ssistance to POTWs developing and augmenting P2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cost effective programs consistent with RWQCB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 communication between P2 programs and RWQCB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F020-98F7-4F79-AC8A-B16463E8DB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roject Approach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perative RWQCB-POTW project to devel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lutant specific lists of pollution prevention op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idance for selecting P2 op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ct  service area characteristics and POTW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regional and cross-media partner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8351-726B-4682-9A61-79099DF3D1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Secrets to Success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 co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 benef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ntary nature encourages excel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BBD2-5483-4EDE-B1F4-205B855ABB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0" r="0" b="3530"/>
          <a:stretch/>
        </p:blipFill>
        <p:spPr>
          <a:xfrm>
            <a:off x="2438280" y="1814400"/>
            <a:ext cx="4419720" cy="2909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0" y="478476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ci.san-jose.ca.us/es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25780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reat 620 million gallons of wastewater every day from homes, businesses and industry</a:t>
            </a:r>
            <a:br>
              <a:rPr sz="32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5085360" y="2076840"/>
            <a:ext cx="381240" cy="189000"/>
          </a:xfrm>
          <a:custGeom>
            <a:avLst/>
            <a:gdLst>
              <a:gd name="textAreaLeft" fmla="*/ 0 w 381240"/>
              <a:gd name="textAreaRight" fmla="*/ 381600 w 3812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0160" y="685800"/>
            <a:ext cx="777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39 wastewater treatment plants discharge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San Francisco B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19EC-67DA-4E36-9B6E-0CA1EB4127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Getting Started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dischargers required to develop P2 programs in 19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y Area Waste Minimization Group formed by Regional Board in 19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2 requirement added for remaining POTWs w/ pretreatment programs in 19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d changed to Bay Area Pollution Prevention Group in 19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sub-committee of BACWA in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3493-8D6B-4847-91FB-E2EBF40D21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urpose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t Regional Board in developing &amp; implementing its waste minimization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exchange among dischargers, regulatory agencies, interested pa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an pursuing cooperative projects in 19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3EE2-64F6-4810-A6C6-29BE267897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Mission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coordinate all dischargers’ pollution prevention activities in order to reduce the amoung of toxic pollutants discharged into San Francisco B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8F76-8F4F-4890-A3EA-EDD9FD9C7E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the most effective use of public f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 regional P2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and sponsor research on P2 top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regionally consistent public education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275B-0F92-49BA-B23C-6EEC38BB5A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How BAPPG operates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monthly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committees for special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plan developed annually based on issues of most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budget of 44,400 for 04-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from POTWs based on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perative projects with other Bay Area groups (BASMAA, BACW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B93D-F045-4D03-A7B1-6867C89B3E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Accomplishments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lutant specific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stic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Outr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Re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2 Training &amp; Gu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38CDF-1397-4EF5-9F5C-5B7846C2A1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Copper Root Control Outreach &amp; Ban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control products identified as residential copper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outreach materials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l introduced to California State Assembly w/ BAPPG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PR adopted regulation prohibiting use and sale of copper root control products (199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A0F2-208E-42F4-A786-681A5A7F71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0:39:35Z</dcterms:created>
  <dc:creator>Thomas Barron</dc:creator>
  <dc:description/>
  <dc:language>en-US</dc:language>
  <cp:lastModifiedBy>AMSA</cp:lastModifiedBy>
  <cp:lastPrinted>2001-09-28T17:15:45Z</cp:lastPrinted>
  <dcterms:modified xsi:type="dcterms:W3CDTF">2004-10-28T15:41:34Z</dcterms:modified>
  <cp:revision>205</cp:revision>
  <dc:subject/>
  <dc:title>Environmentally Responsible Dentistry</dc:title>
</cp:coreProperties>
</file>