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FFC7-CE64-46A9-921C-C8096FC97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Jose Santa Clara Water Pollution Control Plant, 1.5 million people, 167 MGD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82D4-CBC5-441D-9C1D-77A7F9E4B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DA32-B6A3-4C36-A60C-66F436929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79AA-DD6C-4E8B-85B0-CD4C82385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0941-19C6-46EA-886F-A26A8C482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089F-02F3-49A4-BC2C-823C85EF0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CD4E-BDDD-46F3-8C15-4559A16C5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5D3F-AD27-4240-8145-4E4CF811B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816E-3A33-49B6-A356-272E4B419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26C6-D56C-4197-9CB9-D9C6F46F7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3259-9B0C-42AF-8BC4-8469C96B6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940D-7EF7-40FE-BC5A-0B416F0E3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57BB-A0EA-4CE5-8820-F85BE03FD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60F2-C7BA-4306-A556-3A02EAF0AD20}" type="slidenum">
              <a:rPr b="0" lang="en-US" sz="1200" spc="-1" strike="noStrike">
                <a:solidFill>
                  <a:srgbClr val="cc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531120"/>
            <a:ext cx="3505320" cy="3268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440080"/>
            <a:ext cx="845676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38520" y="6672240"/>
            <a:ext cx="4332600" cy="64800"/>
            <a:chOff x="4538520" y="6672240"/>
            <a:chExt cx="4332600" cy="64800"/>
          </a:xfrm>
        </p:grpSpPr>
        <p:sp>
          <p:nvSpPr>
            <p:cNvPr id="57" name=""/>
            <p:cNvSpPr/>
            <p:nvPr/>
          </p:nvSpPr>
          <p:spPr>
            <a:xfrm>
              <a:off x="4538520" y="667224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48360" y="667224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57840" y="667224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67320" y="667224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77160" y="667224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86640" y="667224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96120" y="667224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5960" y="667224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80920" y="119160"/>
            <a:ext cx="66960" cy="2123640"/>
            <a:chOff x="880920" y="119160"/>
            <a:chExt cx="66960" cy="2123640"/>
          </a:xfrm>
        </p:grpSpPr>
        <p:sp>
          <p:nvSpPr>
            <p:cNvPr id="66" name=""/>
            <p:cNvSpPr/>
            <p:nvPr/>
          </p:nvSpPr>
          <p:spPr>
            <a:xfrm>
              <a:off x="880920" y="11916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3492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576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0920" y="1035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0920" y="126180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0920" y="14922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80920" y="1719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0920" y="1949400"/>
              <a:ext cx="66960" cy="630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80920" y="21780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80920" y="806400"/>
              <a:ext cx="66960" cy="630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cc"/>
                </a:solidFill>
                <a:latin typeface="Arial"/>
              </a:rPr>
              <a:t>Bay Area Pollution Prevention Group- </a:t>
            </a:r>
            <a:br>
              <a:rPr sz="2600"/>
            </a:br>
            <a:r>
              <a:rPr b="1" lang="en-US" sz="2600" spc="-1" strike="noStrike">
                <a:solidFill>
                  <a:srgbClr val="ccffcc"/>
                </a:solidFill>
                <a:latin typeface="Arial"/>
              </a:rPr>
              <a:t>Approach to Regional Coordination</a:t>
            </a:r>
            <a:endParaRPr b="1" lang="en-US" sz="2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1337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sy Elzuf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ry Walker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28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996" t="7191" r="998" b="4134"/>
          <a:stretch/>
        </p:blipFill>
        <p:spPr>
          <a:xfrm>
            <a:off x="0" y="1160640"/>
            <a:ext cx="91440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Literature Reviews &amp; Special Studie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per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xic Organic Constituent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inon &amp; Chlorpyrifos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ury M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7314-156A-48FB-B406-8C2A8205BF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ommercial Program Material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hicl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tal Progr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Clea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92F2-6879-4A04-B047-C7D5F278E0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ublic Outreach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Out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des for Homow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D3D4-78ED-4CCD-AE38-2E66C29505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New P2 Legislative and Regulatory Initiatives</a:t>
            </a:r>
            <a:endParaRPr b="1" lang="en-US" sz="2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Toxics Rule (CT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Implementation Plan (SI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Water Code (Porter-Cologne) Section 13263.3 (SB709, Migden Bi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5DF6-166D-4E67-B1C3-684A2E4278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2 Guidance &amp; Tool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ssistance to POTWs developing and augmenting P2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cost effective programs consistent with RWQCB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communication between P2 programs and RWQCB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32A4-071B-47B1-8546-EE9A6DE266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oject Approach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perative RWQCB-POTW project to devel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lutant specific lists of pollution prevention op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dance for selecting P2 op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  service area characteristics and POTW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regional and cross-media partner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B98F-938D-4694-9F63-BCB89CF797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Secrets to Succes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 co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 bene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ary nature encourages excel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E7A1-AD0F-43DE-AC25-BBD5D6EB3B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0" b="3530"/>
          <a:stretch/>
        </p:blipFill>
        <p:spPr>
          <a:xfrm>
            <a:off x="2438280" y="1814400"/>
            <a:ext cx="4419720" cy="2909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0" y="478476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ci.san-jose.ca.us/es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25780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reat 620 million gallons of wastewater every day from homes, businesses and industry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085360" y="2076840"/>
            <a:ext cx="381240" cy="189000"/>
          </a:xfrm>
          <a:custGeom>
            <a:avLst/>
            <a:gdLst>
              <a:gd name="textAreaLeft" fmla="*/ 0 w 381240"/>
              <a:gd name="textAreaRight" fmla="*/ 381600 w 3812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0160" y="685800"/>
            <a:ext cx="777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39 wastewater treatment plants discharge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San Francisco B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7BD1-F819-4ACE-AA2F-395DFE5693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Getting Started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dischargers required to develop P2 programs in 19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y Area Waste Minimization Group formed by Regional Board in 19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2 requirement added for remaining POTWs w/ pretreatment programs in 19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changed to Bay Area Pollution Prevention Group in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sub-committee of BACWA in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1C00-4F0D-4521-9834-7C848CECBD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urpose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 Regional Board in developing &amp; implementing its waste minimization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exchange among dischargers, regulatory agencies, interested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pursuing cooperative projects in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E8A7-F925-4744-BE11-C85395BAF7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Mission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coordinate all dischargers’ pollution prevention activities in order to reduce the amoung of toxic pollutants discharged into San Francisco B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F09B-5978-47A3-9F94-BF134F0C16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most effective use of public f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 regional P2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and sponsor research on P2 top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regionally consistent public education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071B-F9D7-4148-B84B-6C0471AAFB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How BAPPG operate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monthly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committees for special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plan developed annually based on issues of most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budget of 44,400 for 04-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from POTWs based on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perative projects with other Bay Area groups (BASMAA, BACW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4F24-44AD-4505-969D-2B89405A65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Accomplishments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lutant specific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Outr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2 Training &amp;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CFC2-6C93-4049-8577-E8094127D5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Copper Root Control Outreach &amp; Ban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control products identified as residential copper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outreach materials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introduced to California State Assembly w/ BAPPG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PR adopted regulation prohibiting use and sale of copper root control products (199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4982-A0BE-4D50-B4F3-027EC7B220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0:39:35Z</dcterms:created>
  <dc:creator>Thomas Barron</dc:creator>
  <dc:description/>
  <dc:language>en-US</dc:language>
  <cp:lastModifiedBy>AMSA</cp:lastModifiedBy>
  <cp:lastPrinted>2001-09-28T17:15:45Z</cp:lastPrinted>
  <dcterms:modified xsi:type="dcterms:W3CDTF">2004-10-28T15:41:34Z</dcterms:modified>
  <cp:revision>205</cp:revision>
  <dc:subject/>
  <dc:title>Environmentally Responsible Dentistry</dc:title>
</cp:coreProperties>
</file>