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715-D05E-4C75-912F-A3F88D7A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F97-B7EF-4853-B303-B03D0A5B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A93-6C21-4863-B8FF-3A54C2D6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DE5-3ED9-4663-A806-31B36E7C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D30-21E5-4A74-90B2-0A5C767F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F0E-48FA-4E48-84E7-FF174303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2E1-CF46-431E-9746-6CD275A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7F5-8374-4950-933D-E27647BA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F7B-008E-4FD3-BB89-7DD0E286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229-C1EA-4390-8ABE-5FFA297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13C-AEFD-4ACF-912F-92A13812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9F5-7308-4CBF-89F0-7E7AA95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622-D89A-478B-BDC6-368FE3A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74B-3339-49C0-9BD0-A6F13B70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noble@pmai.org" TargetMode="External"/><Relationship Id="rId2" Type="http://schemas.openxmlformats.org/officeDocument/2006/relationships/hyperlink" Target="http://www.pmai.org/environ/_toc_code_of_practice.htm" TargetMode="External"/><Relationship Id="rId3" Type="http://schemas.openxmlformats.org/officeDocument/2006/relationships/hyperlink" Target="http://www.silvercouncil.or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Best Management Practices &amp; Other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eve No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hoto Marketing Association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4 AMSA/EPA National Pretreatment Coordinators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full support of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homework and 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bo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trac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intra &amp; inter-departmental communication system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Issu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forcement powers are relinqu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nforcement is relinquished when a BMP is part of sewer code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s to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who your user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businesses are not regulation sav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a small business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 participation and support from industry &amp; trade groups/associations to create “buy-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program ar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E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Success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utreach eff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efforts to an information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progress in achieving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ositiv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lists of “in-compliance”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enforcement activities vi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need to know you are 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riers To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: “I don’t discharge that much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y 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application or enforc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willing to cut ‘em a bre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2305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x Ke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&amp;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88620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19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will be in direct proportion to efforts put into the pr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048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46536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larendon Condensed"/>
              </a:rPr>
              <a:t>Words of the wise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larendon Condensed"/>
              </a:rPr>
              <a:t>No matter how hard you try or how right you are, sometimes the dragon will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larendon Condensed"/>
              </a:rPr>
              <a:t>Becky Gagnon- City of Wichita</a:t>
            </a:r>
            <a:r>
              <a:rPr b="0" lang="en-US" sz="3200" spc="-1" strike="noStrike">
                <a:solidFill>
                  <a:srgbClr val="000000"/>
                </a:solidFill>
                <a:latin typeface="Clarendon Condens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73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8380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’re from industry &amp; we’re her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lp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MP Program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enough to drive you craz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33360" y="106668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thanks to the CMP program cities and AMSA for your continuing suppor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62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1295280"/>
            <a:ext cx="65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Inform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No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Marketing Association Inter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 Pictur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kson, MI  492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noble@pmai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7-788-8100 Ext 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 of inter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2"/>
              </a:rPr>
              <a:t>http://www.pmai.org/environ/_toc_code_of_practic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3"/>
              </a:rPr>
              <a:t>www.silvercounci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982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take it slow and understand t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83040" y="2502000"/>
            <a:ext cx="1177920" cy="18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MP programs are diffe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Makes Them Differen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P programs take time to produc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678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Why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huge learning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nts are usually small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loosely reg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ve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trust is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the command and control attitude unless it is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8194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en There, Done That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s of the EPA/AMSA/Silver Counci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MPs are effective at controlling discharges of a common pollutant of concern being discharged from diverse business typ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 investment is equal to permit type programs but provides greater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offs MUST be kept in context of the pretreatment progra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percent of the headwork's loading is attributed to this grou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doing thi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tudy Also Said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education is a key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duces the learning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sist in understanding the need for the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detail and precision for broader coverage and consistent appl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ave reasonable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 one sample per year instead of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sider different ways to accomplish you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n annual certification fo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hare the administrative 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rdkeeping works as a user iss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Ide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 is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der and gent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hasize “site visits” over “inspection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“buy in” through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user committe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educational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wo for one implementation deal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ver &amp; mercur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0" y="2743200"/>
            <a:ext cx="1600200" cy="22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21:15:58Z</dcterms:created>
  <dc:creator>Steven Noble</dc:creator>
  <dc:description/>
  <dc:language>en-US</dc:language>
  <cp:lastModifiedBy>stevenn</cp:lastModifiedBy>
  <dcterms:modified xsi:type="dcterms:W3CDTF">2004-10-08T19:18:15Z</dcterms:modified>
  <cp:revision>25</cp:revision>
  <dc:subject/>
  <dc:title>CMP Implementation Progra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7942117</vt:r8>
  </property>
  <property fmtid="{D5CDD505-2E9C-101B-9397-08002B2CF9AE}" pid="3" name="_AuthorEmail">
    <vt:lpwstr>Snoble@pmai.org</vt:lpwstr>
  </property>
  <property fmtid="{D5CDD505-2E9C-101B-9397-08002B2CF9AE}" pid="4" name="_AuthorEmailDisplayName">
    <vt:lpwstr>Steven Noble</vt:lpwstr>
  </property>
  <property fmtid="{D5CDD505-2E9C-101B-9397-08002B2CF9AE}" pid="5" name="_EmailSubject">
    <vt:lpwstr>Presentation Needs and Speaker Information for Pretreatment Coordinators Workshop</vt:lpwstr>
  </property>
</Properties>
</file>