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25F-4B07-4E69-A935-CA4A65AC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804-B933-4E9E-9A41-85C29F97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2B9-426D-4E3C-9751-77BAC5A5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B65-491C-4EA5-8650-3FE3C2CF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46B-5700-4B73-8A5D-3AFC1D8B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305-ACC7-472B-86D4-8E180548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4B8-1AA7-424C-8CEB-3E26773F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382-2309-4D43-999F-CF399D09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992-5436-4612-9D5A-C85A6ABA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501-7385-42D1-9A0C-4CB687C5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4B0-24FA-4DE6-81E3-C2AEA916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3CE-0A29-4797-864E-C578E322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83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73d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372C-6E2A-4818-BB73-0D9397674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83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BMPs:  Successful Alternatives to Numerical Control </a:t>
            </a:r>
            <a:br>
              <a:rPr sz="4000"/>
            </a:b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2004 National Pretreatment Coordinators Workshop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ctober 27, 2004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5638680"/>
            <a:ext cx="388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:\nab\esd\presentations\\pretreat coord\pretreat Coord. Wrkshp-BMPs 10.04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ommercial Facilities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AIL = MAHL (1-SF) – (L</a:t>
            </a:r>
            <a:r>
              <a:rPr b="0" lang="en-US" sz="1400" spc="-1" strike="noStrike">
                <a:solidFill>
                  <a:srgbClr val="183f99"/>
                </a:solidFill>
                <a:latin typeface="Arial"/>
              </a:rPr>
              <a:t>UNC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 +HW +GA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183f99"/>
                </a:solidFill>
                <a:latin typeface="Arial"/>
              </a:rPr>
              <a:t>UNC 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= (C</a:t>
            </a:r>
            <a:r>
              <a:rPr b="0" lang="en-US" sz="1400" spc="-1" strike="noStrike">
                <a:solidFill>
                  <a:srgbClr val="183f99"/>
                </a:solidFill>
                <a:latin typeface="Arial"/>
              </a:rPr>
              <a:t>UNC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)(Q</a:t>
            </a:r>
            <a:r>
              <a:rPr b="0" lang="en-US" sz="1400" spc="-1" strike="noStrike">
                <a:solidFill>
                  <a:srgbClr val="183f99"/>
                </a:solidFill>
                <a:latin typeface="Arial"/>
              </a:rPr>
              <a:t>UNC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)(8.34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MPs: uncontrolled becomes controlled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C9D-D07C-48B2-B273-DB3C460F6F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ommercial Facility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BMUD permits ~3800 commercial facilities in 12 business typ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lanket permi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ll businesses in each category have same requirement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Options for variances where appropriat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ffective non-sampling controls essentia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eal floor drai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Install/maintain appropriate equipment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457-7447-45AE-9BB3-DF4AE6C52A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ommercial Facility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371600"/>
          <a:ext cx="8686800" cy="4435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371600"/>
                    <a:ext cx="86868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187-97CF-476E-AD24-1329333694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561960"/>
            <a:ext cx="7925040" cy="62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B56-B3CC-4AAA-B8BC-1787B83B43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533520"/>
          <a:ext cx="8501040" cy="6168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8501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48D-5E08-4B03-8516-4012F89EA3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ther Agency BMPs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Metropolitan Wastewater, San Diego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tor-specific BMP Discharge authoriz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Film Processin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Dry Cleaner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Boatyards (customized BMPs in permit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Food Establishment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uto Repair/steam cleanin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45A-C859-4527-9223-EAE0017668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ther Agency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attle Metropolitan/King County, WA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ental mercury BMP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87B-352F-47D1-BCBB-B57DA6A8BA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ther Agency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onnecticut Dept of Env. Protectio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General Permits 18 sectors, each with BMPs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Vehicle Service Floor Drain and Car Wash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Minor Photographic Processin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Minor Printing and Publishin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Food Processin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7F3-21E5-4CC8-9E7E-CFCF67CA6E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Benefits of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ncludes more dischargers as “controlled” flow for local limits calcula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Efficient use of resour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ecreased discharge of pollutants to treatment plan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643-A43B-4B89-9B55-6407B40485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-228600" y="914400"/>
          <a:ext cx="9372600" cy="574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914400"/>
                    <a:ext cx="937260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079-26A0-4190-9BCA-C1B214F4F7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  <a:ea typeface="Times New Roman"/>
              </a:rPr>
              <a:t>Presentation Overview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ndustrial User BMP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Zero Discharger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ommercial Program BMP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ther agency BMP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Benefits of BMP Approach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9A4-84FD-4B57-B61D-2B96FC61C5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  <a:ea typeface="Times New Roman"/>
              </a:rPr>
              <a:t>Next Steps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Expand BMP outreach to institu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rack success of new commercial BMP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Address emerging pollutants (PBDEs, EDCs, etc.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3AF-448B-4C17-9B89-38C66408F5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Best Management Practice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cheduled activitie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ohibitions of practi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Maintenance procedur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ther management practi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83f99"/>
                </a:solidFill>
                <a:latin typeface="Arial"/>
              </a:rPr>
              <a:t>To prevent or reduce pollutio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Also includes treatment requirements, sludge or waste disposa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25C-2C2C-4603-A09D-99D62FF2AC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183f99"/>
                </a:solidFill>
                <a:latin typeface="Arial"/>
                <a:ea typeface="Times New Roman"/>
              </a:rPr>
              <a:t>Industrial User BMPs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MPs incorporated into permi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ermit conditions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ractice pollution prevention techniques to reduce or eliminate pollutants and recycle wast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Identify P2 opportunities: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f99"/>
                </a:solidFill>
                <a:latin typeface="Arial"/>
              </a:rPr>
              <a:t>Improved operating practice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f99"/>
                </a:solidFill>
                <a:latin typeface="Arial"/>
              </a:rPr>
              <a:t>Material/product substitution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f99"/>
                </a:solidFill>
                <a:latin typeface="Arial"/>
              </a:rPr>
              <a:t>Technology and process modification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ocument P2 opportunities and update to reflect actions implemente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D2B-A17E-4FEC-87CD-3119A22243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  <a:ea typeface="Times New Roman"/>
              </a:rPr>
              <a:t>Industrial User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ome federal categories have BMP option to meet prescribed categorical requirements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Transportation Equipment Cleaning Pollutant Management Pla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spection checklist to confirm implement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Must comply with local limi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9FD-2CF7-45F7-8A1A-6863FD162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  <a:ea typeface="Times New Roman"/>
              </a:rPr>
              <a:t>Industrial User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BMP Compliance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spections include BMP compliance review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annot assess “remotely”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ot always occurring during inspec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est behavior” during inspec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BMP Enforcemen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ot analogous to numerical limits SNC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E36-78FA-4EA1-865B-E6EED4F481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710400" cy="503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7FD-71AE-4B5F-9FB5-2013B1B528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  <a:ea typeface="Times New Roman"/>
              </a:rPr>
              <a:t>Zero Discharger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IUs/SIUs that discontinue regulated process discharg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Fee/monitoring incentiv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BMUD:  24 ZDs, 13 Discharging CIU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MP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losed-loop/recycled rins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Evaporator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omplex relationship to local limits calculatio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40,000 gpd to zero discharg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DD5-245E-4565-9FA4-1EBC68F2A5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362320" y="533520"/>
          <a:ext cx="5091120" cy="6167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533520"/>
                    <a:ext cx="5091120" cy="61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128-B728-4B07-BDDE-476954127E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4:13:24Z</dcterms:created>
  <dc:creator>ISD</dc:creator>
  <dc:description/>
  <dc:language>en-US</dc:language>
  <cp:lastModifiedBy>Gayle Tupper</cp:lastModifiedBy>
  <dcterms:modified xsi:type="dcterms:W3CDTF">2004-10-25T19:20:49Z</dcterms:modified>
  <cp:revision>118</cp:revision>
  <dc:subject/>
  <dc:title>RELIABILITY-CENTERED MAINTENANCE (RCM)</dc:title>
</cp:coreProperties>
</file>