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wmf" ContentType="image/x-wmf"/>
  <Override PartName="/ppt/media/image6.wmf" ContentType="image/x-wmf"/>
  <Override PartName="/ppt/media/image7.png" ContentType="image/png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9294813" cy="7008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7262-B505-4C89-972D-D6F95E71C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680" y="39020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EB9F-E82C-4EF7-A832-5E72F3405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54240" y="17524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54240" y="39020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D0BF-1002-46BB-8629-6DDF33DAA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6160" y="17524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65280" y="17524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680" y="39020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6160" y="39020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65280" y="39020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1A17-B33A-4CA1-A920-1E786AF09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066680" y="17524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54240" y="17524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914400" y="609480"/>
            <a:ext cx="73915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854240" y="17524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680" y="17524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C652-C0BF-4AE2-892D-6932B3698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54240" y="17524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854240" y="39020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54240" y="17524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066680" y="39020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54240" y="17524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854240" y="39020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66160" y="17524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65280" y="17524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066680" y="39020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566160" y="39020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65280" y="39020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2376-851C-4BE5-907E-6566B26E0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54240" y="17524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E48B-A551-46E4-981A-9E4289E37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684F-5676-49F6-A830-33876F6F1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400" y="609480"/>
            <a:ext cx="73915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D7D4-A541-41BD-B02E-1A63DFF8F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54240" y="17524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EE65-A6E9-4621-8168-D1078AA51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54240" y="17524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54240" y="39020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A17F-E718-4FA6-85FD-F1CB84A08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54240" y="17524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A1A3-A0F1-42DB-8E2A-2F13E4CD2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83f99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7524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183f9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183f99"/>
              </a:buClr>
              <a:buSzPct val="50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183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183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73d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73d9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3244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4B41E-5A60-403A-B9EC-9C0A168733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83f99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3f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183f99"/>
              </a:buClr>
              <a:buSzPct val="50000"/>
              <a:buFont typeface="Wingdings 2" charset="2"/>
              <a:buChar char="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3f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183f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183f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3f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183f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183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3f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83f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3f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83f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3f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83f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83f99"/>
                </a:solidFill>
                <a:latin typeface="Arial"/>
              </a:rPr>
              <a:t>BMPs:  Successful Alternatives to Numerical Control </a:t>
            </a:r>
            <a:br>
              <a:rPr sz="4000"/>
            </a:b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2004 National Pretreatment Coordinators Workshop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October 27, 2004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800600" y="5638680"/>
            <a:ext cx="3886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W:\nab\esd\presentations\\pretreat coord\pretreat Coord. Wrkshp-BMPs 10.04.pp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83f99"/>
                </a:solidFill>
                <a:latin typeface="Arial"/>
              </a:rPr>
              <a:t>Commercial Facilities BMPs</a:t>
            </a: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3f99"/>
                </a:solidFill>
                <a:latin typeface="Arial"/>
              </a:rPr>
              <a:t>MAIL = MAHL (1-SF) – (L</a:t>
            </a:r>
            <a:r>
              <a:rPr b="0" lang="en-US" sz="1400" spc="-1" strike="noStrike">
                <a:solidFill>
                  <a:srgbClr val="183f99"/>
                </a:solidFill>
                <a:latin typeface="Arial"/>
              </a:rPr>
              <a:t>UNC</a:t>
            </a:r>
            <a:r>
              <a:rPr b="0" lang="en-US" sz="2800" spc="-1" strike="noStrike">
                <a:solidFill>
                  <a:srgbClr val="183f99"/>
                </a:solidFill>
                <a:latin typeface="Arial"/>
              </a:rPr>
              <a:t> +HW +GA)</a:t>
            </a: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3f99"/>
                </a:solidFill>
                <a:latin typeface="Arial"/>
              </a:rPr>
              <a:t>L</a:t>
            </a:r>
            <a:r>
              <a:rPr b="0" lang="en-US" sz="1400" spc="-1" strike="noStrike">
                <a:solidFill>
                  <a:srgbClr val="183f99"/>
                </a:solidFill>
                <a:latin typeface="Arial"/>
              </a:rPr>
              <a:t>UNC </a:t>
            </a:r>
            <a:r>
              <a:rPr b="0" lang="en-US" sz="2800" spc="-1" strike="noStrike">
                <a:solidFill>
                  <a:srgbClr val="183f99"/>
                </a:solidFill>
                <a:latin typeface="Arial"/>
              </a:rPr>
              <a:t>= (C</a:t>
            </a:r>
            <a:r>
              <a:rPr b="0" lang="en-US" sz="1400" spc="-1" strike="noStrike">
                <a:solidFill>
                  <a:srgbClr val="183f99"/>
                </a:solidFill>
                <a:latin typeface="Arial"/>
              </a:rPr>
              <a:t>UNC</a:t>
            </a:r>
            <a:r>
              <a:rPr b="0" lang="en-US" sz="2800" spc="-1" strike="noStrike">
                <a:solidFill>
                  <a:srgbClr val="183f99"/>
                </a:solidFill>
                <a:latin typeface="Arial"/>
              </a:rPr>
              <a:t>)(Q</a:t>
            </a:r>
            <a:r>
              <a:rPr b="0" lang="en-US" sz="1400" spc="-1" strike="noStrike">
                <a:solidFill>
                  <a:srgbClr val="183f99"/>
                </a:solidFill>
                <a:latin typeface="Arial"/>
              </a:rPr>
              <a:t>UNC</a:t>
            </a:r>
            <a:r>
              <a:rPr b="0" lang="en-US" sz="2800" spc="-1" strike="noStrike">
                <a:solidFill>
                  <a:srgbClr val="183f99"/>
                </a:solidFill>
                <a:latin typeface="Arial"/>
              </a:rPr>
              <a:t>)(8.34)</a:t>
            </a: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3f99"/>
                </a:solidFill>
                <a:latin typeface="Arial"/>
              </a:rPr>
              <a:t>BMPs: uncontrolled becomes controlled </a:t>
            </a: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4A5A-7F05-4C7F-B4A0-6F4DE27E7AD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83f99"/>
                </a:solidFill>
                <a:latin typeface="Arial"/>
              </a:rPr>
              <a:t>Commercial Facility BMPs</a:t>
            </a: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3f99"/>
                </a:solidFill>
                <a:latin typeface="Arial"/>
              </a:rPr>
              <a:t>EBMUD permits ~3800 commercial facilities in 12 business types</a:t>
            </a: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3f99"/>
                </a:solidFill>
                <a:latin typeface="Arial"/>
              </a:rPr>
              <a:t>Blanket permits</a:t>
            </a: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83f9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3f99"/>
                </a:solidFill>
                <a:latin typeface="Arial"/>
              </a:rPr>
              <a:t>All businesses in each category have same requirements</a:t>
            </a:r>
            <a:endParaRPr b="0" lang="en-US" sz="2400" spc="-1" strike="noStrike">
              <a:solidFill>
                <a:srgbClr val="183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83f9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3f99"/>
                </a:solidFill>
                <a:latin typeface="Arial"/>
              </a:rPr>
              <a:t>Options for variances where appropriate</a:t>
            </a:r>
            <a:endParaRPr b="0" lang="en-US" sz="2400" spc="-1" strike="noStrike">
              <a:solidFill>
                <a:srgbClr val="183f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3f99"/>
                </a:solidFill>
                <a:latin typeface="Arial"/>
              </a:rPr>
              <a:t>Effective non-sampling controls essential</a:t>
            </a: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83f9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3f99"/>
                </a:solidFill>
                <a:latin typeface="Arial"/>
              </a:rPr>
              <a:t>Seal floor drain</a:t>
            </a:r>
            <a:endParaRPr b="0" lang="en-US" sz="2400" spc="-1" strike="noStrike">
              <a:solidFill>
                <a:srgbClr val="183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83f9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3f99"/>
                </a:solidFill>
                <a:latin typeface="Arial"/>
              </a:rPr>
              <a:t>Install/maintain appropriate equipment</a:t>
            </a:r>
            <a:endParaRPr b="0" lang="en-US" sz="24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71BF-9592-4622-A554-7AF8EA5E860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83f99"/>
                </a:solidFill>
                <a:latin typeface="Arial"/>
              </a:rPr>
              <a:t>Commercial Facility BMPs</a:t>
            </a: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28600" y="1371600"/>
          <a:ext cx="8686800" cy="44355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1371600"/>
                    <a:ext cx="8686800" cy="443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BF30-AC8F-4CB3-81DE-0B99F56CEAF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609480" y="561960"/>
            <a:ext cx="7925040" cy="6296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E9DD-8742-4957-AE83-BAF51BCC134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380880" y="533520"/>
          <a:ext cx="8501040" cy="61689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533520"/>
                    <a:ext cx="8501040" cy="616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0351-29EE-4F8F-9DC8-56DAB4B85D7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83f99"/>
                </a:solidFill>
                <a:latin typeface="Arial"/>
              </a:rPr>
              <a:t>Other Agency BMPs</a:t>
            </a:r>
            <a:r>
              <a:rPr b="1" lang="en-US" sz="4000" spc="-1" strike="noStrike">
                <a:solidFill>
                  <a:srgbClr val="183f99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Metropolitan Wastewater, San Diego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83f9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3f99"/>
                </a:solidFill>
                <a:latin typeface="Arial"/>
              </a:rPr>
              <a:t>Sector-specific BMP Discharge authorization</a:t>
            </a: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83f99"/>
              </a:buClr>
              <a:buSzPct val="50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3f99"/>
                </a:solidFill>
                <a:latin typeface="Arial"/>
              </a:rPr>
              <a:t>Film Processing</a:t>
            </a:r>
            <a:endParaRPr b="0" lang="en-US" sz="2400" spc="-1" strike="noStrike">
              <a:solidFill>
                <a:srgbClr val="183f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83f99"/>
              </a:buClr>
              <a:buSzPct val="50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3f99"/>
                </a:solidFill>
                <a:latin typeface="Arial"/>
              </a:rPr>
              <a:t>Dry Cleaners</a:t>
            </a:r>
            <a:endParaRPr b="0" lang="en-US" sz="2400" spc="-1" strike="noStrike">
              <a:solidFill>
                <a:srgbClr val="183f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83f99"/>
              </a:buClr>
              <a:buSzPct val="50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3f99"/>
                </a:solidFill>
                <a:latin typeface="Arial"/>
              </a:rPr>
              <a:t>Boatyards (customized BMPs in permit)</a:t>
            </a:r>
            <a:endParaRPr b="0" lang="en-US" sz="2400" spc="-1" strike="noStrike">
              <a:solidFill>
                <a:srgbClr val="183f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83f99"/>
              </a:buClr>
              <a:buSzPct val="50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3f99"/>
                </a:solidFill>
                <a:latin typeface="Arial"/>
              </a:rPr>
              <a:t>Food Establishments</a:t>
            </a:r>
            <a:endParaRPr b="0" lang="en-US" sz="2400" spc="-1" strike="noStrike">
              <a:solidFill>
                <a:srgbClr val="183f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83f99"/>
              </a:buClr>
              <a:buSzPct val="50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3f99"/>
                </a:solidFill>
                <a:latin typeface="Arial"/>
              </a:rPr>
              <a:t>Auto Repair/steam cleaning</a:t>
            </a:r>
            <a:endParaRPr b="0" lang="en-US" sz="24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C878-AE02-44DF-800F-264E87BF35B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83f99"/>
                </a:solidFill>
                <a:latin typeface="Arial"/>
              </a:rPr>
              <a:t>Other Agency BMPs</a:t>
            </a: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Seattle Metropolitan/King County, WA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83f9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3f99"/>
                </a:solidFill>
                <a:latin typeface="Arial"/>
              </a:rPr>
              <a:t>Dental mercury BMPs</a:t>
            </a: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8708-211B-4B70-988F-D2CFCB8BB22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83f99"/>
                </a:solidFill>
                <a:latin typeface="Arial"/>
              </a:rPr>
              <a:t>Other Agency BMPs</a:t>
            </a: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Connecticut Dept of Env. Protection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83f9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3f99"/>
                </a:solidFill>
                <a:latin typeface="Arial"/>
              </a:rPr>
              <a:t>General Permits 18 sectors, each with BMPs:</a:t>
            </a: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83f99"/>
              </a:buClr>
              <a:buSzPct val="50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3f99"/>
                </a:solidFill>
                <a:latin typeface="Arial"/>
              </a:rPr>
              <a:t>Vehicle Service Floor Drain and Car Wash</a:t>
            </a:r>
            <a:endParaRPr b="0" lang="en-US" sz="2400" spc="-1" strike="noStrike">
              <a:solidFill>
                <a:srgbClr val="183f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83f99"/>
              </a:buClr>
              <a:buSzPct val="50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3f99"/>
                </a:solidFill>
                <a:latin typeface="Arial"/>
              </a:rPr>
              <a:t>Minor Photographic Processing</a:t>
            </a:r>
            <a:endParaRPr b="0" lang="en-US" sz="2400" spc="-1" strike="noStrike">
              <a:solidFill>
                <a:srgbClr val="183f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83f99"/>
              </a:buClr>
              <a:buSzPct val="50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3f99"/>
                </a:solidFill>
                <a:latin typeface="Arial"/>
              </a:rPr>
              <a:t>Minor Printing and Publishing</a:t>
            </a:r>
            <a:endParaRPr b="0" lang="en-US" sz="2400" spc="-1" strike="noStrike">
              <a:solidFill>
                <a:srgbClr val="183f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83f99"/>
              </a:buClr>
              <a:buSzPct val="50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3f99"/>
                </a:solidFill>
                <a:latin typeface="Arial"/>
              </a:rPr>
              <a:t>Food Processing</a:t>
            </a:r>
            <a:endParaRPr b="0" lang="en-US" sz="24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B8EB-3F92-4B4E-9F46-A44DAC874D5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83f99"/>
                </a:solidFill>
                <a:latin typeface="Arial"/>
              </a:rPr>
              <a:t>Benefits of BMPs</a:t>
            </a: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Includes more dischargers as “controlled” flow for local limits calculations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Efficient use of resources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Decreased discharge of pollutants to treatment plant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8030-6987-4BF7-AD36-9A1CEF872CC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-228600" y="914400"/>
          <a:ext cx="9372600" cy="57405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228600" y="914400"/>
                    <a:ext cx="9372600" cy="574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2B81-9477-4507-8C04-5947E321C51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83f99"/>
                </a:solidFill>
                <a:latin typeface="Arial"/>
                <a:ea typeface="Times New Roman"/>
              </a:rPr>
              <a:t>Presentation Overview</a:t>
            </a:r>
            <a:r>
              <a:rPr b="1" lang="en-US" sz="4000" spc="-1" strike="noStrike">
                <a:solidFill>
                  <a:srgbClr val="183f99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Definition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Industrial User BMPs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Zero Dischargers 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Commercial Program BMPs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Other agency BMPs 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Benefits of BMP Approach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8"/>
              </a:buBlip>
              <a:tabLst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Next Steps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4E2B-D075-4647-9BB1-24F6752E38E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83f99"/>
                </a:solidFill>
                <a:latin typeface="Arial"/>
                <a:ea typeface="Times New Roman"/>
              </a:rPr>
              <a:t>Next Steps</a:t>
            </a:r>
            <a:r>
              <a:rPr b="1" lang="en-US" sz="4000" spc="-1" strike="noStrike">
                <a:solidFill>
                  <a:srgbClr val="183f99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391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Expand BMP outreach to institutions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Track success of new commercial BMPs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Address emerging pollutants (PBDEs, EDCs, etc.)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38C5-B717-43D1-A577-5A5D1DF6C19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83f99"/>
                </a:solidFill>
                <a:latin typeface="Arial"/>
              </a:rPr>
              <a:t>Best Management Practices</a:t>
            </a: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057040"/>
            <a:ext cx="73915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Scheduled activities 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Prohibitions of practices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Maintenance procedures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Other management practices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183f99"/>
                </a:solidFill>
                <a:latin typeface="Arial"/>
              </a:rPr>
              <a:t>To prevent or reduce pollution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Also includes treatment requirements, sludge or waste disposal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76F3-594A-44DB-BFD4-7EDB0186027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560" y="6094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3f99"/>
                </a:solidFill>
                <a:latin typeface="Arial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183f99"/>
                </a:solidFill>
                <a:latin typeface="Arial"/>
                <a:ea typeface="Times New Roman"/>
              </a:rPr>
              <a:t>Industrial User BMPs</a:t>
            </a:r>
            <a:endParaRPr b="1" lang="en-US" sz="36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739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3f99"/>
                </a:solidFill>
                <a:latin typeface="Arial"/>
              </a:rPr>
              <a:t>BMPs incorporated into permits</a:t>
            </a: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3f99"/>
                </a:solidFill>
                <a:latin typeface="Arial"/>
              </a:rPr>
              <a:t>Permit conditions:</a:t>
            </a: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183f9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3f99"/>
                </a:solidFill>
                <a:latin typeface="Arial"/>
              </a:rPr>
              <a:t>Practice pollution prevention techniques to reduce or eliminate pollutants and recycle wastes</a:t>
            </a:r>
            <a:endParaRPr b="0" lang="en-US" sz="2400" spc="-1" strike="noStrike">
              <a:solidFill>
                <a:srgbClr val="183f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183f9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3f99"/>
                </a:solidFill>
                <a:latin typeface="Arial"/>
              </a:rPr>
              <a:t>Identify P2 opportunities:</a:t>
            </a:r>
            <a:endParaRPr b="0" lang="en-US" sz="2400" spc="-1" strike="noStrike">
              <a:solidFill>
                <a:srgbClr val="183f99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183f99"/>
              </a:buClr>
              <a:buSzPct val="50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83f99"/>
                </a:solidFill>
                <a:latin typeface="Arial"/>
              </a:rPr>
              <a:t>Improved operating practices</a:t>
            </a:r>
            <a:endParaRPr b="0" lang="en-US" sz="1800" spc="-1" strike="noStrike">
              <a:solidFill>
                <a:srgbClr val="183f99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183f99"/>
              </a:buClr>
              <a:buSzPct val="50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83f99"/>
                </a:solidFill>
                <a:latin typeface="Arial"/>
              </a:rPr>
              <a:t>Material/product substitution</a:t>
            </a:r>
            <a:endParaRPr b="0" lang="en-US" sz="1800" spc="-1" strike="noStrike">
              <a:solidFill>
                <a:srgbClr val="183f99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183f99"/>
              </a:buClr>
              <a:buSzPct val="50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83f99"/>
                </a:solidFill>
                <a:latin typeface="Arial"/>
              </a:rPr>
              <a:t>Technology and process modification</a:t>
            </a:r>
            <a:endParaRPr b="0" lang="en-US" sz="1800" spc="-1" strike="noStrike">
              <a:solidFill>
                <a:srgbClr val="183f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3f99"/>
                </a:solidFill>
                <a:latin typeface="Arial"/>
              </a:rPr>
              <a:t>Document P2 opportunities and update to reflect actions implemented</a:t>
            </a: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7466-E4AF-4F01-B87A-B23178F2382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83f99"/>
                </a:solidFill>
                <a:latin typeface="Arial"/>
                <a:ea typeface="Times New Roman"/>
              </a:rPr>
              <a:t>Industrial User BMPs</a:t>
            </a: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Some federal categories have BMP option to meet prescribed categorical requirements: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83f9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3f99"/>
                </a:solidFill>
                <a:latin typeface="Arial"/>
              </a:rPr>
              <a:t>Transportation Equipment Cleaning Pollutant Management Plan</a:t>
            </a: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83f9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3f99"/>
                </a:solidFill>
                <a:latin typeface="Arial"/>
              </a:rPr>
              <a:t>Inspection checklist to confirm implementation</a:t>
            </a: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Must comply with local limits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0DFD-7561-4917-B34D-E27542C3727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83f99"/>
                </a:solidFill>
                <a:latin typeface="Arial"/>
                <a:ea typeface="Times New Roman"/>
              </a:rPr>
              <a:t>Industrial User BMPs</a:t>
            </a: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BMP Compliance 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183f9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3f99"/>
                </a:solidFill>
                <a:latin typeface="Arial"/>
              </a:rPr>
              <a:t>Inspections include BMP compliance review</a:t>
            </a: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183f9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3f99"/>
                </a:solidFill>
                <a:latin typeface="Arial"/>
              </a:rPr>
              <a:t>Cannot assess “remotely”</a:t>
            </a: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183f9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3f99"/>
                </a:solidFill>
                <a:latin typeface="Arial"/>
              </a:rPr>
              <a:t>Not always occurring during inspection</a:t>
            </a: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183f9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3f99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183f99"/>
                </a:solidFill>
                <a:latin typeface="Arial"/>
              </a:rPr>
              <a:t>Best behavior” during inspection</a:t>
            </a: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3f99"/>
                </a:solidFill>
                <a:latin typeface="Arial"/>
              </a:rPr>
              <a:t>BMP Enforcement</a:t>
            </a:r>
            <a:endParaRPr b="0" lang="en-US" sz="3200" spc="-1" strike="noStrike">
              <a:solidFill>
                <a:srgbClr val="183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183f9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3f99"/>
                </a:solidFill>
                <a:latin typeface="Arial"/>
              </a:rPr>
              <a:t>Not analogous to numerical limits SNC</a:t>
            </a: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34A7-344B-43FE-99A8-A89AB507664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371600" y="990720"/>
            <a:ext cx="6710400" cy="5030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F955-6980-4507-80B0-69810413728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83f99"/>
                </a:solidFill>
                <a:latin typeface="Arial"/>
                <a:ea typeface="Times New Roman"/>
              </a:rPr>
              <a:t>Zero Dischargers</a:t>
            </a:r>
            <a:endParaRPr b="1" lang="en-US" sz="40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3f99"/>
                </a:solidFill>
                <a:latin typeface="Arial"/>
              </a:rPr>
              <a:t>CIUs/SIUs that discontinue regulated process discharge</a:t>
            </a: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3f99"/>
                </a:solidFill>
                <a:latin typeface="Arial"/>
              </a:rPr>
              <a:t>Fee/monitoring incentives</a:t>
            </a: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3f99"/>
                </a:solidFill>
                <a:latin typeface="Arial"/>
              </a:rPr>
              <a:t>EBMUD:  24 ZDs, 13 Discharging CIUs</a:t>
            </a: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3f99"/>
                </a:solidFill>
                <a:latin typeface="Arial"/>
              </a:rPr>
              <a:t>BMPs</a:t>
            </a: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183f9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3f99"/>
                </a:solidFill>
                <a:latin typeface="Arial"/>
              </a:rPr>
              <a:t>Closed-loop/recycled rinses</a:t>
            </a:r>
            <a:endParaRPr b="0" lang="en-US" sz="2400" spc="-1" strike="noStrike">
              <a:solidFill>
                <a:srgbClr val="183f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183f9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3f99"/>
                </a:solidFill>
                <a:latin typeface="Arial"/>
              </a:rPr>
              <a:t>Evaporators</a:t>
            </a:r>
            <a:endParaRPr b="0" lang="en-US" sz="2400" spc="-1" strike="noStrike">
              <a:solidFill>
                <a:srgbClr val="183f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3f99"/>
                </a:solidFill>
                <a:latin typeface="Arial"/>
              </a:rPr>
              <a:t>Complex relationship to local limits calculations</a:t>
            </a:r>
            <a:endParaRPr b="0" lang="en-US" sz="2800" spc="-1" strike="noStrike">
              <a:solidFill>
                <a:srgbClr val="183f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183f9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3f99"/>
                </a:solidFill>
                <a:latin typeface="Arial"/>
              </a:rPr>
              <a:t>40,000 gpd to zero discharge</a:t>
            </a:r>
            <a:endParaRPr b="0" lang="en-US" sz="2400" spc="-1" strike="noStrike">
              <a:solidFill>
                <a:srgbClr val="183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3643-8E37-4E2D-85EF-0DB747E8DF1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2362320" y="533520"/>
          <a:ext cx="5091120" cy="61671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62320" y="533520"/>
                    <a:ext cx="5091120" cy="61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AE74-5534-4B38-BEAD-32EB224DA38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3T14:13:24Z</dcterms:created>
  <dc:creator>ISD</dc:creator>
  <dc:description/>
  <dc:language>en-US</dc:language>
  <cp:lastModifiedBy>Gayle Tupper</cp:lastModifiedBy>
  <dcterms:modified xsi:type="dcterms:W3CDTF">2004-10-25T19:20:49Z</dcterms:modified>
  <cp:revision>118</cp:revision>
  <dc:subject/>
  <dc:title>RELIABILITY-CENTERED MAINTENANCE (RCM)</dc:title>
</cp:coreProperties>
</file>