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895-7C37-4F17-81A7-87C90D6A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63780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157-0C73-437A-B37E-181552E9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1E9-7BFD-4833-8F6B-D00823C8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DBD-3166-4F68-A95A-A35A46F9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2351-AD59-4B59-84F8-97E6F0FB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A885-79FC-42B2-904B-53399F2D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CDD8-EE06-411A-BB0A-12C34B5E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2279-4432-4DEF-B3D4-8CAB282E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0F86-F264-4ED8-B598-5E6EDDDC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1832-D374-48EB-AA55-9239650C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C5DE-8F78-4167-B8B9-0279865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39F-D2B7-4BE6-B058-DECECC36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5263-C049-41EE-A862-FF3C14EB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615A-5817-4A1D-95C7-6B5C305E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63780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1624-21BD-4EDA-A7E4-BC5C505B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C555-95A4-4A70-9FA0-E7B6AC0D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A305-E376-4A0E-84BA-2163F679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178-BADC-441A-8F51-4AAD5D95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48A-3377-4BB7-BAE5-3D4A19C4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4CB-A20E-4D39-A64E-B8F816CB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F41-80CE-4601-AFA3-6BEDC18B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F8E-816F-473D-84A2-8500FE04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37E-346F-4375-905D-CB1EAD5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D14-6142-40F5-8D4D-1F3E7D1B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30456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23920" indent="-2224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45396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455760">
              <a:spcBef>
                <a:spcPts val="799"/>
              </a:spcBef>
              <a:buClr>
                <a:srgbClr val="868686"/>
              </a:buClr>
              <a:buFont typeface="Tahoma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457200">
              <a:spcBef>
                <a:spcPts val="799"/>
              </a:spcBef>
              <a:buClr>
                <a:srgbClr val="868686"/>
              </a:buClr>
              <a:buFont typeface="Tahoma"/>
              <a:buChar char="–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45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45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2481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fld id="{6F021114-AC99-452B-9B9F-117F552E51B4}" type="slidenum">
              <a:rPr b="1" i="1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1828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9B19-AD18-4821-82C7-DE00F20902D0}" type="slidenum">
              <a:rPr b="0" lang="en-US" sz="1400" spc="-1" strike="noStrike">
                <a:solidFill>
                  <a:srgbClr val="39393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91520" y="6227640"/>
            <a:ext cx="1447560" cy="554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BBAF-BBAE-446E-9FB0-D119422108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508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22824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irport Discharge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One POTW’s Persp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u Kollias, P.E., D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sst. Chief Engine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&amp;D Dept. – MWRDG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004 Pretreatment Coordinators Worksho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folk, Virgi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ctober 28,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NOR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directed to MWRDGC Inter-ceptor   November 1 through April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directed to waterw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y 1 through October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to occur during low flows and dry weather peri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NOR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inuous flow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inuous automatic samp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(2000 - 20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olume - 52.5 to 611 million gall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D - 172 to 529 m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S - 27 to 52 m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08200" indent="-808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RTH AIR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er Charges (2000 - 2003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$52,860 - $712,70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istently meet Local Lim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irport deicing discharges to MWRDGC have resulted in no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stantial User Charges have been recov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irport and MWRDGC have a good working relation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JOR AIRPORTS WITHIN MWRDG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RISDI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ity of Chicago - O’Hare Air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ity of Chicago - Midway Air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’HARE AIRPOR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•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roximately 7,700 ac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•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ke O’Hare/South Air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•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rth Air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LAKE O’HARE/SOU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orm drainage reservo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roximately 100 ac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pacity - 400,000,000 gall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ormwater runoff from ramps, runways, and taxi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icing runoff from terminals, aprons, runways, taxiways, and holding p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LAKE O’HARE/SOU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 - Three oil/water separators/ clar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directed to MWRDGC Inter-ceptor or TAR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vember 1 through April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directed to waterw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y 1 through October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to occur during low flows and dry weather peri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LAKE O’HARE/SOU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inuous flow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inuous automatic samp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(1999 - 20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olume - 817 to 1407 million gall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D      - 393 to 687 m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S         - 26 to 41 m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08200" indent="-808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KE O’HARE/SOUTH AIR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er Charges (1999 - 2003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$861,402 - $2,107,2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istently meet Local Lim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WRDGC SEWAGE AND WASTE CONTROL ORDINANCE (LOCAL LIMI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dmium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romium (Total)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5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romium (Hexavalent)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10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pper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3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yanide (Total)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ts, oils and greases (Total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250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ron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250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a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0.5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rcury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0.0005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icke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10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inc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 range - not lower than 5.0 or greater than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NOR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ree-cell reservoir storm drainage fac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roximately 30 ac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pacity - 105,000,000 gall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ormwater runoff from runways and taxi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icing runoff from runways, taxiways, and holding p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7:07:46Z</dcterms:created>
  <dc:creator>KartheiserG</dc:creator>
  <dc:description/>
  <dc:language>en-US</dc:language>
  <cp:lastModifiedBy>SmithJ1</cp:lastModifiedBy>
  <cp:lastPrinted>2004-10-22T19:01:51Z</cp:lastPrinted>
  <dcterms:modified xsi:type="dcterms:W3CDTF">2004-10-22T19:04:17Z</dcterms:modified>
  <cp:revision>480</cp:revision>
  <dc:subject/>
  <dc:title>Federal Water Pollution Control Act Amendments of 1972</dc:title>
</cp:coreProperties>
</file>