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6F2-7D4E-439A-852C-2567090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EA9-B75B-4C3B-A793-EDD3C4C7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E4A-6EF5-44DB-A5B0-009FD2FE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43A-6146-4C4F-A709-55BF0A3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4B3C-97B0-4D13-BDDB-0B3C8FF9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F2C7-92D7-4E06-BA96-F7967605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156-A45F-49DC-8BD4-8818047E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F15B-2771-4583-8513-0E0389D6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A5D-5171-426C-B846-7E3F0F48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FE9-C18E-414D-9EB3-06BBAAA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47C1-0D3A-400E-B846-43E40C8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933-D8E1-4A6D-99DC-EF752290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01C-D59F-43E2-9B8F-1046915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6012-6A40-4B69-B3C6-A789057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CB47-41F7-49EB-8DFF-7E3C6F36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A723-2587-4890-B113-217C5A1C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30456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637800"/>
            <a:ext cx="27478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FC1-95FE-4726-9EE0-1BE068D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0C0-F5FD-4D42-9CC8-DE07C40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88C-6C43-4E78-ADF6-2962D8AE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345-28B0-4F24-8E74-C636254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D55-DC2B-4CCE-B491-8ED60AC0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092-A5D9-4112-8BD3-BF84A7E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3780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63A-10F5-4701-BB88-4D932116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304560"/>
            <a:ext cx="416448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637800"/>
            <a:ext cx="8534160" cy="30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504-DE1B-4BCF-BB64-1A67DC5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304560"/>
            <a:ext cx="853416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23920" indent="-2224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45396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45576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4572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45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45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1448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2481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fld id="{C87567F6-0647-463A-9EE4-11BE594115B1}" type="slidenum">
              <a:rPr b="1" i="1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1828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F47-A7E6-41A7-B369-D821CC1BC6F4}" type="slidenum">
              <a:rPr b="0" lang="en-US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91520" y="6227640"/>
            <a:ext cx="1447560" cy="554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064-9556-43A6-9E58-BCDBEF66A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508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22824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irport Discharge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One POTW’s Persp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u Kollias, P.E., D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st. Chief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&amp;D Dept. – MWRDG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004 Pretreatment Coordinators Worksh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folk, Virgi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ctober 28,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22824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MWRDGC Inter-ceptor   November 1 through April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waterw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1 through October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to occur during low flows and dry weather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flow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automatic 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(2000 - 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ume - 52.5 to 611 million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D - 172 to 529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S - 27 to 52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harges (2000 - 2003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52,860 - $712,7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stently meet Local 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port deicing discharges to MWRDGC have resulted in no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stantial User Charges have been recov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port and MWRDGC have a good working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JOR AIRPORTS WITHIN MWRD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ity of Chicago - O’Hare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ity of Chicago - Midway Air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’HARE AIRPO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7,70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•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 drainage reservo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10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acity - 400,000,000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water runoff from ramps, runways, and taxi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icing runoff from terminals, aprons, runways, taxiways, and holding p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 - Three oil/water separators/ clar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MWRDGC Inter-ceptor or TAR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vember 1 through April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directed to waterw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1 through October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to occur during low flows and dry weather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flow meas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inuous automatic 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harge (1999 - 200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ume - 817 to 1407 million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D      - 393 to 687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S         - 26 to 41 m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KE O’HARE/SOUTH AIRFI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r Charges (1999 - 2003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$861,402 - $2,107,2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stently meet Local Lim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08200" indent="-80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WRDGC SEWAGE AND WASTE CONTROL ORDINANCE (LOCAL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dmium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romium (Total)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romium (Hexavalent)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1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pper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3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yanide (Total)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ts, oils and greases (Total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25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ron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25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0.5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rcur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0.0005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ick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10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inc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.0 mg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dec" pos="600408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 range - not lower than 5.0 or greater than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17884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5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99960"/>
            <a:ext cx="81788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5720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04920"/>
            <a:ext cx="817884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NORTH AIRFIEL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-cell reservoir storm drainage fac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ximately 30 ac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pacity - 105,000,000 gall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ormwater runoff from runways and taxi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icing runoff from runways, taxiways, and holding p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7:07:46Z</dcterms:created>
  <dc:creator>KartheiserG</dc:creator>
  <dc:description/>
  <dc:language>en-US</dc:language>
  <cp:lastModifiedBy>SmithJ1</cp:lastModifiedBy>
  <cp:lastPrinted>2004-10-22T19:01:51Z</cp:lastPrinted>
  <dcterms:modified xsi:type="dcterms:W3CDTF">2004-10-22T19:04:17Z</dcterms:modified>
  <cp:revision>480</cp:revision>
  <dc:subject/>
  <dc:title>Federal Water Pollution Control Act Amendments of 1972</dc:title>
</cp:coreProperties>
</file>