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1.wmf" ContentType="image/x-wmf"/>
  <Override PartName="/ppt/media/image3.png" ContentType="image/png"/>
  <Override PartName="/ppt/media/image23.gif" ContentType="image/gif"/>
  <Override PartName="/ppt/media/image26.png" ContentType="image/png"/>
  <Override PartName="/ppt/media/image13.wmf" ContentType="image/x-wmf"/>
  <Override PartName="/ppt/media/image10.gif" ContentType="image/gif"/>
  <Override PartName="/ppt/media/image8.png" ContentType="image/png"/>
  <Override PartName="/ppt/media/image16.wmf" ContentType="image/x-wmf"/>
  <Override PartName="/ppt/media/image7.wmf" ContentType="image/x-wmf"/>
  <Override PartName="/ppt/media/image9.wmf" ContentType="image/x-wmf"/>
  <Override PartName="/ppt/media/image6.gif" ContentType="image/gif"/>
  <Override PartName="/ppt/media/image17.wmf" ContentType="image/x-wmf"/>
  <Override PartName="/ppt/media/image24.gif" ContentType="image/gif"/>
  <Override PartName="/ppt/media/image22.wmf" ContentType="image/x-wmf"/>
  <Override PartName="/ppt/media/image5.wmf" ContentType="image/x-wmf"/>
  <Override PartName="/ppt/media/image20.gif" ContentType="image/gif"/>
  <Override PartName="/ppt/media/image15.wmf" ContentType="image/x-wmf"/>
  <Override PartName="/ppt/media/image1.jpeg" ContentType="image/jpeg"/>
  <Override PartName="/ppt/media/image4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14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2F80-3F1A-4E91-AC8A-C712C583E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C97D-DFDE-472E-A109-1F654E97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E206-536D-4C47-9586-3C8FF93FA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56B0-DDE3-4B22-AD3D-D07DA1531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4B88-241D-43B9-9001-ECEDCBD8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506A-00CA-42F4-9030-5D4974F1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6BA2-5D07-4270-8870-CAFC9FAB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4CF6-551F-4493-A858-B24C1739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7D48-F904-4739-A891-04A4FF99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BDF0-3DAF-4F6F-A57A-B717DDB9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64D0-3F36-49F5-B5BB-CD96B489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DB09-4094-45AE-B12D-D74E1A01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ED1E-2E18-48C4-A9BC-4E351ECB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A942-4D5F-438F-A233-BDB76899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FA0E-D117-43A4-9A41-5FC25BE0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B631-D24D-494A-A122-DA1F23311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CAA3-CE48-4C3A-A682-2A510E436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7B54-2186-40DA-9928-BFE34C47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2DFF-ADB0-4790-AF6B-765DBA43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06E9-51D6-4E12-93E0-D5688D26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FE58-80F5-416C-8FFA-B3663567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5565-5903-4AFA-8C41-6C5D3094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3FFB-03C8-4F6F-AE7D-00BDC6FE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2A84-4728-48D7-AAC0-6FB0F3AF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D78F-B139-4D2B-80AF-D5DF3185686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6C1E-D3FC-41E7-B856-3D48C98B378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4419720"/>
            <a:ext cx="8001000" cy="374040"/>
            <a:chOff x="609480" y="4419720"/>
            <a:chExt cx="8001000" cy="374040"/>
          </a:xfrm>
        </p:grpSpPr>
        <p:sp>
          <p:nvSpPr>
            <p:cNvPr id="58" name=""/>
            <p:cNvSpPr/>
            <p:nvPr/>
          </p:nvSpPr>
          <p:spPr>
            <a:xfrm>
              <a:off x="609480" y="4565520"/>
              <a:ext cx="8001000" cy="228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4419720"/>
              <a:ext cx="7843680" cy="27756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44892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456552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46414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44748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45511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462744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gi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2133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Reducing Mercury Discharges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1779840" cy="1800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04920" y="4876920"/>
            <a:ext cx="861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lizabeth R. Toot-Lev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rtheast Ohio Regional Sewer Distric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3200400"/>
            <a:ext cx="609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st Management Practices for Hospit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ducation Progra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ducate Staff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per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U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per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DISPOS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utside Contracto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w Personn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ntal Clin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l hospital dental clinics must be in compliance with the NEORSD dental program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971800" y="2819520"/>
            <a:ext cx="25606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licy Commit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spital Policies supporting the use of BMP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cility wide commit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8120" y="3352680"/>
            <a:ext cx="335268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limination or Proper Stora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liminate wherever possi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hase in alternativ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ceptab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conomically feasib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per Stor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n-breakable contain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irtight lid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early label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rmometers, Sphygmomanometers and Gastrointestinal Tub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2743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place where appropriate and feasi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cycling/Dispos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886200" y="4038480"/>
            <a:ext cx="2895480" cy="2271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086600" y="1143000"/>
            <a:ext cx="1905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harmaceutical and/or Laboratory Suppl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sure proper disposal of any mercury-containing pharmaceutical or laboratory suppl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752840" cy="13208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7696080" y="533520"/>
            <a:ext cx="906480" cy="14475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105520" y="4800600"/>
            <a:ext cx="1231920" cy="1770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380880" y="3505320"/>
            <a:ext cx="2087640" cy="2176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3962520" y="2819520"/>
            <a:ext cx="1274760" cy="1711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2743200" y="4191120"/>
            <a:ext cx="1620720" cy="2350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6781680" y="3200400"/>
            <a:ext cx="207972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commended BMP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rchasing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witch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lumb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borator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merosal-fre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ye pressure reduc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-5 fixativ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bel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EPA – “Mercury Challenge’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rmomet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w par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atter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mp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aromet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aste Separation and Recycl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sposal Protoco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hree – Monitoring Require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nce per month for initial six month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rab samp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PA analytical Method 24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on-detec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PA analytical Method 1631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itial monitoring to develop long-term pl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934320" y="4843440"/>
            <a:ext cx="161604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Four – Reporting Require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nual Repor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nitoring Resul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pdated Invento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mmary of Effectiven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pdates to BMP pla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rrespondence indicating complia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162920" y="3886200"/>
            <a:ext cx="13143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Five – Violation Charg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ilure to comp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dministrative Ord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ORSD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Code of Regula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971800" y="3809880"/>
            <a:ext cx="363852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itial Step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did we get here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ntal Program fully initia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spitals next focu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4 major facil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Big Thre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90720" y="4648320"/>
          <a:ext cx="176184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648320"/>
                    <a:ext cx="176184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886200" y="4724280"/>
          <a:ext cx="1762200" cy="19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4724280"/>
                    <a:ext cx="17622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7086600" y="4648320"/>
          <a:ext cx="1762200" cy="19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17622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Six – Special Condi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opener Clau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difications to NEORSD Code of Regula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pliance Schedu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30 days to negotiate modifications to A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90 days to draft BMP pla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20 days to final BMP plan and start of initial sampl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80 days of initial sampl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30 days Sampling Plan due to NEORS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ere we stand toda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received draft BMP plans from 14 hospit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received final BMP plans from 5 hospit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arying Resul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458200" cy="63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spital Administrative Ord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rt One – Process/Operational Descrip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rt Two – BMP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rt Three – Monitoring Require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rt Four – Reporting Require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rt Five – Violation Charg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rt Six – Special Condi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 – Process/Operational Descrip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scharge is regulated by the NEORSD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Code of Regulation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pliance with limitations required under 40 CFR 403 – General Pretreatment Regulations for Existing and New Sources of Pollu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scharge point(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8320" y="4495680"/>
            <a:ext cx="215100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wo - BMP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eam for developing the BMP pl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ventory of potential mercury sour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urren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as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BMPs for mercu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dentification of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New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BMP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chedu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thods to measure progr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172200" y="3809880"/>
            <a:ext cx="274320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ndatory BMP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rcury Invento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per Dispos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rcury Spill Progra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ducation Progra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ntal Clinic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licy Commit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0560" y="1665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limin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per Stor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rmomet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hygmomanomet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astrointestinal tub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harmaceutical and/or Laboratory Suppl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rcury Inven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98040" y="1665360"/>
            <a:ext cx="53341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tential Sources in Hospit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udits to evaluate progr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ck this progr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029200" y="3065400"/>
            <a:ext cx="3695760" cy="3411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914400" y="3581280"/>
            <a:ext cx="3505320" cy="29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334120" y="228600"/>
            <a:ext cx="3524040" cy="60958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per Dispos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YE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cycl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azardous Waste Dispos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NO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dical Red Ba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harps Contain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791240" y="1371600"/>
            <a:ext cx="435276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rcury Spill Progra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pill Ki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ining on use of Ki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cumentation of Spills or Breakag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505320" y="3886200"/>
            <a:ext cx="205740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17:56:09Z</dcterms:created>
  <dc:creator>Elizabeth R. Toot</dc:creator>
  <dc:description/>
  <dc:language>en-US</dc:language>
  <cp:lastModifiedBy>shawnita dickens</cp:lastModifiedBy>
  <dcterms:modified xsi:type="dcterms:W3CDTF">2004-10-18T13:44:31Z</dcterms:modified>
  <cp:revision>37</cp:revision>
  <dc:subject/>
  <dc:title>Hospital Administrative Orders</dc:title>
</cp:coreProperties>
</file>