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wmf" ContentType="image/x-wmf"/>
  <Override PartName="/ppt/media/image3.png" ContentType="image/png"/>
  <Override PartName="/ppt/media/image23.gif" ContentType="image/gif"/>
  <Override PartName="/ppt/media/image26.png" ContentType="image/png"/>
  <Override PartName="/ppt/media/image13.wmf" ContentType="image/x-wmf"/>
  <Override PartName="/ppt/media/image10.gif" ContentType="image/gif"/>
  <Override PartName="/ppt/media/image8.png" ContentType="image/png"/>
  <Override PartName="/ppt/media/image16.wmf" ContentType="image/x-wmf"/>
  <Override PartName="/ppt/media/image7.wmf" ContentType="image/x-wmf"/>
  <Override PartName="/ppt/media/image9.wmf" ContentType="image/x-wmf"/>
  <Override PartName="/ppt/media/image6.gif" ContentType="image/gif"/>
  <Override PartName="/ppt/media/image17.wmf" ContentType="image/x-wmf"/>
  <Override PartName="/ppt/media/image24.gif" ContentType="image/gif"/>
  <Override PartName="/ppt/media/image22.wmf" ContentType="image/x-wmf"/>
  <Override PartName="/ppt/media/image5.wmf" ContentType="image/x-wmf"/>
  <Override PartName="/ppt/media/image20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9B4-287A-4E90-92B0-6464AAFE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C84-64F7-457C-851E-F391FA95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47E-8762-426E-BA30-3AF424B2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6E6-7EC8-4C47-9D86-20AD3455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876E-1FBA-41F5-B31C-7E8451E3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EEA1-6432-4F42-A3E7-69F974BF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6BAD-8A61-4010-AD1A-906F6132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2CFA-343B-4F7E-855B-1E56D187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A892-3923-46A8-B9B3-3DDB3B8C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7D9C-25C9-4B1F-A897-ECE2D479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BFA9-ACE9-4410-8000-37E17789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5D1-A8B6-4349-B5F0-E06FD299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6285-2B19-4A69-AD06-11E96702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A130-F6DC-490E-85AB-BECC80BE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5013-755C-4ED2-AA71-F446FACA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EB80-AFD5-43B1-BFE8-AB2CF727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0680-9A8C-4554-B459-63639128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C93-8CC7-4488-9208-F76D7AAE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D62-05D8-4008-9B19-B082AA4E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55C-2E6A-4AA7-A40D-ABD57909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427-D807-4543-8D6C-66CD7007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CCC-5315-4D83-A7B6-AF4B61CF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9C1-35F0-4A27-964B-4E4770B8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7C9-2E74-46A5-97D0-63F497E4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CF5B-AF01-42B9-A6CB-3608B883A0E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B156-1F71-4B69-B2C8-EB6242823D6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4419720"/>
            <a:ext cx="8001000" cy="374040"/>
            <a:chOff x="609480" y="4419720"/>
            <a:chExt cx="8001000" cy="374040"/>
          </a:xfrm>
        </p:grpSpPr>
        <p:sp>
          <p:nvSpPr>
            <p:cNvPr id="58" name=""/>
            <p:cNvSpPr/>
            <p:nvPr/>
          </p:nvSpPr>
          <p:spPr>
            <a:xfrm>
              <a:off x="609480" y="4565520"/>
              <a:ext cx="8001000" cy="228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4419720"/>
              <a:ext cx="7843680" cy="2775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44892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456552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46414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44748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45511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462744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gi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33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Reducing Mercury Discharge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1779840" cy="1800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920" y="487692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izabeth R. Toot-Lev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rtheast Ohio Regional Sewer Distri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2004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st Management Practices for Hospit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ducation Progra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ducate Staff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ISPOS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side Contrac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Personn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ntal Clin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hospital dental clinics must be in compliance with the NEORSD dental progra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25606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licy Commit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spital Policies supporting the use of BMP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cility wide commit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3352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limination or Proper Stor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iminate wherever poss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ase in alterna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pt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onomically feasi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per Sto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n-breakable contain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irtight li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early label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rmometers, Sphygmomanometers and Gastrointestinal Tub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lace where appropriate and feas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ycling/Dispos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86200" y="4038480"/>
            <a:ext cx="2895480" cy="2271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086600" y="114300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armaceutical and/or Laboratory Suppl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sure proper disposal of any mercury-containing pharmaceutical or laboratory supp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752840" cy="1320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906480" cy="1447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105520" y="4800600"/>
            <a:ext cx="1231920" cy="1770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80880" y="3505320"/>
            <a:ext cx="2087640" cy="2176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3962520" y="2819520"/>
            <a:ext cx="1274760" cy="1711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2743200" y="4191120"/>
            <a:ext cx="1620720" cy="2350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781680" y="3200400"/>
            <a:ext cx="20797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commended BM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rchasing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witch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umb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borator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merosal-fre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ye pressure reduc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-5 fixat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be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EPA – “Mercury Challenge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mome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 par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tter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mp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rome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ste Separation and Recyc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posal Protoc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hree – Monitoring Requir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ce per month for initial six mon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ab sam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PA analytical Method 2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n-det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PA analytical Method 163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itial monitoring to develop long-term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934320" y="4843440"/>
            <a:ext cx="16160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our – Reporting Requir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nual Repor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itoring Resul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pdated Inven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mary of Effective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pdates to BMP pl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rrespondence indicating compli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162920" y="3886200"/>
            <a:ext cx="131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ive – Violation Char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ilure to comp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ministrative Or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ORS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ode of Regul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971800" y="3809880"/>
            <a:ext cx="36385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itial Ste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did we get her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ntal Program fully initi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spitals next foc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4 major fac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ig Thre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90720" y="4648320"/>
          <a:ext cx="176184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17618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886200" y="4724280"/>
          <a:ext cx="176220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4724280"/>
                    <a:ext cx="17622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086600" y="4648320"/>
          <a:ext cx="17622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17622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Six – Special Condi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opener Cla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difications to NEORSD Code of Regul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iance Schedu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0 days to negotiate modifications to A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90 days to draft BMP pl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20 days to final BMP plan and start of initial samp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0 days of initial sampl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0 days Sampling Plan due to NEORS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we stand toda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received draft BMP plans from 14 hospit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received final BMP plans from 5 hospit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ying Resul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spital Administrative Or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 One – Process/Operational Descrip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 Two – BMP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 Three – Monitoring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 Four – Reporting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 Five – Violation Char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 Six – Special Condi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 – Process/Operational Descri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harge is regulated by the NEORSD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de of Regulation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iance with limitations required under 40 CFR 403 – General Pretreatment Regulations for Existing and New Sources of Pollu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harge point(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4495680"/>
            <a:ext cx="2151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 - BM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am for developing the BMP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ventory of potential mercury 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as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BMPs for mercu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ication of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BMP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edu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thods to measure prog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72200" y="3809880"/>
            <a:ext cx="27432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datory BM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rcury Inven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Dispos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rcury Spill Progr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ducation Progr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ntal Clini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licy Commit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imi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Stor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mome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hygmomanome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astrointestinal tub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armaceutical and/or Laboratory Suppl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rcury Inven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8040" y="1665360"/>
            <a:ext cx="5334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tential Sources in Hospi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dits to evaluate prog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ck this prog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29200" y="3065400"/>
            <a:ext cx="3695760" cy="3411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14400" y="3581280"/>
            <a:ext cx="350532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34120" y="228600"/>
            <a:ext cx="3524040" cy="60958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er Dispos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Y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yc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zardous Waste Dispos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N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dical Red Ba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arps Contain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91240" y="1371600"/>
            <a:ext cx="435276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rcury Spill Progra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ill Ki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ining on use of Ki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cumentation of Spills or Breaka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20574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7:56:09Z</dcterms:created>
  <dc:creator>Elizabeth R. Toot</dc:creator>
  <dc:description/>
  <dc:language>en-US</dc:language>
  <cp:lastModifiedBy>shawnita dickens</cp:lastModifiedBy>
  <dcterms:modified xsi:type="dcterms:W3CDTF">2004-10-18T13:44:31Z</dcterms:modified>
  <cp:revision>37</cp:revision>
  <dc:subject/>
  <dc:title>Hospital Administrative Orders</dc:title>
</cp:coreProperties>
</file>