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whoosh.wav" ContentType="audio/x-wav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2200" y="1257480"/>
            <a:ext cx="839016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2200" y="3784680"/>
            <a:ext cx="839016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2200" y="12574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1680" y="12574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2200" y="37846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1680" y="37846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2200" y="1257480"/>
            <a:ext cx="270144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9000" y="1257480"/>
            <a:ext cx="270144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6160" y="1257480"/>
            <a:ext cx="270144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2200" y="3784680"/>
            <a:ext cx="270144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9000" y="3784680"/>
            <a:ext cx="270144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6160" y="3784680"/>
            <a:ext cx="270144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2200" y="1257480"/>
            <a:ext cx="8390160" cy="48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2200" y="1257480"/>
            <a:ext cx="8390160" cy="48384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2200" y="1257480"/>
            <a:ext cx="4094280" cy="48384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1680" y="1257480"/>
            <a:ext cx="4094280" cy="48384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2200" y="75960"/>
            <a:ext cx="84456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2200" y="12574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257480"/>
            <a:ext cx="4094280" cy="48384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2200" y="37846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2200" y="1257480"/>
            <a:ext cx="4094280" cy="48384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1680" y="12574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1680" y="37846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2200" y="12574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1680" y="1257480"/>
            <a:ext cx="409428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2200" y="3784680"/>
            <a:ext cx="8390160" cy="2307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2200" y="75960"/>
            <a:ext cx="8445600" cy="1119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900" spc="-1" strike="noStrike">
                <a:solidFill>
                  <a:srgbClr val="55ffa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2200" y="1257480"/>
            <a:ext cx="8390160" cy="48384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5840" indent="-183960">
              <a:spcBef>
                <a:spcPts val="601"/>
              </a:spcBef>
              <a:buClr>
                <a:srgbClr val="55ffa5"/>
              </a:buClr>
              <a:buSzPct val="75000"/>
              <a:buFont typeface="Arial Narrow"/>
              <a:buChar char="–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18252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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49520" indent="-184320">
              <a:spcBef>
                <a:spcPts val="601"/>
              </a:spcBef>
              <a:buClr>
                <a:srgbClr val="55ffa5"/>
              </a:buClr>
              <a:buFont typeface="Monotype Sorts" charset="2"/>
              <a:buChar char="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49520" indent="-1843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49520" indent="-1843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066680"/>
            <a:ext cx="83944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6324480"/>
            <a:ext cx="71629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3880" y="6400800"/>
            <a:ext cx="71629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65040" y="6176880"/>
            <a:ext cx="1123920" cy="3636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457840" y="6667560"/>
            <a:ext cx="394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63.p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676520"/>
            <a:ext cx="8445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4000" spc="-1" strike="noStrike">
                <a:solidFill>
                  <a:srgbClr val="55ffa5"/>
                </a:solidFill>
                <a:latin typeface="Arial"/>
              </a:rPr>
              <a:t>New Local Limits Guidance Man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657600"/>
            <a:ext cx="56386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ohn L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treatment Coord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S EPA 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ctober 27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900" spc="-1" strike="noStrike">
                <a:solidFill>
                  <a:srgbClr val="55ffa5"/>
                </a:solidFill>
                <a:latin typeface="Arial"/>
              </a:rPr>
              <a:t>“</a:t>
            </a:r>
            <a:r>
              <a:rPr b="1" lang="en-US" sz="2900" spc="-1" strike="noStrike">
                <a:solidFill>
                  <a:srgbClr val="55ffa5"/>
                </a:solidFill>
                <a:latin typeface="Arial"/>
              </a:rPr>
              <a:t>Up Front” Information</a:t>
            </a:r>
            <a:br>
              <a:rPr sz="2900"/>
            </a:br>
            <a:r>
              <a:rPr b="1" lang="en-US" sz="2500" spc="-1" strike="noStrike">
                <a:solidFill>
                  <a:srgbClr val="55ffa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ronyms &amp; Glossary of Te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 (Chapter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pose, Statutory Authority, Process &amp; Pretreatment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tion of Guidance Ma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LL Development (Chapter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T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line of 4 Step MAHL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 Requirements (including groundwater and watershed protection criter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s to protect the plant, collection system, and wor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lutants in influent and efflu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uled waste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499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lutants causing operational problems in the pa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Chapter 3</a:t>
            </a:r>
            <a:br>
              <a:rPr sz="4000"/>
            </a:br>
            <a:r>
              <a:rPr b="1" lang="en-US" sz="2500" spc="-1" strike="noStrike">
                <a:solidFill>
                  <a:srgbClr val="55ffa5"/>
                </a:solidFill>
                <a:latin typeface="Arial"/>
              </a:rPr>
              <a:t> </a:t>
            </a:r>
            <a:br>
              <a:rPr sz="2500"/>
            </a:br>
            <a:r>
              <a:rPr b="1" lang="en-US" sz="2400" spc="-1" strike="noStrike">
                <a:solidFill>
                  <a:srgbClr val="55ffa5"/>
                </a:solidFill>
                <a:latin typeface="Arial Rounded MT Bold"/>
              </a:rPr>
              <a:t>Pollutants of Concern</a:t>
            </a:r>
            <a:endParaRPr b="1" lang="en-US" sz="24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s 5 new presumed POCs  - BOD, TSS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, Mo,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[“conditional”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how to determine other PO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Requirements (including groundwater and watershed protection crite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o protect the plant, collection system, and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lutants in influent and efflu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uled waste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lutants causing operational problems in the pa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Chapter 4 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55ffa5"/>
                </a:solidFill>
                <a:latin typeface="Arial Rounded MT Bold"/>
              </a:rPr>
              <a:t>Monitoring</a:t>
            </a:r>
            <a:endParaRPr b="1" lang="en-US" sz="24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spcBef>
                <a:spcPts val="64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ing locations at the POTW and in the collection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4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ing frequencies and locations for on-going evaluation and initial program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4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vice on flow-proportioned, time-composite,  and grab sampling techniq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4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iew of analytical methods, information maintenance, review, and evalu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4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ommended types of flow data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spcBef>
                <a:spcPts val="649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Chapter 5</a:t>
            </a:r>
            <a:br>
              <a:rPr sz="4000"/>
            </a:br>
            <a:r>
              <a:rPr b="1" lang="en-US" sz="2900" spc="-1" strike="noStrike">
                <a:solidFill>
                  <a:srgbClr val="55ffa5"/>
                </a:solidFill>
                <a:latin typeface="Arial"/>
              </a:rPr>
              <a:t> </a:t>
            </a:r>
            <a:br>
              <a:rPr sz="2900"/>
            </a:br>
            <a:r>
              <a:rPr b="1" lang="en-US" sz="2400" spc="-1" strike="noStrike">
                <a:solidFill>
                  <a:srgbClr val="55ffa5"/>
                </a:solidFill>
                <a:latin typeface="Arial Rounded MT Bold"/>
              </a:rPr>
              <a:t>MAHL Calculation</a:t>
            </a:r>
            <a:endParaRPr b="1" lang="en-US" sz="24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s removal efficiency calc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s determination of AHLs based on effluent and sludge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addition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ML (not ½ MDL) suggested as  surrogate for ND s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emphasis placed on inhibition-based AH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quality-based AHLs not emphas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/TSS AHLS should use plant’s average desig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 and grease case studies pres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Chapter 6 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55ffa5"/>
                </a:solidFill>
                <a:latin typeface="Arial Rounded MT Bold"/>
              </a:rPr>
              <a:t>Implementation</a:t>
            </a:r>
            <a:endParaRPr b="1" lang="en-US" sz="24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90160" cy="40384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criteria for determining if a LL i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s how to calculate the MAIL from the MAH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fies pros and cons of different LL control mechanisms and allocation meth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s common sense assessment of 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best managemen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s the Approval Authority’s local limits approva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Chapter 7</a:t>
            </a:r>
            <a:r>
              <a:rPr b="1" lang="en-US" sz="2900" spc="-1" strike="noStrike">
                <a:solidFill>
                  <a:srgbClr val="55ffa5"/>
                </a:solidFill>
                <a:latin typeface="Arial"/>
              </a:rPr>
              <a:t> </a:t>
            </a:r>
            <a:br>
              <a:rPr sz="2900"/>
            </a:br>
            <a:br>
              <a:rPr sz="2900"/>
            </a:br>
            <a:r>
              <a:rPr b="1" lang="en-US" sz="2400" spc="-1" strike="noStrike">
                <a:solidFill>
                  <a:srgbClr val="55ffa5"/>
                </a:solidFill>
                <a:latin typeface="Arial Rounded MT Bold"/>
              </a:rPr>
              <a:t>Reviewing and Re-evaluating Local Limits</a:t>
            </a:r>
            <a:endParaRPr b="1" lang="en-US" sz="24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9800" cy="4077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s annual reviews of 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MAHLs to current headworks loa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compliance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es when a detailed LL re-evaluation i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and analyz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culate or determine new local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spcBef>
                <a:spcPts val="601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new local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45600" cy="12715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Chapter 8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55ffa5"/>
                </a:solidFill>
                <a:latin typeface="Arial Rounded MT Bold"/>
              </a:rPr>
              <a:t>Collection System Concerns</a:t>
            </a:r>
            <a:endParaRPr b="1" lang="en-US" sz="24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9800" cy="2552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 fontScale="99000"/>
          </a:bodyPr>
          <a:p>
            <a:pPr marL="271800" indent="-271800"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es &amp; Explosion Haz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800" indent="-271800"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800" indent="-271800"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 Ob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800" indent="-271800"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800" indent="-271800"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 Gases,Vapors and Fu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2900" spc="-1" strike="noStrike">
                <a:solidFill>
                  <a:srgbClr val="55ffa5"/>
                </a:solidFill>
                <a:latin typeface="Arial"/>
              </a:rPr>
              <a:t> </a:t>
            </a:r>
            <a:br>
              <a:rPr sz="2900"/>
            </a:br>
            <a:r>
              <a:rPr b="1" lang="en-US" sz="2400" spc="-1" strike="noStrike">
                <a:solidFill>
                  <a:srgbClr val="55ffa5"/>
                </a:solidFill>
                <a:latin typeface="Arial Rounded MT Bold"/>
              </a:rPr>
              <a:t>Questions and Answers</a:t>
            </a:r>
            <a:endParaRPr b="1" lang="en-US" sz="24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9800" cy="38862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questions grouped according to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legally based or research-confirmed ans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s and resolves some gray areas of local limit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s the reader to understand the motivation behind certai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Distribution</a:t>
            </a:r>
            <a:endParaRPr b="1" lang="en-US" sz="40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78840" cy="41148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spcBef>
                <a:spcPts val="79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ance Published – July 200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79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 Paper and/or CD-ROM Versions to All Approval Auth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799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ance &amp; Appendices on EPA Websit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dob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DF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EPA.GOV/OW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And Finally…</a:t>
            </a:r>
            <a:endParaRPr b="1" lang="en-US" sz="40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190512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ways remember that “Guidance” is exactly that - recommendations that may be implemented differently in various Regions and Sta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Background and Status</a:t>
            </a:r>
            <a:endParaRPr b="1" lang="en-US" sz="40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39621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ly 1998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workgroup conv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 1999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ft manual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gust 2001 - 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kgroup released final draft for public com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Workgroup evaluated &amp; addressed 400 comments from 23 stakehold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tember 2003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vised draft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bruary 2004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uthority to pub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ly 2004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Conceptual Framework</a:t>
            </a:r>
            <a:endParaRPr b="1" lang="en-US" sz="40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972560" cy="241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 fontScale="90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reference data and method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unneeded sections of the 1987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fy issues through integration of Regional guid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presentation via user-friendly charts, tables, and Q &amp; A s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Chapters Removed and Added</a:t>
            </a:r>
            <a:endParaRPr b="1" lang="en-US" sz="4000" spc="-1" strike="noStrike">
              <a:solidFill>
                <a:srgbClr val="55ffa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97600" cy="4838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rmAutofit/>
          </a:bodyPr>
          <a:p>
            <a:pPr marL="274680" indent="-27468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ions of the 1987 Manual Not Included in the New Man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5 - Industrial User Management Pract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6 - Case by Case Permits - Best Professional Jud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 2.6 – Toxicity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75000"/>
              <a:buFont typeface="Monotype Sorts" charset="2"/>
              <a:buChar char="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Chapters in the New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7 - Local Limits Reviews and Detailed Re-Eval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-204840">
              <a:lnSpc>
                <a:spcPct val="90000"/>
              </a:lnSpc>
              <a:spcBef>
                <a:spcPts val="700"/>
              </a:spcBef>
              <a:buClr>
                <a:srgbClr val="55ffa5"/>
              </a:buClr>
              <a:buSzPct val="50000"/>
              <a:buFont typeface="Monotype Sorts" charset="2"/>
              <a:buChar char="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9 – Questions and Ans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3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Improvement</a:t>
            </a:r>
            <a:br>
              <a:rPr sz="4000"/>
            </a:br>
            <a:br>
              <a:rPr sz="4000"/>
            </a:br>
            <a:r>
              <a:rPr b="1" lang="en-US" sz="2100" spc="-1" strike="noStrike">
                <a:solidFill>
                  <a:srgbClr val="55ffa5"/>
                </a:solidFill>
                <a:latin typeface="Arial Rounded MT Bold"/>
              </a:rPr>
              <a:t>Graphics Explain Local Limits </a:t>
            </a:r>
            <a:br>
              <a:rPr sz="2100"/>
            </a:br>
            <a:r>
              <a:rPr b="1" lang="en-US" sz="2100" spc="-1" strike="noStrike">
                <a:solidFill>
                  <a:srgbClr val="55ffa5"/>
                </a:solidFill>
                <a:latin typeface="Arial Rounded MT Bold"/>
              </a:rPr>
              <a:t>Development Process</a:t>
            </a:r>
            <a:endParaRPr b="1" lang="en-US" sz="2100" spc="-1" strike="noStrike">
              <a:solidFill>
                <a:srgbClr val="55ffa5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5438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Improvement</a:t>
            </a:r>
            <a:br>
              <a:rPr sz="4000"/>
            </a:br>
            <a:br>
              <a:rPr sz="4000"/>
            </a:br>
            <a:r>
              <a:rPr b="1" lang="en-US" sz="2100" spc="-1" strike="noStrike">
                <a:solidFill>
                  <a:srgbClr val="55ffa5"/>
                </a:solidFill>
                <a:latin typeface="Arial Rounded MT Bold"/>
              </a:rPr>
              <a:t>Graphics Explain Regulatory Requirements</a:t>
            </a:r>
            <a:endParaRPr b="1" lang="en-US" sz="2100" spc="-1" strike="noStrike">
              <a:solidFill>
                <a:srgbClr val="55ffa5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Improvement </a:t>
            </a:r>
            <a:br>
              <a:rPr sz="4000"/>
            </a:br>
            <a:br>
              <a:rPr sz="4000"/>
            </a:br>
            <a:r>
              <a:rPr b="1" lang="en-US" sz="2100" spc="-1" strike="noStrike">
                <a:solidFill>
                  <a:srgbClr val="55ffa5"/>
                </a:solidFill>
                <a:latin typeface="Arial Rounded MT Bold"/>
              </a:rPr>
              <a:t>Shadow Boxes Accentuate Major Points</a:t>
            </a:r>
            <a:endParaRPr b="1" lang="en-US" sz="2100" spc="-1" strike="noStrike">
              <a:solidFill>
                <a:srgbClr val="55ffa5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-1371600" y="1752480"/>
          <a:ext cx="1005840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1600" y="1752480"/>
                    <a:ext cx="100584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-4876920" y="2209680"/>
          <a:ext cx="10134720" cy="31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876920" y="2209680"/>
                    <a:ext cx="1013472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Improvement </a:t>
            </a:r>
            <a:br>
              <a:rPr sz="4000"/>
            </a:br>
            <a:br>
              <a:rPr sz="4000"/>
            </a:br>
            <a:r>
              <a:rPr b="1" lang="en-US" sz="2100" spc="-1" strike="noStrike">
                <a:solidFill>
                  <a:srgbClr val="55ffa5"/>
                </a:solidFill>
                <a:latin typeface="Arial Rounded MT Bold"/>
              </a:rPr>
              <a:t>Shadow Boxes Highlight Equations</a:t>
            </a:r>
            <a:endParaRPr b="1" lang="en-US" sz="2100" spc="-1" strike="noStrike">
              <a:solidFill>
                <a:srgbClr val="55ffa5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2362320" y="2133720"/>
          <a:ext cx="9144000" cy="38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62320" y="2133720"/>
                    <a:ext cx="914400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-1066680" y="2438280"/>
          <a:ext cx="754380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66680" y="2438280"/>
                    <a:ext cx="754380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55ffa5"/>
                </a:solidFill>
                <a:latin typeface="Arial"/>
              </a:rPr>
              <a:t>Improvement</a:t>
            </a:r>
            <a:br>
              <a:rPr sz="4000"/>
            </a:br>
            <a:br>
              <a:rPr sz="4000"/>
            </a:br>
            <a:r>
              <a:rPr b="1" lang="en-US" sz="2100" spc="-1" strike="noStrike">
                <a:solidFill>
                  <a:srgbClr val="55ffa5"/>
                </a:solidFill>
                <a:latin typeface="Arial Rounded MT Bold"/>
              </a:rPr>
              <a:t>Tables Summarize Key Information</a:t>
            </a:r>
            <a:endParaRPr b="1" lang="en-US" sz="2100" spc="-1" strike="noStrike">
              <a:solidFill>
                <a:srgbClr val="55ffa5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2209680"/>
          <a:ext cx="673884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09680"/>
                    <a:ext cx="673884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7:50:36Z</dcterms:created>
  <dc:creator>Maureen DeVitt</dc:creator>
  <dc:description/>
  <dc:language>en-US</dc:language>
  <cp:lastModifiedBy>EPA or Contractor Workstation</cp:lastModifiedBy>
  <cp:lastPrinted>2000-05-17T20:42:36Z</cp:lastPrinted>
  <dcterms:modified xsi:type="dcterms:W3CDTF">2004-10-14T18:41:09Z</dcterms:modified>
  <cp:revision>153</cp:revision>
  <dc:subject/>
  <dc:title>Summary of the “Guidance Manual on the Development and Implementation of Local Discharge Limitations Under the Pretreatment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8963842</vt:r8>
  </property>
  <property fmtid="{D5CDD505-2E9C-101B-9397-08002B2CF9AE}" pid="3" name="_AuthorEmail">
    <vt:lpwstr>tklebe@cadmusgroup.com</vt:lpwstr>
  </property>
  <property fmtid="{D5CDD505-2E9C-101B-9397-08002B2CF9AE}" pid="4" name="_AuthorEmailDisplayName">
    <vt:lpwstr>Tiffany Klebe</vt:lpwstr>
  </property>
  <property fmtid="{D5CDD505-2E9C-101B-9397-08002B2CF9AE}" pid="5" name="_EmailSubject">
    <vt:lpwstr>Presentation for EPA National Meeting</vt:lpwstr>
  </property>
</Properties>
</file>