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288588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7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40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40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3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57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85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13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040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40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57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40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40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40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03240" y="0"/>
            <a:ext cx="826776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01640" y="0"/>
            <a:ext cx="19692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99800" y="0"/>
            <a:ext cx="196560" cy="6845400"/>
          </a:xfrm>
          <a:prstGeom prst="rect">
            <a:avLst/>
          </a:prstGeom>
          <a:gradFill rotWithShape="0">
            <a:gsLst>
              <a:gs pos="0">
                <a:srgbClr val="000f3f"/>
              </a:gs>
              <a:gs pos="50000">
                <a:srgbClr val="00279f"/>
              </a:gs>
              <a:gs pos="100000">
                <a:srgbClr val="000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75040" y="1577880"/>
            <a:ext cx="7781760" cy="103320"/>
          </a:xfrm>
          <a:prstGeom prst="rect">
            <a:avLst/>
          </a:prstGeom>
          <a:gradFill rotWithShape="0">
            <a:gsLst>
              <a:gs pos="0">
                <a:srgbClr val="001f7e"/>
              </a:gs>
              <a:gs pos="100000">
                <a:srgbClr val="00279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677440" y="6550200"/>
            <a:ext cx="1160280" cy="133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8400" indent="-3384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34040" indent="-28152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582920" indent="-226080">
              <a:spcBef>
                <a:spcPts val="825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035800" indent="-22644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035800" indent="-22644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035800" indent="-22644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2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62080" y="2352600"/>
            <a:ext cx="7782120" cy="654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500" spc="-1" strike="noStrike">
                <a:solidFill>
                  <a:srgbClr val="fbfe89"/>
                </a:solidFill>
                <a:latin typeface="Arial"/>
              </a:rPr>
              <a:t>AMSA Decontamination Wastewater Planning Tool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727360" y="4457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esented t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4 National Pretreatment Coordinators Worksh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ptember 28,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70800" y="6426360"/>
            <a:ext cx="1498680" cy="2919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71840" y="696960"/>
            <a:ext cx="297036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4720" indent="-32472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3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Incident Scenario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dentify plausible scenari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outes of contamin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rolled and uncontrolled facilit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te of CBR under various scenari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entrations at ent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llection syste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eatment process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fluent, LAS, biosolids, incineration, gri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0">
              <a:spcBef>
                <a:spcPts val="601"/>
              </a:spcBef>
              <a:buNone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4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Planning and Coordin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cceptance of contaminated wastewater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dification of sewer use regulations and polici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etreatment program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2318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and inspe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2318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dify permit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2318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4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Planning and Coordination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nitoring of syste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nalytical capabiliti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0">
              <a:spcBef>
                <a:spcPts val="72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ternal and external coordin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ordinating emergency respons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84880" y="2600280"/>
            <a:ext cx="2051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4720" indent="-32472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5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Prevention, Detection, Response, and Recovery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eventing entrance in syste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mmunication with potential sourc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ain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rrier devices, sorbents and neutraliz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3800" indent="-27000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tection of contaminant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-line instrument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3600" indent="-21528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ction kit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9800" indent="-2898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5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Prevention, Detection, Response, and Recovery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itigating Impacts on Infrastructure and Process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itigating Impacts on Persons and the Environ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ntaminated Effluent and Biosolid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ve dispos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blic notic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gency coordin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19240" y="177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9800" indent="-2898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6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Public Communic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Keys to Commun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itigating impacts on the publi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xample Public Notic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28200" indent="-24084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sing existing program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treat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iosoli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isory board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6960" indent="-1922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verse 91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79960" y="4770360"/>
            <a:ext cx="3864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7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Maintaining Knowledg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uggested train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Laws, ordinances and regula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2318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ferences and websit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11960" y="3873600"/>
            <a:ext cx="2470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8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What to do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Recommended flow charts of ac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65320" indent="-2318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 small, medium, large utilit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9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Research Need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chnology advances and R&amp;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eds and issues identifi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10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Reference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Schedule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October and November 2004 - Draft Tool developmen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ecember 2004 - Final Tool 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January/February 2005 </a:t>
            </a:r>
            <a:br>
              <a:rPr sz="3300"/>
            </a:b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- Tool publica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680160" y="4137120"/>
            <a:ext cx="30020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90476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0"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ank you for the opportunity to present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ie Rockett, CH2M HILL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5 Perimeter Center Place, Suite 70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lanta, GA 3034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: 770.604.9182, ext. 562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ail: crockett@ch2m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7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For questions regarding the Tool, please contac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Pettit, AMS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16 Jefferson Place, NW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hington, DC  2003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: 202.833.328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ail: wpettit@amsa-cleanwater.or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roject Purpose and Background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roject Approach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lanning Tool Framework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lanning Tool Section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roject Purpose and Background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53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4720" indent="-32472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d by a USEPA Grant to AM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SA contracted wit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2M H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econdary effects of a chemical, biological, or radiological (CBR) inci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 for managers and operators to assist in understanding the issues, communication needs, and potential CBR agents of concer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00960" y="2228760"/>
            <a:ext cx="225252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roject Purpose and Background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82960" y="17146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3040" indent="-29304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3300" spc="-1" strike="noStrike">
                <a:solidFill>
                  <a:srgbClr val="66ff33"/>
                </a:solidFill>
                <a:latin typeface="Arial"/>
              </a:rPr>
              <a:t>Secondary effects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: runoff from decontamination water, hospital or resident waste streams, other scenario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3040"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3040" indent="0">
              <a:spcBef>
                <a:spcPts val="825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93040" indent="-29304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Arial"/>
              </a:rPr>
              <a:t>Not intended to address direct malevolent acts to the system or WMDs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460680"/>
            <a:ext cx="227160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roject Purpose and Background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Consequenc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utility workers may be at risk, disruption of treatment processes, public health risk (effluents and biosolids), damage to infra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Preven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Focus on planning and coordination to prevent decontamination wastewater from entering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Respon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Manage and mitigate imp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Information dissemin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Communication with public and employ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roject Approach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5600" indent="-3456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Research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5600" indent="-3456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Interviews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espon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l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affai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matter exper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7280">
              <a:spcBef>
                <a:spcPts val="601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600" indent="0">
              <a:spcBef>
                <a:spcPts val="601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2600" y="1930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66ff33"/>
                </a:solidFill>
                <a:latin typeface="Arial"/>
              </a:rPr>
              <a:t>Tasks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624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dentify iss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624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e-incident planning and coordin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624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cident respon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624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esearch projects and nee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624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velop to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4680" y="114300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75040" y="242568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Framework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408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Booklet that’s reader friendly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D ROM version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spcBef>
                <a:spcPts val="726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ossible Internet version with references, link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72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19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0">
              <a:spcBef>
                <a:spcPts val="72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9200" indent="0">
              <a:spcBef>
                <a:spcPts val="726"/>
              </a:spcBef>
              <a:buNone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51560" y="2685960"/>
            <a:ext cx="29084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1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Introductio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verview of Issu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57080" indent="-290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 to use the docu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5788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800" spc="-1" strike="noStrike">
                <a:solidFill>
                  <a:srgbClr val="fbfe89"/>
                </a:solidFill>
                <a:latin typeface="Arial"/>
              </a:rPr>
              <a:t>Planning Tool Sections</a:t>
            </a:r>
            <a:endParaRPr b="1" lang="en-US" sz="3800" spc="-1" strike="noStrike">
              <a:solidFill>
                <a:srgbClr val="fbfe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8400" indent="-338400">
              <a:spcBef>
                <a:spcPts val="825"/>
              </a:spcBef>
              <a:buClr>
                <a:srgbClr val="f6bf69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Section 2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66ff33"/>
                </a:solidFill>
                <a:latin typeface="Arial"/>
              </a:rPr>
              <a:t>CBR Agents of Concern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34040" indent="-281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scription, Characteristics, concentrations that effect humans, treatment plants, and the environ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4040" indent="-281520">
              <a:spcBef>
                <a:spcPts val="726"/>
              </a:spcBef>
              <a:buClr>
                <a:srgbClr val="f6bf69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iority Agent Identif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sis of determin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mpacts on infrastructure, treatment process, environ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601"/>
              </a:spcBef>
              <a:buClr>
                <a:srgbClr val="f6bf69"/>
              </a:buClr>
              <a:buFont typeface="Arial"/>
              <a:buChar char="•"/>
              <a:tabLst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uration of impact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11Z</dcterms:created>
  <dc:creator>crockett</dc:creator>
  <dc:description/>
  <cp:keywords/>
  <dc:language>en-US</dc:language>
  <cp:lastModifiedBy>AMSA</cp:lastModifiedBy>
  <cp:lastPrinted>1998-01-16T01:43:25Z</cp:lastPrinted>
  <dcterms:modified xsi:type="dcterms:W3CDTF">2004-10-27T11:35:40Z</dcterms:modified>
  <cp:revision>60</cp:revision>
  <dc:subject/>
  <dc:title>No Slide Title</dc:title>
</cp:coreProperties>
</file>