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5D1-AAC1-4CB0-A518-258C34AF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2EB-FF37-40AD-A166-4053E20C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228-4A94-466E-A38B-9E232E83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F60-C11C-4833-909D-4E676119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C76-B934-4CF1-9E1C-EBF68E22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07F0-076B-4CE4-98D0-C87051A4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4EB7-4FAB-4499-83F3-9FD0F49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540-591F-4E5A-989F-07799906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58A8-66FD-4D24-9182-AD47267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CC21-8CB1-4EC7-8300-BC017CF3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F4FC-49D4-4684-8811-D3180261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8FC-82EB-4C25-ABF9-36EBD709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F52F-3BB7-43E6-BAD6-F834128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DB1-4E68-4238-B39F-996FDF8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4899-60EE-44C6-AFC0-EE9D78B9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0DA3-8789-4DE4-9E79-18736FF9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9882-2E37-46C6-A1EA-D3E0794A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42E-E1C3-410C-8F1C-8A3361A7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72E-84A4-4CDB-B75C-17C7587A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5CC-2F36-45C4-9331-B016264E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846-28EC-477D-BEE1-0C5D0B9B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AA9-F40D-4442-BB45-D776E2D7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1FC-7E4B-43A6-B152-DEA3C99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D57-40FD-41C4-8B52-362E38DE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2BFF-8CF2-4753-BD4D-2E59A6BD3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7638-9CFA-48A7-9F3D-C3E88B226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Issues and Challen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James J. Pletl, Ph.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mpton Roads Sanitation Distri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irginia Beach, 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treatment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ngent WQS’s combined with known sources require a unique approa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concerned that it would receive limits and require additional treatmen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treatment program implemented a “zero discharge”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treatment Histo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ar dome discharge prohibited first, domes impregnated with TB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WT’s, which receive sonar dome water contaminated with TBT, regulated ne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nt HRSD activities focus on hull-blasting activities of shipyard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: Industri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Concentr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(ng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 (ng/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3-8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-3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-79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6-10,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dustrial Wastewate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rmit Langua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detectable level (10 ppt) can be discharg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harges believed to contain any level of TBT must be reported, sampled and analyzed by HRSD protoc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waste-mixing allow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treatment Program Impa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ship repair facility h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minated blasting waste from sanitary se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eaned and recoated/replaced discharge lines previously contamin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led manholes to address air de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but two repair facilities have eliminated work involving TBT coa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Analytical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40 CFR Part 136 method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lit samples within and between labs significantly v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dvocates use of method developed by VA Institute Marine Sciences for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C-FPD followed by confirmation with 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Analytical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reviewed and adopted VIMS method with numerous QC addit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eld, container and equipment blan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nk acceptance r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and MSD acceptance r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rmation maximum RP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rogate acceptance r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standard acceptance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 CFR Part 136-based MD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Analytical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 very tedious, multiple clean-up ste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-15 sample batch requires 3-4 peo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rumentation costs over $65,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700/sample with all Q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lding time is 12 wee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mestic/Commercial 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lleged that TBT found i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ilet bowl clean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pet/upholstery shamp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VC produ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 70 compounds registered in VA for sale containing TB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ssumed products are available and purchased if regis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Surve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ximately 35 companies associated with registered products survey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6% of products are paints/stains/coa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% products used in cooling tow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% products no longer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product used in commercial cleaning and has since been substitu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: alleged products not reaching HRSD’s fac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What Is It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butylt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ed as a pest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spected endocrine disruptor, may induce imposex in mollus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-life in days-months in water and sediment, biodegradation import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80" y="757080"/>
            <a:ext cx="910584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MDL Listing: Ambient TBT Data Quality And Reliabi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reviewed data quality, found significant deficienci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sampling S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rvation not addres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Ms, equipment blanks, MQOs, MS and MSD not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or or non-existent analytical and sampling docu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mbient TBT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quality deficiencies cont.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nk contamination, field and la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nored EPA QC recommend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lure to address saltwater matrix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in of custody not implemen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mbient TBT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Q now funds VIMS to conduct all Elizabeth River TBT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MS agreed to incorporate QA/QC promoted by HRS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now much less variable and more reli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PDES Langua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Q proposed  2 analyses/yr and QL of 10 ppt in draft per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presented TBT control efforts (domestic/commercial/industri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documented analytical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otiated 2 samples/permit term and QL of 30 pp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tus and 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 monitoring of receiving waters contin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ing waters for 2 HRSD plants still 303(d) listed, awaiting TMD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quantifiable concentrations reported in efflu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s will be provided in current standards review to adopt final EPA chronic criter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Use And Sour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fouling biocide most commonly used in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p paints and coa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ar d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stains/pai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s of TBT in Elizabeth Ri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ching from ship hulls, possibly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/da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 is ship hull blas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diment probably another significant N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Regulatory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VA saltwater chronic water quality standard is 1 p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draft chronic criterion was 1 ppt, based partly on field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SD provided extensive comments on dra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recently finalized chronic saltwater criterion at 7.4 p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Regulatory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TBT restricted in 1988 to only coating vessels &gt; 25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ent monitoring shows concentrations in the 5-15 ppt ran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 lists Elizabeth River for TBT in 305(b)/303(d) report, TMDL requi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HRSD plants on Elizabeth Ri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9600" y="-428760"/>
            <a:ext cx="9763200" cy="77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Political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mpton Roads harbor one of busiest in 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ion high between shipyard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ngent WQS’s in HR harbor puts shipyards there at a disadvantag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ign business is critical to su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ll over 50% foreign ships have TBT, Navy ships not the prob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BT: Political 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tandard more stringent in US than 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and industry continue to pressure  HRSD to accept TBT was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 has had to back-peddle when implementing WQS’s with shipy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Q using mass-based limit of 5 g/yr rather than concentration-b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phase out planned for 200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RSD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ress industrial dischar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analytical methods, develop capab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cument domestic/commercial contrib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DL listing - data re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otiate NPDES permit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20:18:01Z</dcterms:created>
  <dc:creator>HRSD</dc:creator>
  <dc:description/>
  <dc:language>en-US</dc:language>
  <cp:lastModifiedBy>AMSA</cp:lastModifiedBy>
  <cp:lastPrinted>2000-04-27T19:57:48Z</cp:lastPrinted>
  <dcterms:modified xsi:type="dcterms:W3CDTF">2004-10-28T12:40:36Z</dcterms:modified>
  <cp:revision>65</cp:revision>
  <dc:subject/>
  <dc:title>TOXICITY OF ELIZABETH RIVER WATER TO SELECTED ANIMALS</dc:title>
</cp:coreProperties>
</file>