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D30-DCA6-4B88-A71C-A7CEB26F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4FB-5AED-4666-959F-1B8A0095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6ED-EBAC-4DFB-A313-DA3E4935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726-82A8-4AAE-ACB2-97FA202B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93FE-ABC1-45B0-92DD-70219C9C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849B-BADC-4D89-A3F2-D5D2FEAF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F934-4566-4562-90B3-1273D50E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6577-2AED-4827-9E97-1BFE2A0F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2459-721A-42FE-B938-95DAFCAD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2FD-C728-4530-9232-862F565C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FD6E-CC41-4453-8B74-BB832EE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582-CF4F-47E0-A886-694756E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BE46-F695-40BE-AD24-2390DCF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A955-DBFD-4958-B5F5-23950D3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5662-3C39-4D2E-B4D9-547A6A58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6877-B6CC-4578-BA43-1A00FB14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18F9-EA7D-46E9-A417-84EA284A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53F-425B-4E7F-9A1F-60E6CD9E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96F-3558-44B7-8EEA-100EEF6C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7EF-D798-4507-BC06-68AB7156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2DF-BAA3-4303-87CD-1D356AB0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1CF-9FAB-41C0-A4A0-E707919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8DE-36C5-42DA-9D40-D0976C20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C40-FAF5-44DE-9950-6FE2B71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E634-AFAA-431E-B598-36E2D2DDC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0DC-A0D6-41FF-8C01-D21EE5FEC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Issues and Challen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James J. Pletl, Ph.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mpton Roads Sanitation Distri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irginia Beach, 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treatment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ngent WQS’s combined with known sources require a unique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concerned that it would receive limits and require additional treat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treatment program implemented a “zero discharge”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treatment Histo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ar dome discharge prohibited first, domes impregnated with TB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WT’s, which receive sonar dome water contaminated with TBT, regulated ne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nt HRSD activities focus on hull-blasting activities of shipyard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: Industri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Concentr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(ng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 (ng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3-8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-3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-79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6-10,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dustrial Wastewate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rmit Langua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detectable level (10 ppt) can be discharg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harges believed to contain any level of TBT must be reported, sampled and analyzed by HRSD protoc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waste-mixing allow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treatment Program Impa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ship repair facility h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minated blasting waste from sanitary se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ned and recoated/replaced discharge lines previously contamin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led manholes to address air de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but two repair facilities have eliminated work involving TBT coa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Analytical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40 CFR Part 136 method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lit samples within and between labs significantly v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dvocates use of method developed by VA Institute Marine Sciences for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C-FPD followed by confirmation with 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Analytical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reviewed and adopted VIMS method with numerous QC addit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, container and equipment blan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nk acceptance r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and MSD acceptance r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rmation maximum RP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rogate acceptance r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standard acceptance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 CFR Part 136-based MD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Analytical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 very tedious, multiple clean-up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-15 sample batch requires 3-4 peo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rumentation costs over $65,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700/sample with all Q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lding time is 12 wee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mestic/Commercial 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lleged that TBT found i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ilet bowl clean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pet/upholstery shamp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VC produ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 70 compounds registered in VA for sale containing TB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ssumed products are available and purchased if regis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Surve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ximately 35 companies associated with registered products survey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6% of products are paints/stains/coa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% products used in cooling tow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% products no longer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product used in commercial cleaning and has since been substitu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: alleged products not reaching HRSD’s fac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What Is It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butylt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ed as a pest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spected endocrine disruptor, may induce imposex in mollus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-life in days-months in water and sediment, biodegradation import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80" y="757080"/>
            <a:ext cx="910584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MDL Listing: Ambient TBT Data Quality And Reliabi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reviewed data quality, found significant deficienci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sampling S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rvation not addres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Ms, equipment blanks, MQOs, MS and MSD not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or non-existent analytical and sampling docu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mbient TBT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quality deficiencies cont.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nk contamination, field and la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nored EPA QC recommend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lure to address saltwater matrix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in of custody not implemen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mbient TBT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Q now funds VIMS to conduct all Elizabeth River TBT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MS agreed to incorporate QA/QC promoted by HRS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now much less variable and more reli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PDES Langua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Q proposed  2 analyses/yr and QL of 10 ppt in draft per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presented TBT control efforts (domestic/commercial/industri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documented analytical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otiated 2 samples/permit term and QL of 30 pp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us and 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 monitoring of receiving waters contin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ing waters for 2 HRSD plants still 303(d) listed, awaiting TMD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quantifiable concentrations reported in efflu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s will be provided in current standards review to adopt final EPA chronic criter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Use And Sour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fouling biocide most commonly used in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 paints and coa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ar d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stains/pai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s of TBT in Elizabeth Ri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ching from ship hulls, possibly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/da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 is ship hull blas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diment probably another significant N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Regulatory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VA saltwater chronic water quality standard is 1 p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draft chronic criterion was 1 ppt, based partly on field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provided extensive comments on dra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recently finalized chronic saltwater criterion at 7.4 p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Regulatory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TBT restricted in 1988 to only coating vessels &gt; 25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ent monitoring shows concentrations in the 5-15 ppt r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 lists Elizabeth River for TBT in 305(b)/303(d) report, TMDL requi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HRSD plants on Elizabeth Ri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9600" y="-428760"/>
            <a:ext cx="9763200" cy="77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Political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mpton Roads harbor one of busiest in 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ion high between shipyard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ngent WQS’s in HR harbor puts shipyards there at a disadvantag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ign business is critical to su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ll over 50% foreign ships have TBT, Navy ships not the prob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Political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tandard more stringent in US than 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nd industry continue to pressure  HRSD to accept TBT was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 has had to back-peddle when implementing WQS’s with shipy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using mass-based limit of 5 g/yr rather than concentration-b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phase out planned for 200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RSD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ress industrial dischar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analytical methods, develop capab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domestic/commercial con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DL listing - data re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otiate NPDES permit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20:18:01Z</dcterms:created>
  <dc:creator>HRSD</dc:creator>
  <dc:description/>
  <dc:language>en-US</dc:language>
  <cp:lastModifiedBy>AMSA</cp:lastModifiedBy>
  <cp:lastPrinted>2000-04-27T19:57:48Z</cp:lastPrinted>
  <dcterms:modified xsi:type="dcterms:W3CDTF">2004-10-28T12:40:36Z</dcterms:modified>
  <cp:revision>65</cp:revision>
  <dc:subject/>
  <dc:title>TOXICITY OF ELIZABETH RIVER WATER TO SELECTED ANIMALS</dc:title>
</cp:coreProperties>
</file>